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6FFC-7108-4988-80E1-F5F68DD3B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9A9E-A8CD-4738-9E91-F0970D76371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A53AC-531C-44B9-B0CD-A18684CC544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26D4-5925-4E32-B3D8-FFF7D4AFF96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52F1-017C-437F-9A17-C44ABD285AC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07AB1-D448-472B-90AE-C325ABBDDE7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3B29-4123-409D-A930-4AC747984B7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11E14-C984-41D3-AC1C-6A780E87A59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0B33-F007-4FB3-A8F3-1D53300C4B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2EA33-281B-4931-9A22-C9CE401840E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7D84C-7DB9-478B-907E-CC4E5B4114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04B8E-737A-4E85-B909-6EC1FB50F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F3A7-C306-4BD2-B747-8A36F01821D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6AE48-D68C-4BE2-9692-4051142966B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27DBB4-7DFC-4095-9E37-6FA531D3E7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1C4C7-ED46-4CE0-8BDB-F1E47266243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30712C-B10F-4788-89E8-CC166CBB6EC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344347-B00B-45BD-BC50-17A0CC5D1DB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9FD536-4CAD-4264-8253-124FAE2B1EA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B51314-43EB-4D29-A1E9-E1B587A685C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637A7-BDEB-4455-AC04-558E850F04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A2DFF1-CAFA-4E66-80B8-F99E94B4759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744CB-D48B-4407-9E39-8FFAF8826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97B0-80F3-4400-91B4-664F7E1AA3D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1D210-60F7-4582-8010-EB48967A6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51DC-EA48-4EE7-9270-8D1483A84E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FBF7-71E1-44E0-82AF-67A9DFD6F5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29A9-9F22-4D38-A32E-21C4048F25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DD83-6313-4909-BA79-4F1A961FF5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22D86-8906-4265-BCDF-A105A2B89E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F744-C4EE-490E-8815-D31604B178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F106-0FBD-4EDD-8CE4-70811BFD63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F9C8-5225-4E27-A75F-18AA0F7A5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716B-D2B4-4B99-AD1F-1FAD866E86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BAEE-4038-4A24-926E-F8874D99E7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A3C6-825A-42AF-A2BD-3F261E9A13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6B21-9630-45DA-99FB-40B2E0AE0A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4861-ABEB-4D86-8F47-A46FAFC725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D94-DA6C-446E-BC5C-05CD778655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49C-FA73-45B7-BD3B-2AAB6A0D01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00F-7EF5-497E-BA89-9503CAF53A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706-AE36-4FF8-BBB7-6ABF30A46E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771-F4C1-4966-AD9E-1033670AC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8FBF-7697-4A97-8AAB-D4D3CF31D1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E9A-E255-4005-AB22-DAF392CAD4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D83-E97E-4DC9-BB2C-CEFE07EAEC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AF7-3F10-455E-8EFE-68ACC5231E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DC8-A8AD-47F1-B5EC-C653BBAA6D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69F-5F05-4438-B91A-BF1CF55C09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5BC-CFC4-4E0D-AC8B-E4138DCB6F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E8F-3D0E-4AEC-B4FD-A86407E01B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D0F4B-0A43-4537-BF2F-798026B897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69067-7138-408C-8044-A95AF1369F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C9AD7-E205-4C64-8AC4-7B0015BB5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F351-841C-4F9B-AE8D-0EB6CC13F1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74062-8C0E-4D61-AB6C-69B87C6885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26941-7EB3-4406-804A-59A2FB8CE5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45630-AF32-419E-A988-BA9CE1213B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EC90D-11FD-4BFD-ABC2-2C45D740C9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5C567-37C0-46F4-A840-8D581BF5DA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D8860-8E64-4369-8C34-F0FB12BB601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2CE29-D1AE-41E8-BB89-5FCE1EB9AB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1B105-D5F9-4555-A97E-FB0B2118B3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85572-B0C0-4576-9525-C6D3061D92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067BD-B3C8-4698-9FE4-B624523D4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2DA8-29F3-4D2E-B96D-97A825397B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D602F-3A89-4EAB-AD47-4341935C814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DBC57-2C62-4281-953E-206871F5DC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A2654-00C2-49A4-BF96-F727F96D263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C517F-B136-4698-862C-F386342688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D6385-B93B-41AE-A9E6-DAA5DE4F1BE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78E5F-0A1C-451C-AFAE-3F40268F55F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6098E-B214-4B94-B8E8-C0E59350CEC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AA37B-B235-4F62-BAFC-A241F6A69ED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BBB92-630D-4B73-8DD5-D403A88BB32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C5C4A-9CCB-4DA4-B4A4-CDA513E1D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5D7E-6FDD-4B36-9184-28328E94A2F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EF456-3D37-453B-A6FA-99067A04FE0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8180-6F75-4A84-8450-B87DDBBB3D5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F32A-BF2D-4BAC-BEDC-3F260602F0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3672-A7AD-43B2-B415-39F0606F945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FB77-ECBA-496F-8D2C-3E349DB780F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5D74-3340-4AFF-BB75-E12AFEF71F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2DB2-9D6D-45B8-A608-A8B61203A82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0ADC-915E-4D4C-A12E-E68935A0CCE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054F-EEB6-43B9-BAD4-E4BE475C0E7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1279-6CEF-4EF8-A39C-10EC9901B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9613-958F-4E6F-B20D-B909408F9BA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42B7-3079-41BE-B9B9-16FE08F715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4F4B-59B4-47ED-9986-38EDCB09636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7FD9-ECB3-49D0-AFC4-B95134B9217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4E929-70C0-4C73-B0CA-9A545C7CDC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40AF15-6D9A-46E6-AF40-EFC06889BA5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DB710-318A-4E61-A561-FFC9C0899CD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664397-40D6-4238-95A6-F15E60F38BF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71296-F904-40EF-9F58-61BA08EAB11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E9C8D-AD3C-4D11-BED1-D5DA0C11D37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3243E8-9727-40D0-B462-BD3E7470F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EFEE0-018A-4177-B75B-D484A74ADA4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F9893-20AC-4AEE-A17B-D31855582C0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B3FEC4-F396-4272-BCC9-04F1B384FF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976A5-A362-44AE-AD27-28FC24A8BD7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5476A-9315-40BE-AF73-1D9E699583C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C8AD9-EEA0-49A9-911E-7C0DD0571BA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E6DCE-5A1F-4022-B1ED-506F782F64F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6DCDA-3328-43DA-B133-8688225A246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2060E-1AD0-41DB-BE0D-31A8A05AF1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DDB4F-0BEC-4910-A76C-E87D6DFBC0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56F19-A8EE-406A-8A0D-B12827557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60A7-17EF-4B91-B882-7618E12270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D7925-391A-4DC3-889F-C23ECCCC397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3A904-5618-41DD-B053-E2AA466D0F2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66CCA-C584-44BF-8849-28ADFD0522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EE461-6B3E-4752-BB88-CB8AA6F045E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04702-5E3A-4FFC-949A-13725B22A33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306C6-0EA8-4F37-9F35-481E81AFEA0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26285-4157-4923-A8C1-06027E9FE0D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4F77-EAEF-4020-8859-06736262F3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9B2E-EF11-4695-9DB4-E8768FC4D4C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B6928-A4E5-4374-A591-199EAD0AD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40F9-8DB2-488E-A955-B35630629492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hape 365"/>
          <p:cNvSpPr/>
          <p:nvPr/>
        </p:nvSpPr>
        <p:spPr>
          <a:xfrm>
            <a:off x="0" y="206280"/>
            <a:ext cx="8686800" cy="1165320"/>
          </a:xfrm>
          <a:prstGeom prst="rect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10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11D2-D02A-4EBE-8C39-B2744786BFDA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A479-BE73-4FA5-825F-91364779D17E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hape 11"/>
          <p:cNvSpPr/>
          <p:nvPr/>
        </p:nvSpPr>
        <p:spPr>
          <a:xfrm flipH="1" rot="10800000">
            <a:off x="-1080" y="3092400"/>
            <a:ext cx="8458200" cy="712800"/>
          </a:xfrm>
          <a:prstGeom prst="rect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FF6F-7385-4E4B-82A4-173D968C734B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hape 16"/>
          <p:cNvSpPr/>
          <p:nvPr/>
        </p:nvSpPr>
        <p:spPr>
          <a:xfrm>
            <a:off x="0" y="206280"/>
            <a:ext cx="8686800" cy="1165320"/>
          </a:xfrm>
          <a:prstGeom prst="rect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4C2A-32D8-480F-BF26-82854DD5AF8B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hape 21"/>
          <p:cNvSpPr/>
          <p:nvPr/>
        </p:nvSpPr>
        <p:spPr>
          <a:xfrm>
            <a:off x="0" y="206280"/>
            <a:ext cx="8686800" cy="1165320"/>
          </a:xfrm>
          <a:prstGeom prst="rect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B4D4-45B4-4236-ADB1-DA50CCE7621C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hape 25"/>
          <p:cNvSpPr/>
          <p:nvPr/>
        </p:nvSpPr>
        <p:spPr>
          <a:xfrm>
            <a:off x="0" y="206280"/>
            <a:ext cx="8686800" cy="1165320"/>
          </a:xfrm>
          <a:prstGeom prst="rect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6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618-4FFA-4280-8D07-7D28095F7FE0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hape 31"/>
          <p:cNvSpPr/>
          <p:nvPr/>
        </p:nvSpPr>
        <p:spPr>
          <a:xfrm>
            <a:off x="0" y="4406760"/>
            <a:ext cx="8686800" cy="519120"/>
          </a:xfrm>
          <a:prstGeom prst="rect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46C9-713A-4DB1-B2AB-06D168E19410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hape 355"/>
          <p:cNvSpPr/>
          <p:nvPr/>
        </p:nvSpPr>
        <p:spPr>
          <a:xfrm flipH="1" rot="10800000">
            <a:off x="-1080" y="3092400"/>
            <a:ext cx="8458200" cy="712800"/>
          </a:xfrm>
          <a:prstGeom prst="rect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8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A76F-6F84-47D4-9F80-D4703C78C0B9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hape 360"/>
          <p:cNvSpPr/>
          <p:nvPr/>
        </p:nvSpPr>
        <p:spPr>
          <a:xfrm>
            <a:off x="0" y="206280"/>
            <a:ext cx="8686800" cy="1165320"/>
          </a:xfrm>
          <a:prstGeom prst="rect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9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7192-AA12-4BBA-85C0-9DA50C41993E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hape 35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A228-E027-4F91-9CE8-D2DCE61D4DC9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"/>
          <p:cNvSpPr/>
          <p:nvPr/>
        </p:nvSpPr>
        <p:spPr>
          <a:xfrm>
            <a:off x="0" y="272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étences fondamentales des enseignants du primaire en contextes de c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" descr=""/>
          <p:cNvPicPr/>
          <p:nvPr/>
        </p:nvPicPr>
        <p:blipFill>
          <a:blip r:embed="rId1"/>
          <a:stretch/>
        </p:blipFill>
        <p:spPr>
          <a:xfrm>
            <a:off x="2209680" y="952560"/>
            <a:ext cx="509112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Mise en tr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173040" y="1460520"/>
            <a:ext cx="55134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SOLEIL= Une chose positive qui s’est produite aujourd'hui 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ORAGE PLUVIEUX= Une chose difficile qui s’est produite aujourd'hu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RC-EN-CIEL= Une chose que vous attendez avec impatience aujourd'hui 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hape 112"/>
          <p:cNvSpPr/>
          <p:nvPr/>
        </p:nvSpPr>
        <p:spPr>
          <a:xfrm>
            <a:off x="668160" y="1514520"/>
            <a:ext cx="1244880" cy="1028520"/>
          </a:xfrm>
          <a:prstGeom prst="sun">
            <a:avLst>
              <a:gd name="adj" fmla="val 25000"/>
            </a:avLst>
          </a:prstGeom>
          <a:solidFill>
            <a:srgbClr val="cccccc"/>
          </a:soli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Shape 113"/>
          <p:cNvGrpSpPr/>
          <p:nvPr/>
        </p:nvGrpSpPr>
        <p:grpSpPr>
          <a:xfrm>
            <a:off x="762120" y="2886120"/>
            <a:ext cx="1244520" cy="858960"/>
            <a:chOff x="762120" y="2886120"/>
            <a:chExt cx="1244520" cy="858960"/>
          </a:xfrm>
        </p:grpSpPr>
        <p:sp>
          <p:nvSpPr>
            <p:cNvPr id="443" name="Shape 114"/>
            <p:cNvSpPr/>
            <p:nvPr/>
          </p:nvSpPr>
          <p:spPr>
            <a:xfrm>
              <a:off x="762120" y="2886120"/>
              <a:ext cx="1244520" cy="59400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Shape 115"/>
            <p:cNvSpPr/>
            <p:nvPr/>
          </p:nvSpPr>
          <p:spPr>
            <a:xfrm>
              <a:off x="1182600" y="3052440"/>
              <a:ext cx="702000" cy="692640"/>
            </a:xfrm>
            <a:prstGeom prst="lightningBolt">
              <a:avLst/>
            </a:prstGeom>
            <a:solidFill>
              <a:srgbClr val="666666"/>
            </a:solidFill>
            <a:ln w="936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" name="Shape 116" descr=""/>
          <p:cNvPicPr/>
          <p:nvPr/>
        </p:nvPicPr>
        <p:blipFill>
          <a:blip r:embed="rId1"/>
          <a:stretch/>
        </p:blipFill>
        <p:spPr>
          <a:xfrm>
            <a:off x="757080" y="4016520"/>
            <a:ext cx="1484640" cy="826920"/>
          </a:xfrm>
          <a:prstGeom prst="rect">
            <a:avLst/>
          </a:prstGeom>
          <a:ln w="0">
            <a:noFill/>
          </a:ln>
        </p:spPr>
      </p:pic>
      <p:sp>
        <p:nvSpPr>
          <p:cNvPr id="446" name="Shape 117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9901-B304-4681-AEC9-6986A0354EA5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28480" y="4312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Facteurs de risques &amp; de prot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304920" y="1455840"/>
          <a:ext cx="8361360" cy="3779640"/>
        </p:xfrm>
        <a:graphic>
          <a:graphicData uri="http://schemas.openxmlformats.org/drawingml/2006/table">
            <a:tbl>
              <a:tblPr/>
              <a:tblGrid>
                <a:gridCol w="4181400"/>
                <a:gridCol w="4179960"/>
              </a:tblGrid>
              <a:tr h="633240">
                <a:tc>
                  <a:txBody>
                    <a:bodyPr tIns="91440" bIns="91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e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tIns="91440" bIns="91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3146400">
                <a:tc>
                  <a:txBody>
                    <a:bodyPr tIns="91440" bIns="91440" anchor="t">
                      <a:noAutofit/>
                    </a:bodyPr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sentir appréci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u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on sociale°: passer du temps et parler avec les a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sentir soute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ment de fier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 partie d’une équ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ment d’apparte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s- connexion à la cul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tIns="91440" bIns="91440" anchor="t">
                      <a:noAutofit/>
                    </a:bodyPr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ûreté et sécurit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imination basée sur le gen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ssion physique ou sexuel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âtiment corporel ou discipline sévè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ducation Interromp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imid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imination ethniq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le/parents/amis portés dispar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ce de modèles à suiv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Shape 124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B610-0B39-40DE-95C8-86EBF0D92C2E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Signes de détre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Quels signes de détresse les enfants ou les élèves présentent-ils dans votre école ou dans votre communauté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hape 131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B549-B400-474E-8A93-13A7D669C383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Identifier et surveiller les signes d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dét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04760" y="1433520"/>
          <a:ext cx="8494560" cy="3691080"/>
        </p:xfrm>
        <a:graphic>
          <a:graphicData uri="http://schemas.openxmlformats.org/drawingml/2006/table">
            <a:tbl>
              <a:tblPr/>
              <a:tblGrid>
                <a:gridCol w="2336760"/>
                <a:gridCol w="1965240"/>
                <a:gridCol w="2248200"/>
                <a:gridCol w="1944360"/>
              </a:tblGrid>
              <a:tr h="75888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 – Que voyez-vous ? Qu’est-ce-qui se passe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POTENTIELLE - Pourquoi cela se produit selon v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 DE SUIVI - Que dois-je fair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rive en retard à l’éc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 emprunte un autre itinéraire pour éviter les agr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 des dispositions pour que les enfants marchent en grou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ltats/Succè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 phys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at affect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 sociale, relations, inter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Shape 138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CFF7-290B-4CBD-AC91-14C07321AF04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hape 143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E652-851C-47DE-9555-3BA0216C2C79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6080" y="130032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191919"/>
                </a:solidFill>
                <a:latin typeface="Arial"/>
              </a:rPr>
              <a:t>Module 2</a:t>
            </a:r>
            <a:br>
              <a:rPr sz="3600"/>
            </a:br>
            <a:r>
              <a:rPr b="1" lang="fr-FR" sz="3600" spc="-1" strike="noStrike">
                <a:solidFill>
                  <a:srgbClr val="191919"/>
                </a:solidFill>
                <a:latin typeface="Arial"/>
              </a:rPr>
              <a:t>Protection, bien-être et inclusion de l’enf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87440" y="309384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ccccc"/>
                </a:solidFill>
                <a:latin typeface="Arial"/>
              </a:rPr>
              <a:t>Session 2 : Création d’un espace sû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hape 150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8F04-AE85-457F-8F12-8C5F8F94C6E6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Réfléch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OÙ vous sentez-vous en sécurité et POURQUOI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QUAND vous sentez-vous en sécurité et POURQUOI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QU'EST-CE QUI vous permet de vous sentir en sécurité et POURQUOI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QUI vous permet de vous sentir en sécurité et POURQUOI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hape 157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5EF8-960B-4A62-83F8-95986B64BFCB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Création d’un espace sû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Shape 163" descr=""/>
          <p:cNvPicPr/>
          <p:nvPr/>
        </p:nvPicPr>
        <p:blipFill>
          <a:blip r:embed="rId1"/>
          <a:stretch/>
        </p:blipFill>
        <p:spPr>
          <a:xfrm>
            <a:off x="1647720" y="1387440"/>
            <a:ext cx="5848560" cy="3699000"/>
          </a:xfrm>
          <a:prstGeom prst="rect">
            <a:avLst/>
          </a:prstGeom>
          <a:ln w="0">
            <a:noFill/>
          </a:ln>
        </p:spPr>
      </p:pic>
      <p:sp>
        <p:nvSpPr>
          <p:cNvPr id="465" name="Shape 164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1395-B457-435C-8681-52B85BA34C2C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64880" y="1971720"/>
            <a:ext cx="8521560" cy="283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434160" indent="-36180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liquer comment rendre une école et une salle de classe sûres du point de vue physique, comportemental, socio-émotionnel et cognitif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361800"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liquer l’effet préjudiciable de la VBSG et du châtiment corporel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36180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us exercer aux moyens de corriger les élèves sans porter atteinte aux droits de l’enfant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36180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er les moyens d’impliquer les élèves dans les activités de la classe permettant aux élèves de ressentir le sentiment d’appartenance et de st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71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40F1-2A6C-449F-8223-103C6337F2A7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4"/>
          <p:cNvSpPr/>
          <p:nvPr/>
        </p:nvSpPr>
        <p:spPr>
          <a:xfrm>
            <a:off x="378000" y="1558800"/>
            <a:ext cx="83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À la fin de cette session, vous saurez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Châtiment corpore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lnSpc>
                <a:spcPct val="11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'entendons-nous par châtiment corporel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urquoi le châtiment corporel est-il négatif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s sont les alternatives au châtiment corporel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hape 178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08E4-49F0-47A1-B10B-CF608B4F8478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2680" y="130032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191919"/>
                </a:solidFill>
                <a:latin typeface="Arial"/>
              </a:rPr>
              <a:t>Module 2</a:t>
            </a:r>
            <a:br>
              <a:rPr sz="3600"/>
            </a:br>
            <a:r>
              <a:rPr b="1" lang="fr-FR" sz="3600" spc="-1" strike="noStrike">
                <a:solidFill>
                  <a:srgbClr val="191919"/>
                </a:solidFill>
                <a:latin typeface="Arial"/>
              </a:rPr>
              <a:t>Protection, bien-être et inclusion de l’enf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2680" y="3111480"/>
            <a:ext cx="8570880" cy="712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cc"/>
                </a:solidFill>
                <a:latin typeface="Arial"/>
              </a:rPr>
              <a:t>Session 1: Introduction à la protection de l'enfance et aux droits de l'enf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hape 43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DF80-8CD5-4EF4-85FD-0A413F756A79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Définition de la violence sexuelle et basée sur le gen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hape 185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B826-58A6-4012-9448-048304033B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VSBG - Vrai ou Fau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0" y="1389240"/>
            <a:ext cx="880416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434160" indent="-337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ules les filles sont victimes de la VB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337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VBSG comprend aussi l’intimidation et le harcèlement verb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337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es élèves sont parfois auteurs de la VB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337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es élèves ayant été victimes de la VBSG sont les plus susceptibles d’abandonner les ét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337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es élèves victimes de la VBSG sont confrontés à un risque plus élevé d’infection au VI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337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uls les hommes sont auteurs de VBS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337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VBSG ne se produit que dans les enceintes des éc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hape 192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4FB3-13D8-4C98-A970-DC5A135F1D57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Définition de la violence sexuelle et violence basée sur le gen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violence sexuelle et basée sur le genre à l’école comprend notamment toute violence ou abus basé sur d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éréotypes sexist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u ciblant des élèves en fonction de leur sexe, sexualité, ou identités sexuelle. L'intention sous-jacente de cette violence est de renforcer les rôles des sexes et de perpétuer les inégalités entre les sexes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s’agit, entre autres, de viol, d’attouchements sexuels non voulus, de remarques sexuelles non désirées, de châtiment corporel, d’intimidation et de harcèlement verbal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 inégales de pouvoi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ntre adultes et enfants et entre hommes et femmes participent à cette violence qui peut se produire dan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’école, sur le terrain de l’école, sur le chemin de l’école, ou dans les dortoirs de l’écol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; elle peut être perpétrée par d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seignants, des élèves ou des membres de la communauté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es filles comme les garçon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euvent en être les victimes , mais aussi les auteurs. La violence sexuelle et basée sur le genre se traduit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éjudice sexuel, physique ou psychologiqu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our les filles et pour les garç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hape 199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3DA4-BB33-4DF5-9B76-68ECDE1AF8A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L'impact de la VSB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lnSpc>
                <a:spcPct val="11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355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lessure phys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355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rosses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355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fections sexuellement transmises (dont le VI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355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uvaise santé émotionnelle/psycholog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355680">
              <a:lnSpc>
                <a:spcPct val="114000"/>
              </a:lnSpc>
              <a:buClr>
                <a:srgbClr val="00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isque accru d'échec scolaire causé par l'absentéisme, l'abandon de l’école et le manque de motivation pour réuss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hape 206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8D63-70BB-4375-AE7C-C714CE11060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Établir les règles ensem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16000" y="1460520"/>
            <a:ext cx="8470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20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Demandez aux élèves de penser à des règles de classe essentielles et d’en faire une lis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20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Choisissez 10 à 15 règles qui sont les plus import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20000"/>
              </a:lnSpc>
              <a:buClr>
                <a:srgbClr val="1919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Expliquez pourquoi chaque règle est import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4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Définissez les sanctions pour chaque règle afin que les élèves sachent ce qui arrivera s'ils enfreignent la règ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hape 213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67B2-AD9D-4E87-95D9-B980651AE8E9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1338120" y="504720"/>
          <a:ext cx="5843880" cy="4340160"/>
        </p:xfrm>
        <a:graphic>
          <a:graphicData uri="http://schemas.openxmlformats.org/drawingml/2006/table">
            <a:tbl>
              <a:tblPr/>
              <a:tblGrid>
                <a:gridCol w="927360"/>
                <a:gridCol w="2679480"/>
                <a:gridCol w="2237040"/>
              </a:tblGrid>
              <a:tr h="474840">
                <a:tc>
                  <a:txBody>
                    <a:bodyPr lIns="68400" rIns="68400" tIns="91440" bIns="91440" anchor="t">
                      <a:noAutofit/>
                    </a:bodyPr>
                    <a:p>
                      <a:pPr marL="88920"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È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88920"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88920"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SON DE LA RÈ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3865320">
                <a:tc>
                  <a:txBody>
                    <a:bodyPr lIns="68400" rIns="68400" tIns="91440" bIns="91440" anchor="t">
                      <a:noAutofit/>
                    </a:bodyPr>
                    <a:p>
                      <a:pPr marL="88920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Être ponctu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'élève explique pourquoi il/elle est en retar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tissem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’élève présente ses excuses à l’enseigna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'élève reste en classe pendant la récréation pendant une durée équivalente à celle de son retard. L'élève doit apprendre la leçon qu’il/elle a manquée pendant qu’il reste en class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4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'élève rencontre le chef d’établissement ou directeur de l'école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88920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Lorsqu'un élève est en retard pour la classe, il ou elle rate des leçons et des informations importantes. Être en retard nuit à l'élève dans son apprentissage et être à l'heure aide l'élève à apprendre. Être en retard empêche également les autres élèves d'apprendre parce que cela provoque une distrac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ette règle est pour le bien-être et à l’avantage des élèv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L'enseignant doit également demander pourquoi l'élève est en retard. Peut-être qu’il se passe quelque chose à la maison et l'élève peut travailler avec l'enseignant pour trouver quelqu'un qui peut lui venir en aide. 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9" name="Shape 219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2F26-325F-4EA3-B6B4-6F2CE86B0F0E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9191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191919"/>
                </a:solidFill>
                <a:latin typeface="Arial"/>
              </a:rPr>
              <a:t>Comment un enseignant peut-il créer un espace sûr du point de vue social et émotionne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40788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Espace sûr socio-émotio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hape 226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638E-8F21-4D8E-972E-05A8CF28D9C8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91919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191919"/>
                </a:solidFill>
                <a:latin typeface="Arial"/>
              </a:rPr>
              <a:t>Comment un enseignant peut-il créer un espace sûr au niveau cogni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42372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Espace sûr socio-émotio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hape 233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C491-B802-4ECD-946C-7BE04C07DD62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Activités et routines de cla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34748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96000"/>
              </a:lnSpc>
              <a:spcBef>
                <a:spcPts val="499"/>
              </a:spcBef>
              <a:buClr>
                <a:srgbClr val="1919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Vous avez chacun une carte d'activité portant le nom d'une activité du Document Activités et routines de cla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Chaque membre de votre groupe aura 10 minutes pour s’exercer à l’activité sur sa fi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Faites semblant d’être dans votre classe avec vos élè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Lorsque vous avez terminé, dites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              </a:t>
            </a: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- Qu'est-ce qui a bien march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              </a:t>
            </a: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- Qu'est-ce qui a été diffic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96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Les autres personnes de votre groupe doivent ensuite dire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6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            </a:t>
            </a: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- Ce que vous avez bien fa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              </a:t>
            </a: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91919"/>
                </a:solidFill>
                <a:latin typeface="Arial"/>
              </a:rPr>
              <a:t>- Comment vous pouvez vous amélior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hape 240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BA15-F083-4B1A-96C3-E96C4AD76EF9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Identification des facteurs de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06440"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ment ma propre salle de classe protège-t-elle les 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droits de l'enfant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2. Comment ma propre salle de classe ne protège pas les droits de l'enfant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hape 247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FB8E-4AF9-4D8E-A7D4-EA279D1ABD3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666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marL="434160" indent="-3254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liquer les besoins cognitifs, sociaux, physiques et émotionnels des enfant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3254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écrire les rôles et responsabilités des enseignants en tant que sujets d'obligations devant protéger les droits et le bien-être des enfants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3254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er les facteurs de « risque » contre les facteurs de « protection » qui ont un impact sur le bien-être de l’enfant, ainsi que les risques et besoins particuliers des filles et des garçons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32544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éterminer, surveiller et répondre aux signes de détresse chez les élè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hape 50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6C9A-8C3F-4936-AA65-795ED85768D8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297000" y="156672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À la fin de cette session, vous saurez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Création d’un espace sû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Shape 253" descr=""/>
          <p:cNvPicPr/>
          <p:nvPr/>
        </p:nvPicPr>
        <p:blipFill>
          <a:blip r:embed="rId1"/>
          <a:stretch/>
        </p:blipFill>
        <p:spPr>
          <a:xfrm>
            <a:off x="1647720" y="1387440"/>
            <a:ext cx="5848560" cy="3699000"/>
          </a:xfrm>
          <a:prstGeom prst="rect">
            <a:avLst/>
          </a:prstGeom>
          <a:ln w="0">
            <a:noFill/>
          </a:ln>
        </p:spPr>
      </p:pic>
      <p:sp>
        <p:nvSpPr>
          <p:cNvPr id="504" name="Shape 254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C9F4-F4A0-4925-90BB-469A6BF15D1E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hape 259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C7EA-7560-4C0B-AAA9-DBB62871D719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16080" y="130032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191919"/>
                </a:solidFill>
                <a:latin typeface="Arial"/>
              </a:rPr>
              <a:t>Module 2</a:t>
            </a:r>
            <a:br>
              <a:rPr sz="3600"/>
            </a:br>
            <a:r>
              <a:rPr b="1" lang="fr-FR" sz="3600" spc="-1" strike="noStrike">
                <a:solidFill>
                  <a:srgbClr val="191919"/>
                </a:solidFill>
                <a:latin typeface="Arial"/>
              </a:rPr>
              <a:t>Protection, bien-être et inclusion de l’enf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87440" y="309384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cccccc"/>
                </a:solidFill>
                <a:latin typeface="Arial"/>
              </a:rPr>
              <a:t>Session 3 : Salles de classe inclus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hape 266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A368-9347-46DF-B301-E9BA827B1518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02680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80880" algn="just">
              <a:lnSpc>
                <a:spcPct val="114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liquer l’importance de l’éducation inclusive 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 algn="just">
              <a:lnSpc>
                <a:spcPct val="114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écrire les obstacles auxquels les populations d’élèves vulnérables sont confrontées 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 algn="just">
              <a:lnSpc>
                <a:spcPct val="114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er des stratégies pour créer une classe inclus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273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2DCB-9767-4E9D-B87B-F1B237B9C96D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"/>
          <p:cNvSpPr/>
          <p:nvPr/>
        </p:nvSpPr>
        <p:spPr>
          <a:xfrm>
            <a:off x="166680" y="159876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À la fin de cette session, vous saurez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hape 278"/>
          <p:cNvSpPr/>
          <p:nvPr/>
        </p:nvSpPr>
        <p:spPr>
          <a:xfrm>
            <a:off x="98280" y="1363680"/>
            <a:ext cx="74948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clus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ste à empêcher quelqu'un d'entrer dans un lieu ou de participer à une activit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Shape 279" descr=""/>
          <p:cNvPicPr/>
          <p:nvPr/>
        </p:nvPicPr>
        <p:blipFill>
          <a:blip r:embed="rId1"/>
          <a:stretch/>
        </p:blipFill>
        <p:spPr>
          <a:xfrm>
            <a:off x="120600" y="2206800"/>
            <a:ext cx="4535640" cy="24555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73040" y="221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hape 281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AB6C-C54B-490E-9A16-29EC512A5C08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175000" y="1888920"/>
            <a:ext cx="3808440" cy="3190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z-vous déjà vécu cette situation 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spcBef>
                <a:spcPts val="1012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z-vous voulu faire partie de l'activité, mais que vous n’en avez pas eu la possibilité 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spcBef>
                <a:spcPts val="1012"/>
              </a:spcBef>
              <a:spcAft>
                <a:spcPts val="1012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us est-il déjà arrivé de voir quelqu'un d'autre être exclu 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012"/>
              </a:spcBef>
              <a:spcAft>
                <a:spcPts val="10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. Qui pourrait avoir besoin d'une aide supplémentaire dans notre classe pour se sentir inclus 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hape 300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1362-C404-4693-8105-1B63BA827026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27040" y="123516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191919"/>
                </a:solidFill>
                <a:latin typeface="Arial"/>
              </a:rPr>
              <a:t>Module 2</a:t>
            </a:r>
            <a:br>
              <a:rPr sz="3600"/>
            </a:br>
            <a:r>
              <a:rPr b="1" lang="fr-FR" sz="3600" spc="-1" strike="noStrike">
                <a:solidFill>
                  <a:srgbClr val="191919"/>
                </a:solidFill>
                <a:latin typeface="Arial"/>
              </a:rPr>
              <a:t>Protection, bien-être et inclusion de l’enf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246240" y="3093840"/>
            <a:ext cx="8145360" cy="63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cccc"/>
                </a:solidFill>
                <a:latin typeface="Arial"/>
              </a:rPr>
              <a:t>Session 4 : Enseignement des compétences essentielles à la vie co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hape 307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FA25-C2B3-408E-BC30-DD5F919F174A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2680" y="1906200"/>
            <a:ext cx="8856720" cy="2909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342720">
              <a:lnSpc>
                <a:spcPct val="114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entifier les risques et les besoins en compétences essentielles à la vie courante des enfants dans votre communauté 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14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rendre le rôle de l’enseignement des compétences essentielles à la vie courante pour promouvoir la protection et le bien-être de l’enfant 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spcBef>
                <a:spcPts val="1012"/>
              </a:spcBef>
              <a:spcAft>
                <a:spcPts val="1012"/>
              </a:spcAft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ivre des étapes pour remédier aux facteurs de risque grâce aux compétences essentielles à la vie courante 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courir à l’apprentissage socio-émotionnel en clas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hape 314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7CC0-FF0A-4894-9669-07E91FDA746E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230040" y="1461960"/>
            <a:ext cx="83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À la fin de cette session, vous saurez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Facteurs de ris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162160" y="1469880"/>
          <a:ext cx="4819680" cy="3483000"/>
        </p:xfrm>
        <a:graphic>
          <a:graphicData uri="http://schemas.openxmlformats.org/drawingml/2006/table">
            <a:tbl>
              <a:tblPr/>
              <a:tblGrid>
                <a:gridCol w="4819680"/>
              </a:tblGrid>
              <a:tr h="633600">
                <a:tc>
                  <a:txBody>
                    <a:bodyPr tIns="91440" bIns="91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  <a:tr h="2849400">
                <a:tc>
                  <a:txBody>
                    <a:bodyPr tIns="91440" bIns="91440" anchor="t">
                      <a:noAutofit/>
                    </a:bodyPr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ûreté et sécur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imination basée sur le gen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ssion physique ou sexue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âtiment corporel ou discipline sévè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ducation Interromp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imi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imination et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le/parents/amis portés dispa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342720">
                        <a:lnSpc>
                          <a:spcPct val="108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ence de modèles à suiv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9e9e9e"/>
                      </a:solidFill>
                    </a:lnL>
                    <a:lnR w="4320">
                      <a:solidFill>
                        <a:srgbClr val="9e9e9e"/>
                      </a:solidFill>
                    </a:lnR>
                    <a:lnT w="4320">
                      <a:solidFill>
                        <a:srgbClr val="9e9e9e"/>
                      </a:solidFill>
                    </a:lnT>
                    <a:lnB w="4320">
                      <a:solidFill>
                        <a:srgbClr val="9e9e9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Shape 321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7BCC-35E3-4272-9F3C-3C516BAA6685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360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Arial"/>
              </a:rPr>
              <a:t>Compétences essentielles à la vie courant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640" y="1347840"/>
            <a:ext cx="9002520" cy="370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ccepta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Engagement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uriosité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Équité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tilité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ise de conscience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isciplin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Foi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Équilibr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onfiance en soi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Leadership             Adaptabilité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harité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Coopération 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Empathie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opreté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réativité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      Enthousiasme                 Santé                     Compassion                     Obeissanc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Studieux            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Soupl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      Honnêteté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onctualité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         Pard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Humilité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      Toléranc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  Responsabilité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onfianc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Optimism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évention du VIH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      Relations sexuelles sûres                     Lavage des mains            Droits des enfant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ensée critiqu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uisin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Auto-disciplin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Prise de décision      Communication efficac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Maintenir des relations personnelle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    Écout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        Rédac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Négocia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Prévoir les sanctions         Math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    Estime de soi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ctur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Esprit d'équip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Résolution de problèmes      Empathi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S’exprimer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Gestion du stres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             Plaidoy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ontrôle des émotions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Maintenir un espace propre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elations interpersonnel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hape 328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2BAE-A8D2-42E9-A444-3D8392AEDCF7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Réfléch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mment décririez-vous un enfant qui se sent « bien » ? Comment se sent-il/elle ? Comment agit-il/elle ? Comment interagit-il/elle 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hape 57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2F51-FDAC-4F12-AAEF-D76BD232E9A4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9852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Jeu de rôle sur les </a:t>
            </a:r>
            <a:r>
              <a:rPr b="1" lang="fr-FR" sz="4600" spc="-1" strike="noStrike">
                <a:solidFill>
                  <a:srgbClr val="ffffff"/>
                </a:solidFill>
                <a:latin typeface="Arial"/>
              </a:rPr>
              <a:t>compétences essentielles à la vie courant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hape 334"/>
          <p:cNvSpPr/>
          <p:nvPr/>
        </p:nvSpPr>
        <p:spPr>
          <a:xfrm>
            <a:off x="90360" y="1517760"/>
            <a:ext cx="2556000" cy="3465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É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ire le scénario &amp; répondre aux questions (10 mi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lanifier la pièce de théât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10 mi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3.Répéter la pièce (5 mi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4.Passer à la prestat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2 min par group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hape 335"/>
          <p:cNvSpPr/>
          <p:nvPr/>
        </p:nvSpPr>
        <p:spPr>
          <a:xfrm>
            <a:off x="2770200" y="1517760"/>
            <a:ext cx="3198960" cy="3465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IRE LE SCÉNARIO &amp; RÉPONDRE AUX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entifier le facteur de risque ou le besoin de l’élèv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entifier les compétences essentielles à la vie courante dont un élève a besoin pour remédier à ce risqu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 pouvez-vous, en tant qu’enseignant, aider l’élève à développer cette compétence°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hape 336"/>
          <p:cNvSpPr/>
          <p:nvPr/>
        </p:nvSpPr>
        <p:spPr>
          <a:xfrm>
            <a:off x="6093000" y="1517760"/>
            <a:ext cx="3012840" cy="3465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PLANIFIER LA PIÈCE DE THEÂT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1.Qui sont les personnages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2. Comment les personnages vont-ils incarner le problème 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3. Comment va réagir l’enseignant ? Quelles mesures va-t-il prendre ? Comment allez-vous incarner ces mesures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hape 337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EEB7-E9C3-4990-B2BD-B6690F225E63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Évaluer l’enseign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457200" y="1494000"/>
          <a:ext cx="7678800" cy="3482640"/>
        </p:xfrm>
        <a:graphic>
          <a:graphicData uri="http://schemas.openxmlformats.org/drawingml/2006/table">
            <a:tbl>
              <a:tblPr/>
              <a:tblGrid>
                <a:gridCol w="2413080"/>
                <a:gridCol w="2503440"/>
                <a:gridCol w="2762280"/>
              </a:tblGrid>
              <a:tr h="107136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que l'enseignant a bien fait 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 que l’enseignant aurait pu mieux faire ou renforcer 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énari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énari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énari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6600" rIns="66600" tIns="66600" bIns="6660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énari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Shape 344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7E59-C834-4310-BC30-98C2799FAD81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360000"/>
            <a:ext cx="857412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Arial"/>
              </a:rPr>
              <a:t>Apprentissage socio-émotionn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83760"/>
            <a:ext cx="8229600" cy="3683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l s’agit des processus par lesquels enfants et adultes acquièrent et appliquent les connaissances, attitudes et compétences nécessaires pou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prendre et gérer les émotions 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ixer et atteindre des objectifs positifs 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entir et montrer de l'empathie pour les autres 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établir et maintenir des relations positives 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endre des décisions respons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hape 371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04C6-6BC3-43DA-BFE9-1C679D606899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431280"/>
            <a:ext cx="837396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Stratégies socio-émotionnel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95120" y="1460520"/>
            <a:ext cx="849168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s activités pouvez-vous mener avec les élèves pour mettre en pratique chaque compétence 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onction exécu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trôle des émo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pétences sociales posi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pétences en résolution de confl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ersévér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hape 378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3DE9-F44F-447E-913B-BFA77692833B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205920"/>
            <a:ext cx="86868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Avantages de l’apprentissage socio-émo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hape 384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B737-377C-4CB1-AB40-167EF1904F74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Shape 385" descr=""/>
          <p:cNvPicPr/>
          <p:nvPr/>
        </p:nvPicPr>
        <p:blipFill>
          <a:blip r:embed="rId1"/>
          <a:stretch/>
        </p:blipFill>
        <p:spPr>
          <a:xfrm>
            <a:off x="863640" y="1514520"/>
            <a:ext cx="721188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hape 390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82B3-7A56-4DBB-9A1C-5738E860FC51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81080" y="129348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191919"/>
                </a:solidFill>
                <a:latin typeface="Arial"/>
              </a:rPr>
              <a:t>Module 2</a:t>
            </a:r>
            <a:br>
              <a:rPr sz="3600"/>
            </a:br>
            <a:r>
              <a:rPr b="1" lang="fr-FR" sz="3600" spc="-1" strike="noStrike">
                <a:solidFill>
                  <a:srgbClr val="191919"/>
                </a:solidFill>
                <a:latin typeface="Arial"/>
              </a:rPr>
              <a:t>Protection, bien-être et inclusion de l’enf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47840" y="309384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cc"/>
                </a:solidFill>
                <a:latin typeface="Arial"/>
              </a:rPr>
              <a:t>Session 5 : Recherche de soutien supplémentaire en faveur des enf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hape 397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8EB4-6D4B-4D19-BE72-BC295E1D5217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73080"/>
            <a:ext cx="8229600" cy="2943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3000"/>
          </a:bodyPr>
          <a:p>
            <a:pPr marL="425160" indent="-318600">
              <a:lnSpc>
                <a:spcPct val="13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plorer les ressources à votre disposition pour promouvoir la protection et le bien-être des enfants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318600">
              <a:lnSpc>
                <a:spcPct val="13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pérer les spécialistes de la protection de l'enfance dans les différentes organisations de la communauté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318600">
              <a:lnSpc>
                <a:spcPct val="13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rendre que les enseignants eux-mêmes sont des ressources pour les élèves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-318600">
              <a:lnSpc>
                <a:spcPct val="13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pliquer comment réagir face aux abus et comment les signa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13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hape 404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E681-77C8-4240-BE30-533B7AFDB69C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"/>
          <p:cNvSpPr/>
          <p:nvPr/>
        </p:nvSpPr>
        <p:spPr>
          <a:xfrm>
            <a:off x="360360" y="145908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À la fin de cette session, vous saurez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Revisite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91919"/>
                </a:solidFill>
                <a:latin typeface="Arial"/>
              </a:rPr>
              <a:t>Que peuvent faire les enseignants pour protéger les élève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hape 411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B5E3-AFA4-4232-B56A-C633F3A10B50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Réfléch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lnSpc>
                <a:spcPct val="13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3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 faites-vous lorsque vous êtes stressé, triste, ou lorsque vous traversez un moment difficil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3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i/qu'est-ce qui vous aid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4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elon vous, que font vos élèves lorsqu'ils sont stressés ou triste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418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BCAF-7196-45E7-BA4C-75168944E61B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205920"/>
            <a:ext cx="910584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300" spc="-1" strike="noStrike">
                <a:solidFill>
                  <a:srgbClr val="ffffff"/>
                </a:solidFill>
                <a:latin typeface="Arial"/>
              </a:rPr>
              <a:t>Termes et définitions du bien-êtr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hape 63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7C5F-41BD-4CC5-9D0D-F3C32AC6BF6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581120" y="1425600"/>
          <a:ext cx="5943600" cy="319068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96516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-être phys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tion contre le préjudice et l’abus physique. Satisfaction de tous les besoins humains de base (eau, alimentation, logement, etc). La capacité à jouer et à être physiquement actif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-être socio-émotion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oir un état d’esprit positif. Se sentir en sécurité et soutenu ; être en mesure de ressentir et d'exprimer une variété d'émotions et de faire face à la vie quotidienn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-être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ire partie d'un environnement favorable où les gens vivent paisiblement et en toute équité. La capacité d’établir des relations sociales positives avec les pairs et les adult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en-être cognit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sentir en confiance, se valoriser et s’accepter. Avoir des opportunités pour apprendre, fixer et poursuivre des objectif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hape 423"/>
          <p:cNvSpPr/>
          <p:nvPr/>
        </p:nvSpPr>
        <p:spPr>
          <a:xfrm>
            <a:off x="635040" y="900000"/>
            <a:ext cx="7845480" cy="4192560"/>
          </a:xfrm>
          <a:prstGeom prst="ellipse">
            <a:avLst/>
          </a:prstGeom>
          <a:noFill/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hape 424"/>
          <p:cNvSpPr/>
          <p:nvPr/>
        </p:nvSpPr>
        <p:spPr>
          <a:xfrm>
            <a:off x="635040" y="1662120"/>
            <a:ext cx="5815080" cy="2913120"/>
          </a:xfrm>
          <a:prstGeom prst="ellipse">
            <a:avLst/>
          </a:prstGeom>
          <a:noFill/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hape 425"/>
          <p:cNvSpPr/>
          <p:nvPr/>
        </p:nvSpPr>
        <p:spPr>
          <a:xfrm>
            <a:off x="635040" y="1954080"/>
            <a:ext cx="3916440" cy="2363760"/>
          </a:xfrm>
          <a:prstGeom prst="ellipse">
            <a:avLst/>
          </a:prstGeom>
          <a:noFill/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hape 426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22FE-0C3A-4974-A016-440472EC46BC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hape 427"/>
          <p:cNvSpPr/>
          <p:nvPr/>
        </p:nvSpPr>
        <p:spPr>
          <a:xfrm>
            <a:off x="635040" y="2424240"/>
            <a:ext cx="2281320" cy="1436400"/>
          </a:xfrm>
          <a:prstGeom prst="ellipse">
            <a:avLst/>
          </a:prstGeom>
          <a:noFill/>
          <a:ln w="1908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hape 428"/>
          <p:cNvSpPr/>
          <p:nvPr/>
        </p:nvSpPr>
        <p:spPr>
          <a:xfrm>
            <a:off x="971640" y="299736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. amis &amp; fam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hape 429"/>
          <p:cNvSpPr/>
          <p:nvPr/>
        </p:nvSpPr>
        <p:spPr>
          <a:xfrm>
            <a:off x="3087720" y="2797200"/>
            <a:ext cx="129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2. éc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hape 430"/>
          <p:cNvSpPr/>
          <p:nvPr/>
        </p:nvSpPr>
        <p:spPr>
          <a:xfrm>
            <a:off x="4756320" y="2500200"/>
            <a:ext cx="149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. communau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hape 431"/>
          <p:cNvSpPr/>
          <p:nvPr/>
        </p:nvSpPr>
        <p:spPr>
          <a:xfrm>
            <a:off x="6622920" y="2049480"/>
            <a:ext cx="149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4. national / 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28480" y="425520"/>
            <a:ext cx="861552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Arial"/>
              </a:rPr>
              <a:t>Cartographie de la communauté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Utilisation de votre carte de la communauté - Scé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04480" y="1460520"/>
            <a:ext cx="848196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lnSpc>
                <a:spcPct val="138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3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 pourriez-vous faire pour aider cet élèv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4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s ressources pourriez-vous suggérer à cet élèv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hape 439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CE06-AD2B-41A9-8D2A-9933D248C81B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-419040">
              <a:lnSpc>
                <a:spcPct val="13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 feriez-vous dans cette situation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3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i doit être informé du Code de conduit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38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Vers quelles ressources dans la communauté orienteriez-vous l'enfant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4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À qui pourriez-vous signaler ce problème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Réagir face aux ab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hape 446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A623-398A-41E2-A6C8-39B6A016FD40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Besoins de l'enf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365436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ête : de quoi a besoin un enfant sur le plan mental et cognitif ?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œur  : de quoi a besoin un enfant sur le plan émotionnel ?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ins : de quoi a besoin un enfant sur le plan physique ?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ieds : de quoi a besoin un enfant sur le plan social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Shape 71"/>
          <p:cNvGrpSpPr/>
          <p:nvPr/>
        </p:nvGrpSpPr>
        <p:grpSpPr>
          <a:xfrm>
            <a:off x="4456080" y="1460520"/>
            <a:ext cx="3095280" cy="3647880"/>
            <a:chOff x="4456080" y="1460520"/>
            <a:chExt cx="3095280" cy="3647880"/>
          </a:xfrm>
        </p:grpSpPr>
        <p:sp>
          <p:nvSpPr>
            <p:cNvPr id="417" name="Shape 72"/>
            <p:cNvSpPr/>
            <p:nvPr/>
          </p:nvSpPr>
          <p:spPr>
            <a:xfrm>
              <a:off x="5558400" y="1460520"/>
              <a:ext cx="942120" cy="884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Shape 73"/>
            <p:cNvCxnSpPr/>
            <p:nvPr/>
          </p:nvCxnSpPr>
          <p:spPr>
            <a:xfrm flipH="1">
              <a:off x="6009840" y="2344680"/>
              <a:ext cx="21960" cy="15652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419" name="Shape 74"/>
            <p:cNvCxnSpPr/>
            <p:nvPr/>
          </p:nvCxnSpPr>
          <p:spPr>
            <a:xfrm flipH="1">
              <a:off x="5168880" y="3891240"/>
              <a:ext cx="825120" cy="918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420" name="Shape 75"/>
            <p:cNvCxnSpPr/>
            <p:nvPr/>
          </p:nvCxnSpPr>
          <p:spPr>
            <a:xfrm flipH="1" flipV="1">
              <a:off x="6009480" y="3878280"/>
              <a:ext cx="825120" cy="918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421" name="Shape 76"/>
            <p:cNvCxnSpPr/>
            <p:nvPr/>
          </p:nvCxnSpPr>
          <p:spPr>
            <a:xfrm flipH="1">
              <a:off x="4805280" y="3029040"/>
              <a:ext cx="2360520" cy="13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422" name="Shape 77"/>
            <p:cNvSpPr/>
            <p:nvPr/>
          </p:nvSpPr>
          <p:spPr>
            <a:xfrm>
              <a:off x="5869080" y="2943000"/>
              <a:ext cx="257040" cy="257040"/>
            </a:xfrm>
            <a:custGeom>
              <a:avLst/>
              <a:gdLst/>
              <a:ahLst/>
              <a:rect l="l" t="t" r="r" b="b"/>
              <a:pathLst>
                <a:path w="599073" h="609471">
                  <a:moveTo>
                    <a:pt x="299537" y="152368"/>
                  </a:moveTo>
                  <a:cubicBezTo>
                    <a:pt x="424343" y="-203157"/>
                    <a:pt x="911090" y="152368"/>
                    <a:pt x="299537" y="609471"/>
                  </a:cubicBezTo>
                  <a:cubicBezTo>
                    <a:pt x="-312017" y="152368"/>
                    <a:pt x="174730" y="-203157"/>
                    <a:pt x="299537" y="152368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Shape 78" descr=""/>
            <p:cNvPicPr/>
            <p:nvPr/>
          </p:nvPicPr>
          <p:blipFill>
            <a:blip r:embed="rId1"/>
            <a:stretch/>
          </p:blipFill>
          <p:spPr>
            <a:xfrm flipH="1" rot="5400000">
              <a:off x="7096320" y="2771280"/>
              <a:ext cx="451080" cy="459000"/>
            </a:xfrm>
            <a:prstGeom prst="rect">
              <a:avLst/>
            </a:prstGeom>
            <a:ln w="9360">
              <a:solidFill>
                <a:srgbClr val="ffffff"/>
              </a:solidFill>
              <a:round/>
            </a:ln>
          </p:spPr>
        </p:pic>
        <p:pic>
          <p:nvPicPr>
            <p:cNvPr id="424" name="Shape 79" descr=""/>
            <p:cNvPicPr/>
            <p:nvPr/>
          </p:nvPicPr>
          <p:blipFill>
            <a:blip r:embed="rId2"/>
            <a:stretch/>
          </p:blipFill>
          <p:spPr>
            <a:xfrm rot="16200000">
              <a:off x="4460040" y="2787480"/>
              <a:ext cx="451080" cy="459000"/>
            </a:xfrm>
            <a:prstGeom prst="rect">
              <a:avLst/>
            </a:prstGeom>
            <a:ln w="9360">
              <a:solidFill>
                <a:srgbClr val="ffffff"/>
              </a:solidFill>
              <a:round/>
            </a:ln>
          </p:spPr>
        </p:pic>
        <p:pic>
          <p:nvPicPr>
            <p:cNvPr id="425" name="Shape 80" descr=""/>
            <p:cNvPicPr/>
            <p:nvPr/>
          </p:nvPicPr>
          <p:blipFill>
            <a:blip r:embed="rId3"/>
            <a:srcRect l="0" t="47682" r="0" b="0"/>
            <a:stretch/>
          </p:blipFill>
          <p:spPr>
            <a:xfrm>
              <a:off x="4671720" y="4749840"/>
              <a:ext cx="698400" cy="358560"/>
            </a:xfrm>
            <a:prstGeom prst="rect">
              <a:avLst/>
            </a:prstGeom>
            <a:ln w="9360">
              <a:solidFill>
                <a:srgbClr val="000000">
                  <a:alpha val="0"/>
                </a:srgbClr>
              </a:solidFill>
              <a:round/>
            </a:ln>
          </p:spPr>
        </p:pic>
        <p:pic>
          <p:nvPicPr>
            <p:cNvPr id="426" name="Shape 81" descr=""/>
            <p:cNvPicPr/>
            <p:nvPr/>
          </p:nvPicPr>
          <p:blipFill>
            <a:blip r:embed="rId4"/>
            <a:srcRect l="0" t="47682" r="0" b="0"/>
            <a:stretch/>
          </p:blipFill>
          <p:spPr>
            <a:xfrm flipH="1">
              <a:off x="6634800" y="4749840"/>
              <a:ext cx="698400" cy="358560"/>
            </a:xfrm>
            <a:prstGeom prst="rect">
              <a:avLst/>
            </a:prstGeom>
            <a:ln w="9360">
              <a:solidFill>
                <a:srgbClr val="000000">
                  <a:alpha val="0"/>
                </a:srgbClr>
              </a:solidFill>
              <a:round/>
            </a:ln>
          </p:spPr>
        </p:pic>
      </p:grpSp>
      <p:sp>
        <p:nvSpPr>
          <p:cNvPr id="427" name="Shape 82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B20-D604-43E6-B0BE-4672EA0DC8FF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Besoins de l'enf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lnSpc>
                <a:spcPct val="11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06440"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armi les besoins énumérés, lesquels sont spécifiques aux filles ou aux garçons ? Qu'est-ce qui les différenci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06440"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es enfants peuvent-ils satisfaire, tous seuls, ces besoins ? Pourquoi/pourquoi pa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hape 89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92AC-2215-40CB-B3C8-E410B4BC2D8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4480" y="453600"/>
            <a:ext cx="848196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Arial"/>
              </a:rPr>
              <a:t>Jeu de rôle sur les droits des enfa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04840" y="1517760"/>
            <a:ext cx="2705040" cy="3465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tIns="91440" bIns="91440" anchor="t">
            <a:norm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00"/>
                </a:solidFill>
                <a:uFillTx/>
                <a:latin typeface="Arial"/>
              </a:rPr>
              <a:t>ÉTAP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ire le scénario &amp; répondre aux questions (10 mi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lanifier la pièce de théât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(10 mi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3. Répéter la pièce (5 mi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4. Passer à la prest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(3 min par group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44600" y="1517760"/>
            <a:ext cx="2824200" cy="3465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tIns="91440" bIns="91440" anchor="t">
            <a:normAutofit fontScale="98000"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00"/>
                </a:solidFill>
                <a:uFillTx/>
                <a:latin typeface="Arial"/>
              </a:rPr>
              <a:t>LIRE LE SCÉNARIO &amp; RÉPONDRE AUX QUES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. Quels sont les besoins des enfants présentés dans cette histoire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2. Quels droits sont en train d’être violés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3. Quelles sont les mesures que les enseignants de la communauté pourraient prendre pour protéger l’enfant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35840" y="1517760"/>
            <a:ext cx="2822400" cy="3465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tIns="91440" bIns="91440" anchor="t">
            <a:norm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00"/>
                </a:solidFill>
                <a:uFillTx/>
                <a:latin typeface="Arial"/>
              </a:rPr>
              <a:t>PLANIFIER LA PIÈCE DE THEÂT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1.Qui sont les personnages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2. Comment les personnages vont-ils incarner le problème 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3. Comment va réagir l’enseignant ? Quelles mesures va-t-il prendre 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4. Comment allez-vous incarner ces mesures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hape 98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7CED-1510-4B48-B09F-0A1092714F48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Pour chaque pres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5440" y="1837800"/>
            <a:ext cx="8229600" cy="2778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lnSpc>
                <a:spcPct val="114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4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s droits sont en train d’être violé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4000"/>
              </a:lnSpc>
              <a:buClr>
                <a:srgbClr val="00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 font les enseignants de la communauté pour protéger l’enfant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hape 105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00D-9268-48E9-B9CA-6C5171AB46F3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arlotte Bergin</dc:creator>
  <dc:description/>
  <dc:language>en-US</dc:language>
  <cp:lastModifiedBy>Sarah Montgomery</cp:lastModifiedBy>
  <dcterms:modified xsi:type="dcterms:W3CDTF">2020-01-16T02:34:47Z</dcterms:modified>
  <cp:revision>38</cp:revision>
  <dc:subject/>
  <dc:title>PowerPoint Presentation</dc:title>
</cp:coreProperties>
</file>