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600" cy="3429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u bien ont une limite dans le tem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AB68-E7C9-4E4B-B911-F17D9000D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A31C-1E05-4739-8EFF-C3970FF6B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C65B-117B-4904-AE2C-B525FAF58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A693-44FC-4608-9790-578FDDED8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175D-2FC1-4DB2-BCFF-97942BB44F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0816-B41D-4CA9-AFBA-3A9803C402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35D2-D967-44A6-BC18-2FA95F4333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50DC-1DC6-48F8-A891-9D38620616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527D-F49E-4B98-9FC9-012DDA9084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0D41-CA3B-4A2B-A1E4-5FBD288EED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FB45-DAC9-4924-8503-253B76455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A88F-1A87-4F1D-9782-2C32A8D6E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8ECE-2D1E-45F2-88C3-65598ED92E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B9B21-8F85-40A4-A403-1122836D5F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0A6C-5E4C-46D5-8FA8-0639C325CB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41BE-5CB5-4960-8210-A56E4E1191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EB3A-56FC-4086-B0AC-1996CF5EB1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5EFB-557E-49AA-9C1C-6D0E00D94B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6DD-F53E-46A7-8098-2C4CE13BD0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FFA-70C8-4D54-9028-EDF5C3F29C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5D6-AB59-4873-8E43-04A8CCB4C8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C4B-EB12-406A-980C-6838DA736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59FF-E0B3-4529-97E8-CD0A406DDE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BBC-E403-47C0-A9AF-A622206AD7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066-7240-4900-891E-CDDD8F1FBF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87C-E94D-4E7F-8338-EF95C8784A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CA4-5315-4750-8E60-5A0D97C007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4FB-9803-459B-8A1E-99417B6E33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B07-AE36-4D43-995E-424FD0D2AD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46052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270600"/>
            <a:ext cx="264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5A3-C81C-4200-8AD8-D67792758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A67D-AEDD-4435-A80D-20D4BE40B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102B-D4F5-4AC2-B1C7-B09D0F594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441A-995F-457C-B9E9-A549E2935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CBB7-2894-4BC1-9245-EBC232C63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27060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EF69-6B61-497D-A325-37528140E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60520"/>
            <a:ext cx="40158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270600"/>
            <a:ext cx="8229600" cy="165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0746-7E3A-407A-9745-F04E0163A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7B9E-051F-4DF7-9FF4-7F5C79F65708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hape 11"/>
          <p:cNvSpPr/>
          <p:nvPr/>
        </p:nvSpPr>
        <p:spPr>
          <a:xfrm flipH="1" rot="10800000">
            <a:off x="-1080" y="3092400"/>
            <a:ext cx="8458200" cy="71280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7614-4568-4A6A-BB40-E8F018706266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6"/>
          <p:cNvSpPr/>
          <p:nvPr/>
        </p:nvSpPr>
        <p:spPr>
          <a:xfrm>
            <a:off x="0" y="206280"/>
            <a:ext cx="8686800" cy="1165320"/>
          </a:xfrm>
          <a:prstGeom prst="rect">
            <a:avLst/>
          </a:prstGeom>
          <a:solidFill>
            <a:srgbClr val="191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1919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807B-46AE-4F5D-96AD-E2EFF11E06F6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hape 22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BAAC-7C7C-41F1-B681-40C34B3DDE9B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0" y="338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étences fondamentales des enseignants du primaire en contextes de c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2228760" y="1084320"/>
            <a:ext cx="49150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 – SMART 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012760"/>
            <a:ext cx="8229600" cy="291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4. Les élèves seront en mesure de reconnaître un terrain de footbal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87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427B-CC47-4093-BDD6-E77008DF9407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205920"/>
            <a:ext cx="843264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Définir des objectifs SM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 Une leçon sur la multi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2. Une leçon sur l'hygiè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3. Une leçon sur la rédaction d'une histo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4. Une leçon sur les verbes dans une autre lan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5. Une leçon sur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Évaluation par les pairs – </a:t>
            </a: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Sont-ils spécifiques, mesurables, réalisables, pertinents, temporellement définis 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94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94CF-78A1-4747-B0FB-823162010E41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hape 9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284A-48C5-40CC-9529-CB0A55BE32F9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995040"/>
            <a:ext cx="8854920" cy="168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Jour 4</a:t>
            </a:r>
            <a:br>
              <a:rPr sz="3600"/>
            </a:b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Programme scolaire et pla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3093840"/>
            <a:ext cx="8980560" cy="6634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cccccc"/>
                </a:solidFill>
                <a:latin typeface="Arial"/>
              </a:rPr>
              <a:t>Session 2 : Évalu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0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287A-E6D0-4A50-A87F-654CFEB81B82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1360" y="2091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À la fin de cette session, vous saurez 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113"/>
          <p:cNvSpPr/>
          <p:nvPr/>
        </p:nvSpPr>
        <p:spPr>
          <a:xfrm>
            <a:off x="1174680" y="2428920"/>
            <a:ext cx="5508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19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hape 114"/>
          <p:cNvSpPr/>
          <p:nvPr/>
        </p:nvSpPr>
        <p:spPr>
          <a:xfrm>
            <a:off x="457200" y="2097000"/>
            <a:ext cx="79596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3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Expliquer le concept et l’objectif de l’é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Mettre en œuvre différentes méthodes d'évaluation dans vos leç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hape 115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6BDB-B1D5-4A10-99ED-FEE299B300F7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Réflexion individuel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and vous enseignez, comment savez-vous que vos élèves comprennent ce que vous enseignez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tez deux (2) à trois (3) méthodes que vous utilisez pour vérifier la compréh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hape 122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0530-487D-45C8-8CF3-87F2E447197D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Éval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urquoi l’évaluation sommative (compositions et examens) est-elle importante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2. En quoi le contrôle continu (vérification de la compréhension tout au long de la leçon) est-elle importante 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hape 12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AC85-C028-4CD0-8F57-EFAE0252BF30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Contrôle cont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roupe 1 – Concours de liste rap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roupe 2 – Prouvez-moi le contraire 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roupe 3- Prendre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roupe 4 - Circuler-interro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roupe 5 -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fléchir-faire équipe-part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hape 13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4ED6-96D3-4C85-9FE9-2A7F10A82063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hape 141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280B-C66D-4620-B079-A25638C2B865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995040"/>
            <a:ext cx="8854920" cy="168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Jour 4</a:t>
            </a:r>
            <a:br>
              <a:rPr sz="3600"/>
            </a:b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Programme scolaire et pla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3093840"/>
            <a:ext cx="8980560" cy="6634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cccccc"/>
                </a:solidFill>
                <a:latin typeface="Arial"/>
              </a:rPr>
              <a:t>Session 3: Planification des leç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hape 148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1365-C0E1-41A5-A44E-92CC247D0588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995040"/>
            <a:ext cx="8854920" cy="168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Jour 4</a:t>
            </a:r>
            <a:br>
              <a:rPr sz="3600"/>
            </a:br>
            <a:r>
              <a:rPr b="1" lang="fr-FR" sz="3600" spc="-1" strike="noStrike">
                <a:solidFill>
                  <a:srgbClr val="191919"/>
                </a:solidFill>
                <a:latin typeface="Arial"/>
              </a:rPr>
              <a:t>Programme scolaire et plan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3093840"/>
            <a:ext cx="8980560" cy="6634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cccccc"/>
                </a:solidFill>
                <a:latin typeface="Arial"/>
              </a:rPr>
              <a:t>Session 1 : Objectifs SMA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hape 2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C855-1AC7-4814-B0E2-6B3F33F21BF3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À la fin de cette session, vous saurez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hape 155"/>
          <p:cNvSpPr/>
          <p:nvPr/>
        </p:nvSpPr>
        <p:spPr>
          <a:xfrm>
            <a:off x="1174680" y="2428920"/>
            <a:ext cx="5508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19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hape 156"/>
          <p:cNvSpPr/>
          <p:nvPr/>
        </p:nvSpPr>
        <p:spPr>
          <a:xfrm>
            <a:off x="457200" y="2097000"/>
            <a:ext cx="80992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3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Décrire les éléments clés d'un plan de leç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Analyser les forces et les faiblesses des plans de leç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Élaborer des plans de leçon effic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hape 157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656B-CEC7-436E-8017-5D59E7B5D103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05920"/>
            <a:ext cx="894096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« Je fais. Nous faisons. Vous faites 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7054920" cy="3725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Shape 164" descr=""/>
          <p:cNvPicPr/>
          <p:nvPr/>
        </p:nvPicPr>
        <p:blipFill>
          <a:blip r:embed="rId1"/>
          <a:stretch/>
        </p:blipFill>
        <p:spPr>
          <a:xfrm>
            <a:off x="2793960" y="1444680"/>
            <a:ext cx="1781280" cy="1336680"/>
          </a:xfrm>
          <a:prstGeom prst="rect">
            <a:avLst/>
          </a:prstGeom>
          <a:ln w="0">
            <a:noFill/>
          </a:ln>
        </p:spPr>
      </p:pic>
      <p:pic>
        <p:nvPicPr>
          <p:cNvPr id="187" name="Shape 165" descr=""/>
          <p:cNvPicPr/>
          <p:nvPr/>
        </p:nvPicPr>
        <p:blipFill>
          <a:blip r:embed="rId2"/>
          <a:stretch/>
        </p:blipFill>
        <p:spPr>
          <a:xfrm>
            <a:off x="4897440" y="3008160"/>
            <a:ext cx="1003320" cy="1336680"/>
          </a:xfrm>
          <a:prstGeom prst="rect">
            <a:avLst/>
          </a:prstGeom>
          <a:ln w="0">
            <a:noFill/>
          </a:ln>
        </p:spPr>
      </p:pic>
      <p:pic>
        <p:nvPicPr>
          <p:cNvPr id="188" name="Shape 166" descr=""/>
          <p:cNvPicPr/>
          <p:nvPr/>
        </p:nvPicPr>
        <p:blipFill>
          <a:blip r:embed="rId3"/>
          <a:stretch/>
        </p:blipFill>
        <p:spPr>
          <a:xfrm>
            <a:off x="2908440" y="3429000"/>
            <a:ext cx="148572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89" name="Shape 167"/>
          <p:cNvGrpSpPr/>
          <p:nvPr/>
        </p:nvGrpSpPr>
        <p:grpSpPr>
          <a:xfrm>
            <a:off x="192240" y="1353960"/>
            <a:ext cx="8494560" cy="3206880"/>
            <a:chOff x="192240" y="1353960"/>
            <a:chExt cx="8494560" cy="3206880"/>
          </a:xfrm>
        </p:grpSpPr>
        <p:sp>
          <p:nvSpPr>
            <p:cNvPr id="190" name="Rectangle 8"/>
            <p:cNvSpPr/>
            <p:nvPr/>
          </p:nvSpPr>
          <p:spPr>
            <a:xfrm>
              <a:off x="192240" y="1353960"/>
              <a:ext cx="572760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 marL="457200" indent="-34272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Je f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3427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’enseignant f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5919840" y="1353960"/>
              <a:ext cx="276696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3. Vous fa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s élèves font de façon autono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192240" y="2798640"/>
              <a:ext cx="5727600" cy="17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2. Nous fais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Enseignant et élèves font ensem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s élèves font à d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Les élèves font en group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5919840" y="1353960"/>
              <a:ext cx="0" cy="32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>
              <a:off x="192240" y="2798640"/>
              <a:ext cx="572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192240" y="1353960"/>
              <a:ext cx="0" cy="32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8686800" y="1353960"/>
              <a:ext cx="0" cy="32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5"/>
            <p:cNvSpPr/>
            <p:nvPr/>
          </p:nvSpPr>
          <p:spPr>
            <a:xfrm>
              <a:off x="192240" y="1353960"/>
              <a:ext cx="849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192240" y="4560840"/>
              <a:ext cx="849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Shape 168" descr=""/>
          <p:cNvPicPr/>
          <p:nvPr/>
        </p:nvPicPr>
        <p:blipFill>
          <a:blip r:embed="rId4"/>
          <a:stretch/>
        </p:blipFill>
        <p:spPr>
          <a:xfrm>
            <a:off x="7354800" y="2629080"/>
            <a:ext cx="1200240" cy="1600200"/>
          </a:xfrm>
          <a:prstGeom prst="rect">
            <a:avLst/>
          </a:prstGeom>
          <a:ln w="0">
            <a:noFill/>
          </a:ln>
        </p:spPr>
      </p:pic>
      <p:sp>
        <p:nvSpPr>
          <p:cNvPr id="200" name="Shape 16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8075-24FA-4D19-938B-355A9C82165D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3920" y="186840"/>
            <a:ext cx="846288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Analyser les plans de c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552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260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s sont les points forts de ce plan de cour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260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uriez-vous une recommandation à faire pour améliorer le plan de cour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260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ù l’enseignant utilise-t-il « Je fais », « Nous faisons » et « Vous faites » 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hape 17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A337-5C37-4670-B571-51508F5F153D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8826480" cy="1141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Créer un plan de cours à l’aide des objectifs suiv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552600" indent="-514440"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91919"/>
                </a:solidFill>
                <a:latin typeface="Arial"/>
              </a:rPr>
              <a:t>Expliquez l'importance des règles dans la clas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14440"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91919"/>
                </a:solidFill>
                <a:latin typeface="Arial"/>
              </a:rPr>
              <a:t>Dressez une liste de règles très efficaces régissant les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14440">
              <a:buClr>
                <a:srgbClr val="19191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191919"/>
                </a:solidFill>
                <a:latin typeface="Arial"/>
              </a:rPr>
              <a:t>Convenez des conséquences de l'infraction à chaque règle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83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6D15-3D54-411B-9B82-86D49FCF17F4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ape 188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0AB4-A70E-484F-AF45-8C9016AA26F6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À la fin de cette session, vous saurez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hape 43"/>
          <p:cNvSpPr/>
          <p:nvPr/>
        </p:nvSpPr>
        <p:spPr>
          <a:xfrm>
            <a:off x="1174680" y="2428920"/>
            <a:ext cx="5508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196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hape 44"/>
          <p:cNvSpPr/>
          <p:nvPr/>
        </p:nvSpPr>
        <p:spPr>
          <a:xfrm>
            <a:off x="457200" y="2097000"/>
            <a:ext cx="79596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3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er de bons objectifs de leç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éfinir des objectifs SMART pour vos propres leç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hape 45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FC9-194E-46E1-A134-B2304469B5DD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Qu'est-ce qu'un objectif 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91919"/>
                </a:solidFill>
                <a:latin typeface="Arial"/>
              </a:rPr>
              <a:t>Un objectif explique ce que vous voulez que vos élèves connaissent et soient en mesure de faire à la fin de la leç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3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23A5-107A-42F4-BB71-1B6E7F815572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Noter votre dess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Point- Image de l’éc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 Points- L’école a une cour de récré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 Points- Les élèves jouent au football dans la cour de récré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4 Points- Soleil dans le c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5 Points - Les parties clés sont indiqu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EZ vos points !  L'équipe gagnante obtient un prix 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hape 52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8154-274D-43F5-BF51-67BFAF9FA7BD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5 critères pour les objec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191919"/>
                </a:solidFill>
                <a:latin typeface="Arial"/>
              </a:rPr>
              <a:t>Les meilleurs objectifs sont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1. </a:t>
            </a:r>
            <a:r>
              <a:rPr b="1" lang="fr-FR" sz="2200" spc="-1" strike="noStrike">
                <a:solidFill>
                  <a:srgbClr val="191919"/>
                </a:solidFill>
                <a:latin typeface="Arial"/>
              </a:rPr>
              <a:t>S</a:t>
            </a: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pécif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2. </a:t>
            </a:r>
            <a:r>
              <a:rPr b="1" lang="fr-FR" sz="2200" spc="-1" strike="noStrike">
                <a:solidFill>
                  <a:srgbClr val="191919"/>
                </a:solidFill>
                <a:latin typeface="Arial"/>
              </a:rPr>
              <a:t>M</a:t>
            </a: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esur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3. </a:t>
            </a:r>
            <a:r>
              <a:rPr b="1" lang="fr-FR" sz="2200" spc="-1" strike="noStrike">
                <a:solidFill>
                  <a:srgbClr val="191919"/>
                </a:solidFill>
                <a:latin typeface="Arial"/>
              </a:rPr>
              <a:t>A</a:t>
            </a: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chievable (Réalis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4. </a:t>
            </a:r>
            <a:r>
              <a:rPr b="1" lang="fr-FR" sz="2200" spc="-1" strike="noStrike">
                <a:solidFill>
                  <a:srgbClr val="191919"/>
                </a:solidFill>
                <a:latin typeface="Arial"/>
              </a:rPr>
              <a:t>R</a:t>
            </a: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elevant (Pertin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5. </a:t>
            </a:r>
            <a:r>
              <a:rPr b="1" lang="fr-FR" sz="2200" spc="-1" strike="noStrike">
                <a:solidFill>
                  <a:srgbClr val="191919"/>
                </a:solidFill>
                <a:latin typeface="Arial"/>
              </a:rPr>
              <a:t>T</a:t>
            </a: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emporellement défi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hape 59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B042-B121-49B3-AFB7-C5908BF5D2C0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 – SMART 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40040"/>
            <a:ext cx="8229600" cy="2985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1. Les élèves seront en mesure de comprendre les règles du footb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Est-ce Spécifique, Mesurable, Réalisable, Réaliste, Temporellement défini 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hape 66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1AC5-BD89-423A-B3CB-FCF024DEEB96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 – SMART 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12760"/>
            <a:ext cx="8229600" cy="291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2. Les élèves seront en mesure de montrer comment faire une passe réussie à un coéquipi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191919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hape 73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0445-5DCE-47A7-8EEB-76C7FAA5427D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Arial"/>
              </a:rPr>
              <a:t>Objectifs – SMART 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346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3. Au terme de la leçon, les élèves se familiariseront aux stratégies du footb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hape 80"/>
          <p:cNvSpPr/>
          <p:nvPr/>
        </p:nvSpPr>
        <p:spPr>
          <a:xfrm>
            <a:off x="8556480" y="4749840"/>
            <a:ext cx="5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1C16-8A16-4D2B-A88D-D293B6D06D46}" type="slidenum">
              <a:rPr b="0" lang="fr-FR" sz="1300" spc="-1" strike="noStrike">
                <a:solidFill>
                  <a:srgbClr val="19191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USMANE DIAGNE</dc:creator>
  <dc:description/>
  <dc:language>en-US</dc:language>
  <cp:lastModifiedBy>Sarah Montgomery</cp:lastModifiedBy>
  <dcterms:modified xsi:type="dcterms:W3CDTF">2020-01-16T02:35:47Z</dcterms:modified>
  <cp:revision>16</cp:revision>
  <dc:subject/>
  <dc:title>PowerPoint Presentation</dc:title>
</cp:coreProperties>
</file>