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5A1-7D83-41E2-9934-CD53760C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D723-0A84-436B-BC1A-EEBE2D50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AF7-E641-48C4-B76A-DB3DE7A8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58A-E7A2-4D37-96A2-F566DE4A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DE07-C45C-4CD8-B8FF-3C33F5B2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A8EC-2277-4C97-BE41-93CCF8A7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41F1-AB1A-4220-99D9-0306771E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C7A6-9928-4DC4-9804-D02D5DAA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3300-AA6C-4659-B626-6FFB2D78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6B87-04AA-4BDE-8E54-F5A753A5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6B6-D2D1-427A-B007-98CA8A6E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D813-3A83-46F9-8A34-3AF2D51C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EE/M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ssion 9-</a:t>
            </a:r>
            <a:fld id="{B9D83B77-5396-4890-AB84-C28299073F7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jennifer.hofmann@theirc.org" TargetMode="External"/><Relationship Id="rId2" Type="http://schemas.openxmlformats.org/officeDocument/2006/relationships/hyperlink" Target="mailto:jennifer.hofmann@theirc.org" TargetMode="External"/><Relationship Id="rId3" Type="http://schemas.openxmlformats.org/officeDocument/2006/relationships/hyperlink" Target="mailto:jennifer.hofmann@theirc.org" TargetMode="External"/><Relationship Id="rId4" Type="http://schemas.openxmlformats.org/officeDocument/2006/relationships/hyperlink" Target="mailto:allison@theirc.org" TargetMode="External"/><Relationship Id="rId5" Type="http://schemas.openxmlformats.org/officeDocument/2006/relationships/hyperlink" Target="mailto:allison@theirc.org" TargetMode="External"/><Relationship Id="rId6" Type="http://schemas.openxmlformats.org/officeDocument/2006/relationships/hyperlink" Target="mailto:allison@theirc.org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52280" y="0"/>
            <a:ext cx="929628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80880"/>
            <a:ext cx="8915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Conclusions et Evalua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INEE - Interagency Network for Education in Emergnecies"/>
          <p:cNvPicPr/>
          <p:nvPr/>
        </p:nvPicPr>
        <p:blipFill>
          <a:blip r:embed="rId2"/>
          <a:stretch/>
        </p:blipFill>
        <p:spPr>
          <a:xfrm>
            <a:off x="4800600" y="5257800"/>
            <a:ext cx="4037040" cy="766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029200" y="6095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Réseau Inter-Agence pour l’Education en urg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126-7CAC-442A-8CFD-4CD24071EC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bjectifs d’apprentissag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 la fin de la session, les participants pourront 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avoir quelles sont les ressources supplémentaires (et où les trouver) qui les aideront à appliquer les Normes minimales INEE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onner un feedback en remplissant le formulaire d’évaluation afin d’améliorer les formations sur les Normes minimales INEE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7C8D-A938-424B-B050-9B231100C6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A vous de jouer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Le jeu des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questions-réponses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sur les Normes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minimales de l’INE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22876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E8D-CC8A-4C65-A459-8BF7941ED8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ssources INEE </a:t>
            </a:r>
            <a:br>
              <a:rPr sz="40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ww.ineesite.or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tériels de promotion des Normes minimale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uides des bonnes pratiques INE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Kit de ressources de formation de formateu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Kit technique sur l’éducation en situations d’urgence et au début de la reconstru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Pour plus d’informations, consulter le site Internet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iste de diffusion pour partager les expériences et/ou poser des ques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D3B-2365-47CA-BBC3-232972A786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Normes minimales d’INEE ont été conçues pour 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Promouvoir l’éducation comme pilier en situations d’urgence, de crise chronique et de début de reconstruc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Améliorer la qualité, l’accès et la pertinence de l’éducation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Améliorer la transparence, la responsabilisation et la coordination des acteurs éducatif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lles représentent un outil de travail pour </a:t>
            </a:r>
            <a:r>
              <a:rPr b="1" i="1" lang="fr-FR" sz="2400" spc="-1" strike="noStrike">
                <a:solidFill>
                  <a:srgbClr val="000066"/>
                </a:solidFill>
                <a:latin typeface="Arial"/>
              </a:rPr>
              <a:t>vous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et </a:t>
            </a:r>
            <a:r>
              <a:rPr b="1" i="1" lang="fr-FR" sz="2400" spc="-1" strike="noStrike">
                <a:solidFill>
                  <a:srgbClr val="000066"/>
                </a:solidFill>
                <a:latin typeface="Arial"/>
              </a:rPr>
              <a:t>votre travail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dans le domaine de l’éducation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Évaluation initiale des besoins éducatif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onception et planification de programmes éducatif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Suivi, contrôle et évalu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Formation et renforcement des capacité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Plaidoy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Etc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B990-2600-4220-B3D5-3E14BDA435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3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Pour des informations et ressources supplémentaires, n’hésitez pas a contacter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e Capacity Building Manager de l’INEE (Jennifer Hofmann: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ennifer.hofmann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heirc.org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e Point Focal sur les Normes Minimales INEE (Allison Anderson: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llison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@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heirc.org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Merci !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33AF-EAC6-4691-996A-6B6EA75779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3:31:00Z</dcterms:created>
  <dc:creator> Lynne Bethke</dc:creator>
  <dc:description/>
  <dc:language>en-US</dc:language>
  <cp:lastModifiedBy>Shipler</cp:lastModifiedBy>
  <dcterms:modified xsi:type="dcterms:W3CDTF">2009-06-11T10:24:20Z</dcterms:modified>
  <cp:revision>87</cp:revision>
  <dc:subject/>
  <dc:title>Slide 1</dc:title>
</cp:coreProperties>
</file>