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41D7-E822-4C07-95E8-CF36AAFF5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B329-62DB-4842-BDF7-282A913F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n should be reviewed and updated regularly, at least annu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 itself serves as a record of agreements reached during the contingency planning process, and can be used as a basis for managing follow-up actions and communicating results to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the education sector, the Education cluster, including the Ministry of Education, have usually led thi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02BB-3450-4035-BAFC-02BFFD1D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ough the aim with the planning is not a written plan, a written document can be used in a number of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699-ABFF-41E1-BD93-6FA0B55E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ough the aim with the planning is not a written plan, a written document can be used in a number of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F61-8BA8-4952-8C71-7A93590F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gency planning is a process that takes time.  It can start off as an education cluster meeting, lead into a larger workshop or it can be conducted over a period of a 3 day worksh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ontinuous process of analyzing contexts, revising plans and implementing preparedn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gency planning is NOT a process to produce a written plan. It is a process to ensure and enhance proper preparedness, of which a written plan is just one useful el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9D8E-A215-4AE8-8573-FB1DD86B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982880" y="4724280"/>
            <a:ext cx="560844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2800" y="1312560"/>
            <a:ext cx="80438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Contingency Planning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ERCISE: Developing a Contingency Pla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92240" y="1600200"/>
            <a:ext cx="87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Directions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lit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the participants into 6 groups based on the following categories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Arial"/>
              </a:rPr>
              <a:t>Group 1: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Assessment, Monitoring, Evaluation and Information Managem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Arial"/>
              </a:rPr>
              <a:t>Group 2: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Cluster coordination/management and Human Resource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Arial"/>
              </a:rPr>
              <a:t>Group 3: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Teacher Recruitment, Mobilisation, Training, Compens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Arial"/>
              </a:rPr>
              <a:t>Group 4: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Temporary Learning Spaces and Psychosocial support strategi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Arial"/>
              </a:rPr>
              <a:t>Group 5: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Education supplies and logistics and Emergency Education Curricula (formal and non-formal education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Arial"/>
              </a:rPr>
              <a:t>Group 6: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Rehabilitation and Construction of schools and Resumption of formal educ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groups will have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90 minute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complete the Contingency plan worksheet for their group (see Handout 9.1). This includes completing the plan for preparedness and  respons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3.    Large group presentation and discussion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</a:rPr>
              <a:t>(60 minutes)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: Each group presents their ideas to the rest of the group.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ingency planning workshee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0" y="1487520"/>
          <a:ext cx="9144000" cy="4824360"/>
        </p:xfrm>
        <a:graphic>
          <a:graphicData uri="http://schemas.openxmlformats.org/drawingml/2006/table">
            <a:tbl>
              <a:tblPr/>
              <a:tblGrid>
                <a:gridCol w="1898640"/>
                <a:gridCol w="1434960"/>
                <a:gridCol w="1814760"/>
                <a:gridCol w="1744560"/>
                <a:gridCol w="1182600"/>
                <a:gridCol w="1068480"/>
              </a:tblGrid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ness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with INEE Minimum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7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 Recruitment, Mobilisation, Training and Compens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8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 supplies and logistics and Emergency Education Curric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1600200"/>
            <a:ext cx="8312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derstand what is contingency planning and why it is importa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derstand the key components of the contingency planning proces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derstand how to develop a contingency planning docume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gin the contingency planning proces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93480" y="3666960"/>
            <a:ext cx="8459640" cy="27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ften led by technical clusters (i.e. Education cluster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hould include active participation and leadership of government ministry (i.e. Ministry of Education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ne of the key outputs of contingency planning is the development of a contingency planning document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214200" y="1681200"/>
            <a:ext cx="8656920" cy="146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ingency planning is a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n on-going process led by key stakeholders to reflect upon and prepare for various emergency scenario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What is </a:t>
            </a: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ontingency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4"/>
          <p:cNvSpPr/>
          <p:nvPr/>
        </p:nvSpPr>
        <p:spPr>
          <a:xfrm>
            <a:off x="6552000" y="636264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ontingency Planning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06280" y="1600200"/>
            <a:ext cx="856296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’s a key to preparing fo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mergenci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provides an opportunity to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dentify constraints and focus o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perational issues prior to th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-set of a crisi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rengthens coordination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lationships by working together to conduct this proc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ommon understanding of agencies’ capacities and challenges helps facilitate effective collaboration in 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risis. Ensures no overlap or gap of services provid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Mozambique cyclone '07 (5)"/>
          <p:cNvPicPr/>
          <p:nvPr/>
        </p:nvPicPr>
        <p:blipFill>
          <a:blip r:embed="rId1"/>
          <a:stretch/>
        </p:blipFill>
        <p:spPr>
          <a:xfrm>
            <a:off x="5105520" y="147168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o should be involved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520640"/>
            <a:ext cx="83120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those required to work together in the event of an emergenc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uld also include coordination with other sectors (e.g. WASH, Child Protectio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se affected by the response (e.g. students, teach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ducation authorities at the national and local le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rts on areas covered in the plan (e.g. engineers to help with school re-construction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Uses of a Contingency pla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ounded Rectangle 5"/>
          <p:cNvSpPr/>
          <p:nvPr/>
        </p:nvSpPr>
        <p:spPr>
          <a:xfrm>
            <a:off x="198360" y="345924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Capacit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ounded Rectangle 6"/>
          <p:cNvSpPr/>
          <p:nvPr/>
        </p:nvSpPr>
        <p:spPr>
          <a:xfrm>
            <a:off x="247680" y="512136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Monitoring Prepar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ounded Rectangle 7"/>
          <p:cNvSpPr/>
          <p:nvPr/>
        </p:nvSpPr>
        <p:spPr>
          <a:xfrm>
            <a:off x="192240" y="18097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Emergency Risk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2716200" y="3340080"/>
            <a:ext cx="642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greed upon capacity development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crease participants’ awareness of, access to, and use of existing tools (e.g. best practices, templ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2652840" y="5052960"/>
            <a:ext cx="64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 framework for monitoring progress, outcomes, and impact of preparedness meas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5"/>
          <p:cNvSpPr/>
          <p:nvPr/>
        </p:nvSpPr>
        <p:spPr>
          <a:xfrm>
            <a:off x="2584440" y="1662120"/>
            <a:ext cx="655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alyse risks, vulnerability and respons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ntify preparedness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vides a joint platform for involved 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Uses of a Contingency pla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ounded Rectangle 4"/>
          <p:cNvSpPr/>
          <p:nvPr/>
        </p:nvSpPr>
        <p:spPr>
          <a:xfrm>
            <a:off x="287280" y="2114640"/>
            <a:ext cx="2559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Communication  and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8"/>
          <p:cNvSpPr/>
          <p:nvPr/>
        </p:nvSpPr>
        <p:spPr>
          <a:xfrm>
            <a:off x="352440" y="4361040"/>
            <a:ext cx="2487600" cy="814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Mobilising and manag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1"/>
          <p:cNvSpPr/>
          <p:nvPr/>
        </p:nvSpPr>
        <p:spPr>
          <a:xfrm>
            <a:off x="3117960" y="2057400"/>
            <a:ext cx="602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, planning and coordination provides a good platform for communicating and advocating on the importance of education in emergency preparedness initiat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4"/>
          <p:cNvSpPr/>
          <p:nvPr/>
        </p:nvSpPr>
        <p:spPr>
          <a:xfrm>
            <a:off x="3090960" y="4384800"/>
            <a:ext cx="60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herent and well informed plans are a good foundation for dialogue with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ffffff"/>
                </a:solidFill>
                <a:latin typeface="Arial"/>
              </a:rPr>
              <a:t>Contingency planning process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Diagram 5" descr=""/>
          <p:cNvPicPr/>
          <p:nvPr/>
        </p:nvPicPr>
        <p:blipFill>
          <a:blip r:embed="rId1"/>
          <a:stretch/>
        </p:blipFill>
        <p:spPr>
          <a:xfrm>
            <a:off x="-30240" y="1584360"/>
            <a:ext cx="9193320" cy="1519200"/>
          </a:xfrm>
          <a:prstGeom prst="rect">
            <a:avLst/>
          </a:prstGeom>
          <a:ln w="0">
            <a:noFill/>
          </a:ln>
        </p:spPr>
      </p:pic>
      <p:sp>
        <p:nvSpPr>
          <p:cNvPr id="541" name="Rounded Rectangle 9"/>
          <p:cNvSpPr/>
          <p:nvPr/>
        </p:nvSpPr>
        <p:spPr>
          <a:xfrm>
            <a:off x="228600" y="3238560"/>
            <a:ext cx="2057400" cy="33796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379680"/>
              <a:gd name="textAreaBottom" fmla="*/ 3279240 h 3379680"/>
            </a:gdLst>
            <a:ahLst/>
            <a:rect l="textAreaLeft" t="textAreaTop" r="textAreaRight" b="textAreaBottom"/>
            <a:pathLst>
              <a:path w="21600" h="35480">
                <a:moveTo>
                  <a:pt x="3600" y="0"/>
                </a:moveTo>
                <a:arcTo wR="3600" hR="3600" stAng="16200000" swAng="-5400000"/>
                <a:lnTo>
                  <a:pt x="0" y="31880"/>
                </a:lnTo>
                <a:arcTo wR="3600" hR="3600" stAng="10800000" swAng="-5400000"/>
                <a:lnTo>
                  <a:pt x="18000" y="35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d2d8a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8a"/>
                </a:solidFill>
                <a:latin typeface="Arial"/>
              </a:rPr>
              <a:t>- Flooding in 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8a"/>
                </a:solidFill>
                <a:latin typeface="Arial"/>
              </a:rPr>
              <a:t>- Potential ethnic violence in 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5%  of school-aged population af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 schools dam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10"/>
          <p:cNvSpPr/>
          <p:nvPr/>
        </p:nvSpPr>
        <p:spPr>
          <a:xfrm>
            <a:off x="2421000" y="3255840"/>
            <a:ext cx="1904760" cy="338148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3381480"/>
              <a:gd name="textAreaBottom" fmla="*/ 3288600 h 3381480"/>
            </a:gdLst>
            <a:ahLst/>
            <a:rect l="textAreaLeft" t="textAreaTop" r="textAreaRight" b="textAreaBottom"/>
            <a:pathLst>
              <a:path w="21600" h="38343">
                <a:moveTo>
                  <a:pt x="3600" y="0"/>
                </a:moveTo>
                <a:arcTo wR="3600" hR="3600" stAng="16200000" swAng="-5400000"/>
                <a:lnTo>
                  <a:pt x="0" y="34743"/>
                </a:lnTo>
                <a:arcTo wR="3600" hR="3600" stAng="10800000" swAng="-5400000"/>
                <a:lnTo>
                  <a:pt x="18000" y="38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11"/>
          <p:cNvSpPr/>
          <p:nvPr/>
        </p:nvSpPr>
        <p:spPr>
          <a:xfrm>
            <a:off x="4478400" y="3290760"/>
            <a:ext cx="2057400" cy="32734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273480"/>
              <a:gd name="textAreaBottom" fmla="*/ 3173040 h 3273480"/>
            </a:gdLst>
            <a:ahLst/>
            <a:rect l="textAreaLeft" t="textAreaTop" r="textAreaRight" b="textAreaBottom"/>
            <a:pathLst>
              <a:path w="21600" h="34365">
                <a:moveTo>
                  <a:pt x="3600" y="0"/>
                </a:moveTo>
                <a:arcTo wR="3600" hR="3600" stAng="16200000" swAng="-5400000"/>
                <a:lnTo>
                  <a:pt x="0" y="30765"/>
                </a:lnTo>
                <a:arcTo wR="3600" hR="3600" stAng="10800000" swAng="-5400000"/>
                <a:lnTo>
                  <a:pt x="18000" y="34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tingency planning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EE Minimum Standards fo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12"/>
          <p:cNvSpPr/>
          <p:nvPr/>
        </p:nvSpPr>
        <p:spPr>
          <a:xfrm>
            <a:off x="6781680" y="3238560"/>
            <a:ext cx="2057400" cy="33256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325680"/>
              <a:gd name="textAreaBottom" fmla="*/ 3225240 h 3325680"/>
            </a:gdLst>
            <a:ahLst/>
            <a:rect l="textAreaLeft" t="textAreaTop" r="textAreaRight" b="textAreaBottom"/>
            <a:pathLst>
              <a:path w="21600" h="34913">
                <a:moveTo>
                  <a:pt x="3600" y="0"/>
                </a:moveTo>
                <a:arcTo wR="3600" hR="3600" stAng="16200000" swAng="-5400000"/>
                <a:lnTo>
                  <a:pt x="0" y="31313"/>
                </a:lnTo>
                <a:arcTo wR="3600" hR="3600" stAng="10800000" swAng="-5400000"/>
                <a:lnTo>
                  <a:pt x="18000" y="34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paredness check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lementation mid-term re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2451240" y="3425760"/>
            <a:ext cx="180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Ws – Who does what where (Capacity Map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 Lessons Learned 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ERCISE: Lessons Learne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92240" y="1492200"/>
            <a:ext cx="89517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Directions: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Split the participants into 5 groups of approximately 5-6 peopl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ach group will work on 2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of the INEE Minimum Standards domai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Group 1: Foundational Standards and Access and Learning Environm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Group 2: Access and Learning Environment and Teaching and Learning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Group 3: Teaching and Learning and Teachers and other Education Personn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Group 4: Teachers and other Educational Personnel and Education Polic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Group 5: Education Policy and Foundational Standard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Reflect upon and answer the following questions (write response on flip chart)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</a:rPr>
              <a:t>(60 minute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Did the previous emergency response meet the standards in that domain?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If yes, could this be improved upon? How?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86960" indent="-338760">
              <a:spcBef>
                <a:spcPts val="400"/>
              </a:spcBef>
              <a:buClr>
                <a:srgbClr val="0000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If no, do they think it is realistic in the context to reach the standard if there were another emergency? How?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4.    Gallery Walk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</a:rPr>
              <a:t>(20 minute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12:30Z</dcterms:created>
  <dc:creator>Lynne Bethke</dc:creator>
  <dc:description/>
  <dc:language>en-US</dc:language>
  <cp:lastModifiedBy>IRCUSER</cp:lastModifiedBy>
  <dcterms:modified xsi:type="dcterms:W3CDTF">2011-07-25T19:58:41Z</dcterms:modified>
  <cp:revision>243</cp:revision>
  <dc:subject/>
  <dc:title>Contingency Plan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11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