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ftr" idx="10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ftr" idx="11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6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12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09cff"/>
              </a:gs>
              <a:gs pos="100000">
                <a:srgbClr val="dae1ff"/>
              </a:gs>
            </a:gsLst>
            <a:lin ang="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1892160" y="4191120"/>
            <a:ext cx="5608800" cy="609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25560"/>
            <a:ext cx="9144000" cy="144756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3"/>
          </p:nvPr>
        </p:nvSpPr>
        <p:spPr>
          <a:xfrm>
            <a:off x="463680" y="6400440"/>
            <a:ext cx="82296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4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ftr" idx="6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ftr" idx="7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ftr" idx="8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ftr" idx="9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Arial"/>
              </a:rPr>
              <a:t>Education in Emergencies Monitoring Programmes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6840" y="1600200"/>
            <a:ext cx="8312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onitoring is a critical component of programme design and continuous monitoring will improve both accountability and quality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s an essential part of the INEE minimum standards, monitoring is utilised to measure progress towards attaining the standard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onitoring can measure the progress, results and impact of programme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Footer Placeholder 4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Monitor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148284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onitoring is a process of tracking or measuring what is happening in programmes or activities being conducted. It includes measuring progress of an intervention and measuring change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1" name="Footer Placeholder 3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2" descr=""/>
          <p:cNvPicPr/>
          <p:nvPr/>
        </p:nvPicPr>
        <p:blipFill>
          <a:blip r:embed="rId1"/>
          <a:stretch/>
        </p:blipFill>
        <p:spPr>
          <a:xfrm>
            <a:off x="2249640" y="3352680"/>
            <a:ext cx="4454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urpose of Monitor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o provide information to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mprove programme performance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o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provide accountability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in terms of the implementation running according to plan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o serve as an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put to evaluation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o aid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 broader advocacy efforts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o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 strengthen policies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nd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 programmes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aimed at the rights of children and women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Footer Placeholder 3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What does Monitoring Measur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progres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output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of the activity (e.g. schools are reopening, are children attending lessons, school tents have been erected)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outcome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of the activity (enrolment rates have increased, learning is taking place in the classroom, children have increased knowledge on health and hygiene issues)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impact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of the activity (increased pass rates, a decrease in repeaters, less instances of diarrhoea etc)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Side effect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(The unintended consequences of an intervention such as the stigmatisation of children)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8" name="Footer Placeholder 3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ndicator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What are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Indicator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n indicator is an objective way of measuring progress through collecting factual informat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ndicators are measurable or tangible signs that something has been done or that something has been achieved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ata collected about the indicator tells us if the expected change has happened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ndicators should be sensitive to cross cutting issues such as gender and inclusiveness 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1" name="Footer Placeholder 3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Monitoring Pla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457200" y="1600200"/>
          <a:ext cx="8299440" cy="2112840"/>
        </p:xfrm>
        <a:graphic>
          <a:graphicData uri="http://schemas.openxmlformats.org/drawingml/2006/table">
            <a:tbl>
              <a:tblPr/>
              <a:tblGrid>
                <a:gridCol w="1758960"/>
                <a:gridCol w="1608120"/>
                <a:gridCol w="1523880"/>
                <a:gridCol w="1621080"/>
                <a:gridCol w="1787400"/>
              </a:tblGrid>
              <a:tr h="650880">
                <a:tc>
                  <a:txBody>
                    <a:bodyPr lIns="42480" rIns="42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Indic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Time Period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Frequ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Assumptions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Ris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Key Stakehol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461960">
                <a:tc>
                  <a:txBody>
                    <a:bodyPr lIns="42480" rIns="42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2480" rIns="42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2480" rIns="42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2480" rIns="42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2480" rIns="42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524" name=""/>
          <p:cNvSpPr txBox="1"/>
          <p:nvPr/>
        </p:nvSpPr>
        <p:spPr>
          <a:xfrm>
            <a:off x="498240" y="3850920"/>
            <a:ext cx="8188200" cy="22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elect </a:t>
            </a:r>
            <a:r>
              <a:rPr b="1" i="1" lang="en-GB" sz="2800" spc="-1" strike="noStrike">
                <a:solidFill>
                  <a:srgbClr val="000066"/>
                </a:solidFill>
                <a:latin typeface="Arial"/>
              </a:rPr>
              <a:t>two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programme intervention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ncentrate on the </a:t>
            </a:r>
            <a:r>
              <a:rPr b="1" i="1" lang="en-GB" sz="2800" spc="-1" strike="noStrike">
                <a:solidFill>
                  <a:srgbClr val="000066"/>
                </a:solidFill>
                <a:latin typeface="Arial"/>
              </a:rPr>
              <a:t>progress, outputs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i="1" lang="en-GB" sz="2800" spc="-1" strike="noStrike">
                <a:solidFill>
                  <a:srgbClr val="000066"/>
                </a:solidFill>
                <a:latin typeface="Arial"/>
              </a:rPr>
              <a:t>outcomes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of the intervention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66"/>
                </a:solidFill>
                <a:latin typeface="Arial"/>
              </a:rPr>
              <a:t>15 minute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5" name="Footer Placeholder 3"/>
          <p:cNvSpPr/>
          <p:nvPr/>
        </p:nvSpPr>
        <p:spPr>
          <a:xfrm>
            <a:off x="463680" y="6400800"/>
            <a:ext cx="8254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16002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nitoring is a process of gathering information to measure whether an intervention has achieved its objectives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ducation indicators outline key quantitative measures of activities and programme initiative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education sector/cluster supports the MoE to ensure the collection of quality and reliable monitoring data - used to identify gaps and target need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nitoring is critical for measuring progress towards attaining the INEE minimum standard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ntinuous monitoring help improve programme accountability and quality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Footer Placeholder 3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23:31:00Z</dcterms:created>
  <dc:creator>Lynne Bethke</dc:creator>
  <dc:description/>
  <dc:language>en-US</dc:language>
  <cp:lastModifiedBy>IRCUSER</cp:lastModifiedBy>
  <dcterms:modified xsi:type="dcterms:W3CDTF">2011-07-25T19:49:02Z</dcterms:modified>
  <cp:revision>364</cp:revision>
  <dc:subject/>
  <dc:title>Education in Emergencies Monitoring Programme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Tool</vt:lpwstr>
  </property>
  <property fmtid="{D5CDD505-2E9C-101B-9397-08002B2CF9AE}" pid="3" name="ContentTypeId">
    <vt:lpwstr>0x010100D52189832E060742ABF7774652D4F97600F4F0EE4DD1CB634A8A778A62A6605817030048D4E980AFB26F42AC0EE168ACE89204</vt:lpwstr>
  </property>
  <property fmtid="{D5CDD505-2E9C-101B-9397-08002B2CF9AE}" pid="4" name="ORClusterCAS">
    <vt:lpwstr/>
  </property>
  <property fmtid="{D5CDD505-2E9C-101B-9397-08002B2CF9AE}" pid="5" name="ORClusterMultiLookup">
    <vt:lpwstr/>
  </property>
  <property fmtid="{D5CDD505-2E9C-101B-9397-08002B2CF9AE}" pid="6" name="ORClusterMultiLookupText">
    <vt:lpwstr/>
  </property>
  <property fmtid="{D5CDD505-2E9C-101B-9397-08002B2CF9AE}" pid="7" name="ORCoordinateX">
    <vt:lpwstr/>
  </property>
  <property fmtid="{D5CDD505-2E9C-101B-9397-08002B2CF9AE}" pid="8" name="ORCoordinateY">
    <vt:lpwstr/>
  </property>
  <property fmtid="{D5CDD505-2E9C-101B-9397-08002B2CF9AE}" pid="9" name="ORCopyRight">
    <vt:lpwstr/>
  </property>
  <property fmtid="{D5CDD505-2E9C-101B-9397-08002B2CF9AE}" pid="10" name="ORCountryDivMultiLookup">
    <vt:lpwstr/>
  </property>
  <property fmtid="{D5CDD505-2E9C-101B-9397-08002B2CF9AE}" pid="11" name="ORCountryMultiLookup">
    <vt:lpwstr/>
  </property>
  <property fmtid="{D5CDD505-2E9C-101B-9397-08002B2CF9AE}" pid="12" name="ORCreationDate">
    <vt:lpwstr>2011-01-11T00:00:00Z</vt:lpwstr>
  </property>
  <property fmtid="{D5CDD505-2E9C-101B-9397-08002B2CF9AE}" pid="13" name="ORCrossCuttingMultiLookup">
    <vt:lpwstr/>
  </property>
  <property fmtid="{D5CDD505-2E9C-101B-9397-08002B2CF9AE}" pid="14" name="ORDisasterLookup">
    <vt:lpwstr/>
  </property>
  <property fmtid="{D5CDD505-2E9C-101B-9397-08002B2CF9AE}" pid="15" name="ORDistribution">
    <vt:lpwstr/>
  </property>
  <property fmtid="{D5CDD505-2E9C-101B-9397-08002B2CF9AE}" pid="16" name="ORGLIDENumber">
    <vt:lpwstr/>
  </property>
  <property fmtid="{D5CDD505-2E9C-101B-9397-08002B2CF9AE}" pid="17" name="ORKeydocument">
    <vt:lpwstr>0</vt:lpwstr>
  </property>
  <property fmtid="{D5CDD505-2E9C-101B-9397-08002B2CF9AE}" pid="18" name="ORKeywordsMultiLookup">
    <vt:lpwstr>9;#Education;#47;#Emergency</vt:lpwstr>
  </property>
  <property fmtid="{D5CDD505-2E9C-101B-9397-08002B2CF9AE}" pid="19" name="ORLanguageLookup">
    <vt:lpwstr>3</vt:lpwstr>
  </property>
  <property fmtid="{D5CDD505-2E9C-101B-9397-08002B2CF9AE}" pid="20" name="ORLocationCAS">
    <vt:lpwstr/>
  </property>
  <property fmtid="{D5CDD505-2E9C-101B-9397-08002B2CF9AE}" pid="21" name="ORPCODES2MultiLookup">
    <vt:lpwstr/>
  </property>
  <property fmtid="{D5CDD505-2E9C-101B-9397-08002B2CF9AE}" pid="22" name="ORPCODESMultiLookup">
    <vt:lpwstr/>
  </property>
  <property fmtid="{D5CDD505-2E9C-101B-9397-08002B2CF9AE}" pid="23" name="ORParentContentType">
    <vt:lpwstr>Training and Resource</vt:lpwstr>
  </property>
  <property fmtid="{D5CDD505-2E9C-101B-9397-08002B2CF9AE}" pid="24" name="ORRegionMultiLookup">
    <vt:lpwstr/>
  </property>
  <property fmtid="{D5CDD505-2E9C-101B-9397-08002B2CF9AE}" pid="25" name="ORSubClusterMultiLookup">
    <vt:lpwstr/>
  </property>
  <property fmtid="{D5CDD505-2E9C-101B-9397-08002B2CF9AE}" pid="26" name="ORSupplierLookup">
    <vt:lpwstr>0</vt:lpwstr>
  </property>
  <property fmtid="{D5CDD505-2E9C-101B-9397-08002B2CF9AE}" pid="27" name="PublishingExpirationDate">
    <vt:lpwstr/>
  </property>
  <property fmtid="{D5CDD505-2E9C-101B-9397-08002B2CF9AE}" pid="28" name="PublishingRollupImage">
    <vt:lpwstr/>
  </property>
  <property fmtid="{D5CDD505-2E9C-101B-9397-08002B2CF9AE}" pid="29" name="PublishingStartDate">
    <vt:lpwstr/>
  </property>
</Properties>
</file>