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10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108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1828800" y="4764240"/>
            <a:ext cx="5594400" cy="590400"/>
            <a:chOff x="1828800" y="4764240"/>
            <a:chExt cx="5594400" cy="590400"/>
          </a:xfrm>
        </p:grpSpPr>
        <p:pic>
          <p:nvPicPr>
            <p:cNvPr id="46" name="Picture 9" descr="Global_Education_CMYK.jpg"/>
            <p:cNvPicPr/>
            <p:nvPr/>
          </p:nvPicPr>
          <p:blipFill>
            <a:blip r:embed="rId2"/>
            <a:stretch/>
          </p:blipFill>
          <p:spPr>
            <a:xfrm>
              <a:off x="1828800" y="4764240"/>
              <a:ext cx="24825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0" descr=""/>
            <p:cNvPicPr/>
            <p:nvPr/>
          </p:nvPicPr>
          <p:blipFill>
            <a:blip r:embed="rId3"/>
            <a:stretch/>
          </p:blipFill>
          <p:spPr>
            <a:xfrm>
              <a:off x="4345920" y="4768200"/>
              <a:ext cx="3077280" cy="58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25560"/>
            <a:ext cx="9144000" cy="144756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463680" y="64004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4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5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6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7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8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9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MERGENC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10600" y="1585800"/>
            <a:ext cx="431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maland affected by political inst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undreds of thousands of people flee civil unre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omaland inundated by refuge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overnment calls for international help with refugee cris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Footer Placeholder 6"/>
          <p:cNvSpPr/>
          <p:nvPr/>
        </p:nvSpPr>
        <p:spPr>
          <a:xfrm>
            <a:off x="463680" y="63864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"/>
          <p:cNvPicPr/>
          <p:nvPr/>
        </p:nvPicPr>
        <p:blipFill>
          <a:blip r:embed="rId1"/>
          <a:stretch/>
        </p:blipFill>
        <p:spPr>
          <a:xfrm>
            <a:off x="5495760" y="1636560"/>
            <a:ext cx="2934000" cy="2240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"/>
          <p:cNvPicPr/>
          <p:nvPr/>
        </p:nvPicPr>
        <p:blipFill>
          <a:blip r:embed="rId2"/>
          <a:stretch/>
        </p:blipFill>
        <p:spPr>
          <a:xfrm>
            <a:off x="5745240" y="4033800"/>
            <a:ext cx="265896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ivil Unrest in Momaland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72 Hour Upda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maland is a landlocked country bordered by Romaland to the south and east.  Government retaliation for pro-democracy protests has forced many to flee into neighbouring Romala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most severely affected districts are those that border Momaland, which are District 1, District 2, and District 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ivil Unrest in Momaland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72 Hour Upda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516120" y="1599840"/>
            <a:ext cx="5445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olitical instability shows no sign of resolution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00,000 people have been affected, approximately 100,000 of these have fled to neighbouring Romalan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fugee camps are being set up, Romaland Government unable to cop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Footer Placeholder 6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"/>
          <p:cNvPicPr/>
          <p:nvPr/>
        </p:nvPicPr>
        <p:blipFill>
          <a:blip r:embed="rId1"/>
          <a:stretch/>
        </p:blipFill>
        <p:spPr>
          <a:xfrm>
            <a:off x="272880" y="1530360"/>
            <a:ext cx="2941920" cy="2340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8" descr=""/>
          <p:cNvPicPr/>
          <p:nvPr/>
        </p:nvPicPr>
        <p:blipFill>
          <a:blip r:embed="rId2"/>
          <a:stretch/>
        </p:blipFill>
        <p:spPr>
          <a:xfrm>
            <a:off x="306360" y="4019400"/>
            <a:ext cx="290340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ivil Unrest in Momaland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72 Hour Upda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20560" y="1715760"/>
            <a:ext cx="83138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District 1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50,000 people have relocated from the border area of Momaland into District 1 of Romalan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District 2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30,000 people have migrated from Momaland into District 2 of Romaland with majority occupying school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District 3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10,000 people have fled Momaland into spontaneous camps of District 3 of Romalan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14360" y="151920"/>
            <a:ext cx="83772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p of Romala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7"/>
          <p:cNvSpPr/>
          <p:nvPr/>
        </p:nvSpPr>
        <p:spPr>
          <a:xfrm>
            <a:off x="2928960" y="3470400"/>
            <a:ext cx="5354640" cy="2886120"/>
          </a:xfrm>
          <a:custGeom>
            <a:avLst/>
            <a:gdLst/>
            <a:ahLst/>
            <a:rect l="l" t="t" r="r" b="b"/>
            <a:pathLst>
              <a:path w="5355101" h="2886222">
                <a:moveTo>
                  <a:pt x="757310" y="128954"/>
                </a:moveTo>
                <a:cubicBezTo>
                  <a:pt x="595532" y="35170"/>
                  <a:pt x="318867" y="0"/>
                  <a:pt x="194603" y="86751"/>
                </a:cubicBezTo>
                <a:cubicBezTo>
                  <a:pt x="70339" y="173502"/>
                  <a:pt x="23446" y="457200"/>
                  <a:pt x="11723" y="649458"/>
                </a:cubicBezTo>
                <a:cubicBezTo>
                  <a:pt x="0" y="841716"/>
                  <a:pt x="23446" y="1045698"/>
                  <a:pt x="124264" y="1240301"/>
                </a:cubicBezTo>
                <a:cubicBezTo>
                  <a:pt x="225082" y="1434904"/>
                  <a:pt x="398584" y="1692812"/>
                  <a:pt x="616633" y="1817077"/>
                </a:cubicBezTo>
                <a:cubicBezTo>
                  <a:pt x="834682" y="1941342"/>
                  <a:pt x="1113692" y="1974166"/>
                  <a:pt x="1432560" y="1985889"/>
                </a:cubicBezTo>
                <a:cubicBezTo>
                  <a:pt x="1751428" y="1997612"/>
                  <a:pt x="2295378" y="1847556"/>
                  <a:pt x="2529840" y="1887415"/>
                </a:cubicBezTo>
                <a:cubicBezTo>
                  <a:pt x="2764302" y="1927274"/>
                  <a:pt x="2715065" y="2105465"/>
                  <a:pt x="2839329" y="2225040"/>
                </a:cubicBezTo>
                <a:cubicBezTo>
                  <a:pt x="2963593" y="2344615"/>
                  <a:pt x="3123027" y="2572042"/>
                  <a:pt x="3275427" y="2604867"/>
                </a:cubicBezTo>
                <a:cubicBezTo>
                  <a:pt x="3427827" y="2637692"/>
                  <a:pt x="3493477" y="2400885"/>
                  <a:pt x="3753729" y="2421987"/>
                </a:cubicBezTo>
                <a:cubicBezTo>
                  <a:pt x="4013981" y="2443089"/>
                  <a:pt x="4574344" y="2886222"/>
                  <a:pt x="4836941" y="2731477"/>
                </a:cubicBezTo>
                <a:cubicBezTo>
                  <a:pt x="5099538" y="2576733"/>
                  <a:pt x="5303519" y="1852246"/>
                  <a:pt x="5329310" y="1493520"/>
                </a:cubicBezTo>
                <a:cubicBezTo>
                  <a:pt x="5355101" y="1134794"/>
                  <a:pt x="5336344" y="769034"/>
                  <a:pt x="4991686" y="579120"/>
                </a:cubicBezTo>
                <a:cubicBezTo>
                  <a:pt x="4647028" y="389206"/>
                  <a:pt x="3638843" y="436098"/>
                  <a:pt x="3261360" y="354037"/>
                </a:cubicBezTo>
                <a:cubicBezTo>
                  <a:pt x="2883877" y="271976"/>
                  <a:pt x="3076135" y="37514"/>
                  <a:pt x="2726787" y="86751"/>
                </a:cubicBezTo>
                <a:cubicBezTo>
                  <a:pt x="2377439" y="135988"/>
                  <a:pt x="1493519" y="642424"/>
                  <a:pt x="1165273" y="649458"/>
                </a:cubicBezTo>
                <a:cubicBezTo>
                  <a:pt x="837027" y="656492"/>
                  <a:pt x="919088" y="222738"/>
                  <a:pt x="757310" y="128954"/>
                </a:cubicBezTo>
                <a:close/>
              </a:path>
            </a:pathLst>
          </a:custGeom>
          <a:solidFill>
            <a:srgbClr val="a3a3e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4"/>
          <p:cNvSpPr/>
          <p:nvPr/>
        </p:nvSpPr>
        <p:spPr>
          <a:xfrm rot="19785000">
            <a:off x="3543120" y="1793520"/>
            <a:ext cx="4027320" cy="3186000"/>
          </a:xfrm>
          <a:custGeom>
            <a:avLst/>
            <a:gdLst/>
            <a:ahLst/>
            <a:rect l="l" t="t" r="r" b="b"/>
            <a:pathLst>
              <a:path w="5193324" h="4546210">
                <a:moveTo>
                  <a:pt x="855785" y="1062111"/>
                </a:moveTo>
                <a:cubicBezTo>
                  <a:pt x="1291883" y="907366"/>
                  <a:pt x="2482948" y="0"/>
                  <a:pt x="3022209" y="260252"/>
                </a:cubicBezTo>
                <a:cubicBezTo>
                  <a:pt x="3561471" y="520504"/>
                  <a:pt x="3772486" y="2182837"/>
                  <a:pt x="4091354" y="2623625"/>
                </a:cubicBezTo>
                <a:cubicBezTo>
                  <a:pt x="4410222" y="3064413"/>
                  <a:pt x="4759570" y="2790093"/>
                  <a:pt x="4935416" y="2904979"/>
                </a:cubicBezTo>
                <a:cubicBezTo>
                  <a:pt x="5111262" y="3019865"/>
                  <a:pt x="5146431" y="3090204"/>
                  <a:pt x="5146431" y="3312942"/>
                </a:cubicBezTo>
                <a:cubicBezTo>
                  <a:pt x="5146431" y="3535680"/>
                  <a:pt x="5193324" y="4037427"/>
                  <a:pt x="4935416" y="4241409"/>
                </a:cubicBezTo>
                <a:cubicBezTo>
                  <a:pt x="4677508" y="4445391"/>
                  <a:pt x="3983502" y="4527453"/>
                  <a:pt x="3598985" y="4536831"/>
                </a:cubicBezTo>
                <a:cubicBezTo>
                  <a:pt x="3214468" y="4546210"/>
                  <a:pt x="2916702" y="4450080"/>
                  <a:pt x="2628314" y="4297680"/>
                </a:cubicBezTo>
                <a:cubicBezTo>
                  <a:pt x="2339926" y="4145280"/>
                  <a:pt x="2009336" y="3840480"/>
                  <a:pt x="1868659" y="3622431"/>
                </a:cubicBezTo>
                <a:cubicBezTo>
                  <a:pt x="1727982" y="3404382"/>
                  <a:pt x="2049194" y="3186333"/>
                  <a:pt x="1784252" y="2989385"/>
                </a:cubicBezTo>
                <a:cubicBezTo>
                  <a:pt x="1519310" y="2792437"/>
                  <a:pt x="558018" y="2630659"/>
                  <a:pt x="279009" y="2440745"/>
                </a:cubicBezTo>
                <a:cubicBezTo>
                  <a:pt x="0" y="2250831"/>
                  <a:pt x="91440" y="2011681"/>
                  <a:pt x="110197" y="1849902"/>
                </a:cubicBezTo>
                <a:cubicBezTo>
                  <a:pt x="128954" y="1688124"/>
                  <a:pt x="342314" y="1580271"/>
                  <a:pt x="391551" y="1470074"/>
                </a:cubicBezTo>
                <a:cubicBezTo>
                  <a:pt x="440788" y="1359877"/>
                  <a:pt x="328247" y="1254369"/>
                  <a:pt x="405619" y="1188720"/>
                </a:cubicBezTo>
                <a:cubicBezTo>
                  <a:pt x="482991" y="1123071"/>
                  <a:pt x="419687" y="1216856"/>
                  <a:pt x="855785" y="1062111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3"/>
          <p:cNvGrpSpPr/>
          <p:nvPr/>
        </p:nvGrpSpPr>
        <p:grpSpPr>
          <a:xfrm>
            <a:off x="1016280" y="1817640"/>
            <a:ext cx="6956640" cy="3950280"/>
            <a:chOff x="1016280" y="1817640"/>
            <a:chExt cx="6956640" cy="3950280"/>
          </a:xfrm>
        </p:grpSpPr>
        <p:sp>
          <p:nvSpPr>
            <p:cNvPr id="528" name="TextBox 8"/>
            <p:cNvSpPr/>
            <p:nvPr/>
          </p:nvSpPr>
          <p:spPr>
            <a:xfrm>
              <a:off x="4734360" y="253188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oma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9"/>
            <p:cNvSpPr/>
            <p:nvPr/>
          </p:nvSpPr>
          <p:spPr>
            <a:xfrm>
              <a:off x="6687360" y="539964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oma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 rot="20241000">
              <a:off x="3267000" y="4511520"/>
              <a:ext cx="1235160" cy="573120"/>
            </a:xfrm>
            <a:custGeom>
              <a:avLst/>
              <a:gdLst/>
              <a:ahLst/>
              <a:rect l="l" t="t" r="r" b="b"/>
              <a:pathLst>
                <a:path w="1201118" h="480448">
                  <a:moveTo>
                    <a:pt x="0" y="406831"/>
                  </a:moveTo>
                  <a:cubicBezTo>
                    <a:pt x="138193" y="443639"/>
                    <a:pt x="276387" y="480448"/>
                    <a:pt x="356461" y="445577"/>
                  </a:cubicBezTo>
                  <a:cubicBezTo>
                    <a:pt x="436536" y="410706"/>
                    <a:pt x="411996" y="245391"/>
                    <a:pt x="480447" y="197604"/>
                  </a:cubicBezTo>
                  <a:cubicBezTo>
                    <a:pt x="548898" y="149818"/>
                    <a:pt x="698715" y="188563"/>
                    <a:pt x="767166" y="158858"/>
                  </a:cubicBezTo>
                  <a:cubicBezTo>
                    <a:pt x="835617" y="129153"/>
                    <a:pt x="818827" y="38746"/>
                    <a:pt x="891152" y="19373"/>
                  </a:cubicBezTo>
                  <a:cubicBezTo>
                    <a:pt x="963477" y="0"/>
                    <a:pt x="1082297" y="21310"/>
                    <a:pt x="1201118" y="42621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"/>
            <p:cNvSpPr/>
            <p:nvPr/>
          </p:nvSpPr>
          <p:spPr>
            <a:xfrm>
              <a:off x="5362560" y="4572000"/>
              <a:ext cx="395280" cy="806400"/>
            </a:xfrm>
            <a:custGeom>
              <a:avLst/>
              <a:gdLst/>
              <a:ahLst/>
              <a:rect l="l" t="t" r="r" b="b"/>
              <a:pathLst>
                <a:path w="432661" h="736170">
                  <a:moveTo>
                    <a:pt x="432661" y="0"/>
                  </a:moveTo>
                  <a:cubicBezTo>
                    <a:pt x="421683" y="95572"/>
                    <a:pt x="410705" y="191145"/>
                    <a:pt x="378417" y="271220"/>
                  </a:cubicBezTo>
                  <a:cubicBezTo>
                    <a:pt x="346129" y="351295"/>
                    <a:pt x="293176" y="435245"/>
                    <a:pt x="238932" y="480448"/>
                  </a:cubicBezTo>
                  <a:cubicBezTo>
                    <a:pt x="184688" y="525651"/>
                    <a:pt x="91699" y="508862"/>
                    <a:pt x="52953" y="542441"/>
                  </a:cubicBezTo>
                  <a:cubicBezTo>
                    <a:pt x="14207" y="576021"/>
                    <a:pt x="12916" y="649637"/>
                    <a:pt x="6458" y="681925"/>
                  </a:cubicBezTo>
                  <a:cubicBezTo>
                    <a:pt x="0" y="714213"/>
                    <a:pt x="7103" y="725191"/>
                    <a:pt x="14207" y="73617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"/>
            <p:cNvSpPr/>
            <p:nvPr/>
          </p:nvSpPr>
          <p:spPr>
            <a:xfrm>
              <a:off x="4564080" y="4184640"/>
              <a:ext cx="649080" cy="1309680"/>
            </a:xfrm>
            <a:custGeom>
              <a:avLst/>
              <a:gdLst/>
              <a:ahLst/>
              <a:rect l="l" t="t" r="r" b="b"/>
              <a:pathLst>
                <a:path w="749084" h="666427">
                  <a:moveTo>
                    <a:pt x="534692" y="0"/>
                  </a:moveTo>
                  <a:cubicBezTo>
                    <a:pt x="641888" y="35516"/>
                    <a:pt x="749084" y="71033"/>
                    <a:pt x="681925" y="131735"/>
                  </a:cubicBezTo>
                  <a:cubicBezTo>
                    <a:pt x="614766" y="192437"/>
                    <a:pt x="245390" y="275095"/>
                    <a:pt x="131736" y="364210"/>
                  </a:cubicBezTo>
                  <a:cubicBezTo>
                    <a:pt x="18082" y="453325"/>
                    <a:pt x="9041" y="559876"/>
                    <a:pt x="0" y="666427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Isosceles Triangle 15"/>
            <p:cNvSpPr/>
            <p:nvPr/>
          </p:nvSpPr>
          <p:spPr>
            <a:xfrm>
              <a:off x="4897440" y="4176720"/>
              <a:ext cx="139680" cy="185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Isosceles Triangle 16"/>
            <p:cNvSpPr/>
            <p:nvPr/>
          </p:nvSpPr>
          <p:spPr>
            <a:xfrm>
              <a:off x="5259600" y="4127400"/>
              <a:ext cx="139680" cy="185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Isosceles Triangle 17"/>
            <p:cNvSpPr/>
            <p:nvPr/>
          </p:nvSpPr>
          <p:spPr>
            <a:xfrm>
              <a:off x="5000760" y="4388040"/>
              <a:ext cx="139680" cy="1872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Isosceles Triangle 18"/>
            <p:cNvSpPr/>
            <p:nvPr/>
          </p:nvSpPr>
          <p:spPr>
            <a:xfrm>
              <a:off x="5532480" y="4494240"/>
              <a:ext cx="139680" cy="185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Isosceles Triangle 19"/>
            <p:cNvSpPr/>
            <p:nvPr/>
          </p:nvSpPr>
          <p:spPr>
            <a:xfrm>
              <a:off x="5399280" y="4329000"/>
              <a:ext cx="139680" cy="185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Isosceles Triangle 20"/>
            <p:cNvSpPr/>
            <p:nvPr/>
          </p:nvSpPr>
          <p:spPr>
            <a:xfrm>
              <a:off x="4673520" y="4130640"/>
              <a:ext cx="139680" cy="185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Isosceles Triangle 21"/>
            <p:cNvSpPr/>
            <p:nvPr/>
          </p:nvSpPr>
          <p:spPr>
            <a:xfrm>
              <a:off x="5057640" y="4057560"/>
              <a:ext cx="139680" cy="185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Isosceles Triangle 22"/>
            <p:cNvSpPr/>
            <p:nvPr/>
          </p:nvSpPr>
          <p:spPr>
            <a:xfrm>
              <a:off x="5210280" y="4465800"/>
              <a:ext cx="139680" cy="185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Isosceles Triangle 23"/>
            <p:cNvSpPr/>
            <p:nvPr/>
          </p:nvSpPr>
          <p:spPr>
            <a:xfrm>
              <a:off x="1304640" y="2162160"/>
              <a:ext cx="137880" cy="185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Straight Connector 26"/>
            <p:cNvSpPr/>
            <p:nvPr/>
          </p:nvSpPr>
          <p:spPr>
            <a:xfrm>
              <a:off x="1153800" y="2808000"/>
              <a:ext cx="33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Straight Connector 28"/>
            <p:cNvSpPr/>
            <p:nvPr/>
          </p:nvSpPr>
          <p:spPr>
            <a:xfrm>
              <a:off x="1164960" y="2536560"/>
              <a:ext cx="338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"/>
            <p:cNvSpPr/>
            <p:nvPr/>
          </p:nvSpPr>
          <p:spPr>
            <a:xfrm>
              <a:off x="1016280" y="18176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30"/>
            <p:cNvSpPr/>
            <p:nvPr/>
          </p:nvSpPr>
          <p:spPr>
            <a:xfrm>
              <a:off x="1589400" y="2089800"/>
              <a:ext cx="141516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ou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untry B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istrict B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obama R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31"/>
            <p:cNvSpPr/>
            <p:nvPr/>
          </p:nvSpPr>
          <p:spPr>
            <a:xfrm>
              <a:off x="3148200" y="396252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32"/>
            <p:cNvSpPr/>
            <p:nvPr/>
          </p:nvSpPr>
          <p:spPr>
            <a:xfrm>
              <a:off x="3975480" y="468144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33"/>
            <p:cNvSpPr/>
            <p:nvPr/>
          </p:nvSpPr>
          <p:spPr>
            <a:xfrm>
              <a:off x="4867920" y="48988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5-Point Star 34"/>
            <p:cNvSpPr/>
            <p:nvPr/>
          </p:nvSpPr>
          <p:spPr>
            <a:xfrm>
              <a:off x="5932440" y="2949480"/>
              <a:ext cx="425160" cy="403200"/>
            </a:xfrm>
            <a:custGeom>
              <a:avLst/>
              <a:gdLst>
                <a:gd name="textAreaLeft" fmla="*/ 131400 w 425160"/>
                <a:gd name="textAreaRight" fmla="*/ 293760 w 425160"/>
                <a:gd name="textAreaTop" fmla="*/ 154080 h 403200"/>
                <a:gd name="textAreaBottom" fmla="*/ 308160 h 403200"/>
              </a:gdLst>
              <a:ahLst/>
              <a:rect l="textAreaLeft" t="textAreaTop" r="textAreaRight" b="textAreaBottom"/>
              <a:pathLst>
                <a:path w="425466" h="403203">
                  <a:moveTo>
                    <a:pt x="0" y="154009"/>
                  </a:moveTo>
                  <a:lnTo>
                    <a:pt x="162514" y="154011"/>
                  </a:lnTo>
                  <a:lnTo>
                    <a:pt x="212733" y="0"/>
                  </a:lnTo>
                  <a:lnTo>
                    <a:pt x="262952" y="154011"/>
                  </a:lnTo>
                  <a:lnTo>
                    <a:pt x="425466" y="154009"/>
                  </a:lnTo>
                  <a:lnTo>
                    <a:pt x="293988" y="249192"/>
                  </a:lnTo>
                  <a:lnTo>
                    <a:pt x="344209" y="403202"/>
                  </a:lnTo>
                  <a:lnTo>
                    <a:pt x="212733" y="308018"/>
                  </a:lnTo>
                  <a:lnTo>
                    <a:pt x="81257" y="403202"/>
                  </a:lnTo>
                  <a:lnTo>
                    <a:pt x="131478" y="249192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5-Point Star 35"/>
            <p:cNvSpPr/>
            <p:nvPr/>
          </p:nvSpPr>
          <p:spPr>
            <a:xfrm>
              <a:off x="6967800" y="4767480"/>
              <a:ext cx="423720" cy="403200"/>
            </a:xfrm>
            <a:custGeom>
              <a:avLst/>
              <a:gdLst>
                <a:gd name="textAreaLeft" fmla="*/ 131040 w 423720"/>
                <a:gd name="textAreaRight" fmla="*/ 292680 w 423720"/>
                <a:gd name="textAreaTop" fmla="*/ 154080 h 403200"/>
                <a:gd name="textAreaBottom" fmla="*/ 308160 h 403200"/>
              </a:gdLst>
              <a:ahLst/>
              <a:rect l="textAreaLeft" t="textAreaTop" r="textAreaRight" b="textAreaBottom"/>
              <a:pathLst>
                <a:path w="423878" h="403203">
                  <a:moveTo>
                    <a:pt x="0" y="154009"/>
                  </a:moveTo>
                  <a:lnTo>
                    <a:pt x="161908" y="154011"/>
                  </a:lnTo>
                  <a:lnTo>
                    <a:pt x="211939" y="0"/>
                  </a:lnTo>
                  <a:lnTo>
                    <a:pt x="261970" y="154011"/>
                  </a:lnTo>
                  <a:lnTo>
                    <a:pt x="423878" y="154009"/>
                  </a:lnTo>
                  <a:lnTo>
                    <a:pt x="292891" y="249192"/>
                  </a:lnTo>
                  <a:lnTo>
                    <a:pt x="342925" y="403202"/>
                  </a:lnTo>
                  <a:lnTo>
                    <a:pt x="211939" y="308018"/>
                  </a:lnTo>
                  <a:lnTo>
                    <a:pt x="80953" y="403202"/>
                  </a:lnTo>
                  <a:lnTo>
                    <a:pt x="130987" y="249192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7"/>
            <p:cNvSpPr/>
            <p:nvPr/>
          </p:nvSpPr>
          <p:spPr>
            <a:xfrm>
              <a:off x="3690720" y="3494160"/>
              <a:ext cx="4115160" cy="1139760"/>
            </a:xfrm>
            <a:custGeom>
              <a:avLst/>
              <a:gdLst/>
              <a:ahLst/>
              <a:rect l="l" t="t" r="r" b="b"/>
              <a:pathLst>
                <a:path w="4114800" h="1139371">
                  <a:moveTo>
                    <a:pt x="0" y="0"/>
                  </a:moveTo>
                  <a:cubicBezTo>
                    <a:pt x="19957" y="56243"/>
                    <a:pt x="39914" y="112486"/>
                    <a:pt x="65314" y="163286"/>
                  </a:cubicBezTo>
                  <a:cubicBezTo>
                    <a:pt x="90714" y="214086"/>
                    <a:pt x="150586" y="243114"/>
                    <a:pt x="152400" y="304800"/>
                  </a:cubicBezTo>
                  <a:cubicBezTo>
                    <a:pt x="154214" y="366486"/>
                    <a:pt x="72571" y="446314"/>
                    <a:pt x="76200" y="533400"/>
                  </a:cubicBezTo>
                  <a:cubicBezTo>
                    <a:pt x="79829" y="620486"/>
                    <a:pt x="76201" y="776515"/>
                    <a:pt x="174172" y="827315"/>
                  </a:cubicBezTo>
                  <a:cubicBezTo>
                    <a:pt x="272144" y="878115"/>
                    <a:pt x="424543" y="876300"/>
                    <a:pt x="664029" y="838200"/>
                  </a:cubicBezTo>
                  <a:cubicBezTo>
                    <a:pt x="903515" y="800100"/>
                    <a:pt x="1416958" y="593272"/>
                    <a:pt x="1611086" y="598715"/>
                  </a:cubicBezTo>
                  <a:cubicBezTo>
                    <a:pt x="1805215" y="604158"/>
                    <a:pt x="1788886" y="818243"/>
                    <a:pt x="1828800" y="870857"/>
                  </a:cubicBezTo>
                  <a:cubicBezTo>
                    <a:pt x="1868714" y="923471"/>
                    <a:pt x="1796144" y="883557"/>
                    <a:pt x="1850572" y="914400"/>
                  </a:cubicBezTo>
                  <a:cubicBezTo>
                    <a:pt x="1905000" y="945243"/>
                    <a:pt x="2012044" y="1025072"/>
                    <a:pt x="2155372" y="1055915"/>
                  </a:cubicBezTo>
                  <a:cubicBezTo>
                    <a:pt x="2298700" y="1086758"/>
                    <a:pt x="2503715" y="1139371"/>
                    <a:pt x="2710543" y="1099457"/>
                  </a:cubicBezTo>
                  <a:cubicBezTo>
                    <a:pt x="2917372" y="1059543"/>
                    <a:pt x="3162300" y="967015"/>
                    <a:pt x="3396343" y="816429"/>
                  </a:cubicBezTo>
                  <a:cubicBezTo>
                    <a:pt x="3630386" y="665843"/>
                    <a:pt x="3872593" y="430893"/>
                    <a:pt x="4114800" y="195943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Straight Connector 40"/>
            <p:cNvSpPr/>
            <p:nvPr/>
          </p:nvSpPr>
          <p:spPr>
            <a:xfrm>
              <a:off x="1198080" y="3417840"/>
              <a:ext cx="336240" cy="0"/>
            </a:xfrm>
            <a:prstGeom prst="line">
              <a:avLst/>
            </a:prstGeom>
            <a:ln w="3168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5-Point Star 41"/>
            <p:cNvSpPr/>
            <p:nvPr/>
          </p:nvSpPr>
          <p:spPr>
            <a:xfrm>
              <a:off x="1230120" y="2971800"/>
              <a:ext cx="272880" cy="282600"/>
            </a:xfrm>
            <a:custGeom>
              <a:avLst/>
              <a:gdLst>
                <a:gd name="textAreaLeft" fmla="*/ 84240 w 272880"/>
                <a:gd name="textAreaRight" fmla="*/ 188640 w 272880"/>
                <a:gd name="textAreaTop" fmla="*/ 108000 h 282600"/>
                <a:gd name="textAreaBottom" fmla="*/ 216000 h 282600"/>
              </a:gdLst>
              <a:ahLst/>
              <a:rect l="textAreaLeft" t="textAreaTop" r="textAreaRight" b="textAreaBottom"/>
              <a:pathLst>
                <a:path w="273060" h="282559">
                  <a:moveTo>
                    <a:pt x="0" y="107928"/>
                  </a:moveTo>
                  <a:lnTo>
                    <a:pt x="104300" y="107928"/>
                  </a:lnTo>
                  <a:lnTo>
                    <a:pt x="136530" y="0"/>
                  </a:lnTo>
                  <a:lnTo>
                    <a:pt x="168760" y="107928"/>
                  </a:lnTo>
                  <a:lnTo>
                    <a:pt x="273060" y="107928"/>
                  </a:lnTo>
                  <a:lnTo>
                    <a:pt x="188679" y="174630"/>
                  </a:lnTo>
                  <a:lnTo>
                    <a:pt x="220910" y="282558"/>
                  </a:lnTo>
                  <a:lnTo>
                    <a:pt x="136530" y="215854"/>
                  </a:lnTo>
                  <a:lnTo>
                    <a:pt x="52150" y="282558"/>
                  </a:lnTo>
                  <a:lnTo>
                    <a:pt x="84381" y="17463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Footer Placeholder 32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31:00Z</dcterms:created>
  <dc:creator>Lynne Bethke</dc:creator>
  <dc:description/>
  <dc:language>en-US</dc:language>
  <cp:lastModifiedBy>IRCUSER</cp:lastModifiedBy>
  <dcterms:modified xsi:type="dcterms:W3CDTF">2011-07-25T18:38:49Z</dcterms:modified>
  <cp:revision>239</cp:revision>
  <dc:subject/>
  <dc:title>EMERGENC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Tool</vt:lpwstr>
  </property>
  <property fmtid="{D5CDD505-2E9C-101B-9397-08002B2CF9AE}" pid="3" name="ContentTypeId">
    <vt:lpwstr>0x010100D52189832E060742ABF7774652D4F97600F4F0EE4DD1CB634A8A778A62A6605817030048D4E980AFB26F42AC0EE168ACE89204</vt:lpwstr>
  </property>
  <property fmtid="{D5CDD505-2E9C-101B-9397-08002B2CF9AE}" pid="4" name="ORClusterCAS">
    <vt:lpwstr/>
  </property>
  <property fmtid="{D5CDD505-2E9C-101B-9397-08002B2CF9AE}" pid="5" name="ORClusterMultiLookup">
    <vt:lpwstr/>
  </property>
  <property fmtid="{D5CDD505-2E9C-101B-9397-08002B2CF9AE}" pid="6" name="ORClusterMultiLookupText">
    <vt:lpwstr/>
  </property>
  <property fmtid="{D5CDD505-2E9C-101B-9397-08002B2CF9AE}" pid="7" name="ORCoordinateX">
    <vt:lpwstr/>
  </property>
  <property fmtid="{D5CDD505-2E9C-101B-9397-08002B2CF9AE}" pid="8" name="ORCoordinateY">
    <vt:lpwstr/>
  </property>
  <property fmtid="{D5CDD505-2E9C-101B-9397-08002B2CF9AE}" pid="9" name="ORCopyRight">
    <vt:lpwstr/>
  </property>
  <property fmtid="{D5CDD505-2E9C-101B-9397-08002B2CF9AE}" pid="10" name="ORCountryDivMultiLookup">
    <vt:lpwstr/>
  </property>
  <property fmtid="{D5CDD505-2E9C-101B-9397-08002B2CF9AE}" pid="11" name="ORCountryMultiLookup">
    <vt:lpwstr/>
  </property>
  <property fmtid="{D5CDD505-2E9C-101B-9397-08002B2CF9AE}" pid="12" name="ORCreationDate">
    <vt:lpwstr>2011-01-11T00:00:00Z</vt:lpwstr>
  </property>
  <property fmtid="{D5CDD505-2E9C-101B-9397-08002B2CF9AE}" pid="13" name="ORCrossCuttingMultiLookup">
    <vt:lpwstr/>
  </property>
  <property fmtid="{D5CDD505-2E9C-101B-9397-08002B2CF9AE}" pid="14" name="ORDisasterLookup">
    <vt:lpwstr/>
  </property>
  <property fmtid="{D5CDD505-2E9C-101B-9397-08002B2CF9AE}" pid="15" name="ORDistribution">
    <vt:lpwstr/>
  </property>
  <property fmtid="{D5CDD505-2E9C-101B-9397-08002B2CF9AE}" pid="16" name="ORGLIDENumber">
    <vt:lpwstr/>
  </property>
  <property fmtid="{D5CDD505-2E9C-101B-9397-08002B2CF9AE}" pid="17" name="ORKeydocument">
    <vt:lpwstr>0</vt:lpwstr>
  </property>
  <property fmtid="{D5CDD505-2E9C-101B-9397-08002B2CF9AE}" pid="18" name="ORKeywordsMultiLookup">
    <vt:lpwstr>9;#Education;#47;#Emergency</vt:lpwstr>
  </property>
  <property fmtid="{D5CDD505-2E9C-101B-9397-08002B2CF9AE}" pid="19" name="ORLanguageLookup">
    <vt:lpwstr>3</vt:lpwstr>
  </property>
  <property fmtid="{D5CDD505-2E9C-101B-9397-08002B2CF9AE}" pid="20" name="ORLocationCAS">
    <vt:lpwstr/>
  </property>
  <property fmtid="{D5CDD505-2E9C-101B-9397-08002B2CF9AE}" pid="21" name="ORPCODES2MultiLookup">
    <vt:lpwstr/>
  </property>
  <property fmtid="{D5CDD505-2E9C-101B-9397-08002B2CF9AE}" pid="22" name="ORPCODESMultiLookup">
    <vt:lpwstr/>
  </property>
  <property fmtid="{D5CDD505-2E9C-101B-9397-08002B2CF9AE}" pid="23" name="ORParentContentType">
    <vt:lpwstr>Training and Resource</vt:lpwstr>
  </property>
  <property fmtid="{D5CDD505-2E9C-101B-9397-08002B2CF9AE}" pid="24" name="ORRegionMultiLookup">
    <vt:lpwstr/>
  </property>
  <property fmtid="{D5CDD505-2E9C-101B-9397-08002B2CF9AE}" pid="25" name="ORSubClusterMultiLookup">
    <vt:lpwstr/>
  </property>
  <property fmtid="{D5CDD505-2E9C-101B-9397-08002B2CF9AE}" pid="26" name="ORSupplierLookup">
    <vt:lpwstr>0</vt:lpwstr>
  </property>
  <property fmtid="{D5CDD505-2E9C-101B-9397-08002B2CF9AE}" pid="27" name="PublishingExpirationDate">
    <vt:lpwstr/>
  </property>
  <property fmtid="{D5CDD505-2E9C-101B-9397-08002B2CF9AE}" pid="28" name="PublishingRollupImage">
    <vt:lpwstr/>
  </property>
  <property fmtid="{D5CDD505-2E9C-101B-9397-08002B2CF9AE}" pid="29" name="PublishingStartDate">
    <vt:lpwstr/>
  </property>
</Properties>
</file>