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9444-619E-479C-9F99-2B5FD145F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85852-F714-43DA-9049-69BD251D3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9360">
            <a:solidFill>
              <a:srgbClr val="000000"/>
            </a:solidFill>
            <a:miter/>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iefly remind participants that “Teaching and Learning” is one of the domains articulated in the INEE Minimum Standards.  As such Teaching and Learning should be considered within the larger education system and response.  There are four standards within the Teaching and Learning domain: Curricula; Training, Professional Development, and Support; Instruction and Learning Processes; and Assessment of Learning Outcomes.  Although some projects may wish to focus on only one or two of these standards, ALL standards must be considered during assessment and analysis understanding that NO ONE standard can ever stand alon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EFCE1-A62D-4EA6-977D-1281CC70C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E826E-16FE-4200-993D-FD09EAA2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32242-A9A5-4A9E-905B-64C2382B9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21A0C-550A-4892-8B7C-9843E63E1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3EF1A-A662-48A0-9518-A82CDC0DB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EE1A-2989-41E4-B858-AA246B745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BCD9F-3AAA-42E4-8F24-13C418406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C20FE-DB3F-41FF-AC06-0E6FD0128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1ACDD-75CB-4471-84C4-82A7A6536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6C3F-6A04-4558-9310-E6709394E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4B7F-F739-473F-8D57-9FC7E00EF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39482-1429-4DC2-9519-47BCA29D5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1F65-CDBD-45F9-B40A-4D4F25267D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lowchart: Sort 39"/>
          <p:cNvSpPr/>
          <p:nvPr/>
        </p:nvSpPr>
        <p:spPr>
          <a:xfrm rot="3070200">
            <a:off x="6037560" y="3822120"/>
            <a:ext cx="311040" cy="585720"/>
          </a:xfrm>
          <a:prstGeom prst="flowChartSor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2"/>
          <p:cNvSpPr/>
          <p:nvPr/>
        </p:nvSpPr>
        <p:spPr>
          <a:xfrm>
            <a:off x="228600" y="990720"/>
            <a:ext cx="8763120" cy="571500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50" name="Rectangle 3"/>
          <p:cNvSpPr/>
          <p:nvPr/>
        </p:nvSpPr>
        <p:spPr>
          <a:xfrm>
            <a:off x="0" y="0"/>
            <a:ext cx="9144000" cy="1219320"/>
          </a:xfrm>
          <a:prstGeom prst="rect">
            <a:avLst/>
          </a:prstGeom>
          <a:solidFill>
            <a:srgbClr val="000080"/>
          </a:solidFill>
          <a:ln w="0">
            <a:noFill/>
          </a:ln>
        </p:spPr>
        <p:style>
          <a:lnRef idx="0"/>
          <a:fillRef idx="0"/>
          <a:effectRef idx="0"/>
          <a:fontRef idx="minor"/>
        </p:style>
        <p:txBody>
          <a:bodyPr lIns="18288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Teaching and Learning Standards:</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No Standard Operates Alone</a:t>
            </a:r>
            <a:endParaRPr b="0" lang="en-US" sz="4400" spc="-1" strike="noStrike">
              <a:solidFill>
                <a:srgbClr val="000000"/>
              </a:solidFill>
              <a:latin typeface="Arial"/>
            </a:endParaRPr>
          </a:p>
        </p:txBody>
      </p:sp>
      <p:sp>
        <p:nvSpPr>
          <p:cNvPr id="51" name="Rectangle 4"/>
          <p:cNvSpPr/>
          <p:nvPr/>
        </p:nvSpPr>
        <p:spPr>
          <a:xfrm>
            <a:off x="11084040" y="5381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 name="Picture 14" descr="New INEE Logo"/>
          <p:cNvPicPr/>
          <p:nvPr/>
        </p:nvPicPr>
        <p:blipFill>
          <a:blip r:embed="rId1"/>
          <a:srcRect l="0" t="0" r="68432" b="0"/>
          <a:stretch/>
        </p:blipFill>
        <p:spPr>
          <a:xfrm>
            <a:off x="6889680" y="5991120"/>
            <a:ext cx="2254320" cy="866880"/>
          </a:xfrm>
          <a:prstGeom prst="rect">
            <a:avLst/>
          </a:prstGeom>
          <a:ln w="0">
            <a:noFill/>
          </a:ln>
        </p:spPr>
      </p:pic>
      <p:sp>
        <p:nvSpPr>
          <p:cNvPr id="53" name="Text Box 5"/>
          <p:cNvSpPr/>
          <p:nvPr/>
        </p:nvSpPr>
        <p:spPr>
          <a:xfrm>
            <a:off x="380880" y="2309760"/>
            <a:ext cx="8382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4" name="Picture 7" descr="Circle_English125"/>
          <p:cNvPicPr/>
          <p:nvPr/>
        </p:nvPicPr>
        <p:blipFill>
          <a:blip r:embed="rId2"/>
          <a:stretch/>
        </p:blipFill>
        <p:spPr>
          <a:xfrm>
            <a:off x="380880" y="1600200"/>
            <a:ext cx="3733920" cy="3733920"/>
          </a:xfrm>
          <a:prstGeom prst="rect">
            <a:avLst/>
          </a:prstGeom>
          <a:ln w="0">
            <a:noFill/>
          </a:ln>
        </p:spPr>
      </p:pic>
      <p:sp>
        <p:nvSpPr>
          <p:cNvPr id="55" name="Straight Connector 10"/>
          <p:cNvSpPr/>
          <p:nvPr/>
        </p:nvSpPr>
        <p:spPr>
          <a:xfrm flipH="1">
            <a:off x="2590920" y="1371600"/>
            <a:ext cx="3962160" cy="914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Straight Connector 12"/>
          <p:cNvSpPr/>
          <p:nvPr/>
        </p:nvSpPr>
        <p:spPr>
          <a:xfrm flipH="1" flipV="1">
            <a:off x="2666880" y="3200400"/>
            <a:ext cx="2286000" cy="190512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Flowchart: Sort 36"/>
          <p:cNvSpPr/>
          <p:nvPr/>
        </p:nvSpPr>
        <p:spPr>
          <a:xfrm rot="18421200">
            <a:off x="7439400" y="3859920"/>
            <a:ext cx="246240" cy="625680"/>
          </a:xfrm>
          <a:prstGeom prst="flowChartSor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Flowchart: Sort 37"/>
          <p:cNvSpPr/>
          <p:nvPr/>
        </p:nvSpPr>
        <p:spPr>
          <a:xfrm>
            <a:off x="6858000" y="2514600"/>
            <a:ext cx="228600" cy="609480"/>
          </a:xfrm>
          <a:prstGeom prst="flowChartSor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Diagram 1" descr=""/>
          <p:cNvPicPr/>
          <p:nvPr/>
        </p:nvPicPr>
        <p:blipFill>
          <a:blip r:embed="rId3"/>
          <a:srcRect l="-29319" t="0" r="-29478" b="-2393"/>
          <a:stretch/>
        </p:blipFill>
        <p:spPr>
          <a:xfrm>
            <a:off x="3809880" y="1295280"/>
            <a:ext cx="6172200" cy="4343400"/>
          </a:xfrm>
          <a:prstGeom prst="rect">
            <a:avLst/>
          </a:prstGeom>
          <a:ln w="0">
            <a:noFill/>
          </a:ln>
        </p:spPr>
      </p:pic>
      <p:sp>
        <p:nvSpPr>
          <p:cNvPr id="60" name="Flowchart: Merge 23"/>
          <p:cNvSpPr/>
          <p:nvPr/>
        </p:nvSpPr>
        <p:spPr>
          <a:xfrm rot="17934000">
            <a:off x="7510320" y="2031840"/>
            <a:ext cx="365040" cy="47916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Flowchart: Merge 24"/>
          <p:cNvSpPr/>
          <p:nvPr/>
        </p:nvSpPr>
        <p:spPr>
          <a:xfrm rot="11353200">
            <a:off x="8190000" y="3454200"/>
            <a:ext cx="365040" cy="47916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Flowchart: Merge 25"/>
          <p:cNvSpPr/>
          <p:nvPr/>
        </p:nvSpPr>
        <p:spPr>
          <a:xfrm rot="18052200">
            <a:off x="6060240" y="4917240"/>
            <a:ext cx="365040" cy="47772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lowchart: Merge 27"/>
          <p:cNvSpPr/>
          <p:nvPr/>
        </p:nvSpPr>
        <p:spPr>
          <a:xfrm rot="3247800">
            <a:off x="7338240" y="4956480"/>
            <a:ext cx="365040" cy="47808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Flowchart: Merge 28"/>
          <p:cNvSpPr/>
          <p:nvPr/>
        </p:nvSpPr>
        <p:spPr>
          <a:xfrm rot="3544200">
            <a:off x="5909040" y="2034360"/>
            <a:ext cx="365040" cy="47772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lowchart: Merge 29"/>
          <p:cNvSpPr/>
          <p:nvPr/>
        </p:nvSpPr>
        <p:spPr>
          <a:xfrm rot="10119000">
            <a:off x="5223960" y="3460680"/>
            <a:ext cx="366840" cy="478080"/>
          </a:xfrm>
          <a:prstGeom prst="flowChartMerg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2T14:48:30Z</dcterms:created>
  <dc:creator>Elizabeth Sweet</dc:creator>
  <dc:description/>
  <dc:language>en-US</dc:language>
  <cp:lastModifiedBy>IRCUSER</cp:lastModifiedBy>
  <dcterms:modified xsi:type="dcterms:W3CDTF">2011-07-25T18:08:47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06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