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ftr" idx="10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ftr" idx="1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9cff"/>
              </a:gs>
              <a:gs pos="100000">
                <a:srgbClr val="dae1ff"/>
              </a:gs>
            </a:gsLst>
            <a:lin ang="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1828800" y="4764240"/>
            <a:ext cx="5594400" cy="590400"/>
            <a:chOff x="1828800" y="4764240"/>
            <a:chExt cx="5594400" cy="590400"/>
          </a:xfrm>
        </p:grpSpPr>
        <p:pic>
          <p:nvPicPr>
            <p:cNvPr id="46" name="Picture 9" descr="Global_Education_CMYK.jpg"/>
            <p:cNvPicPr/>
            <p:nvPr/>
          </p:nvPicPr>
          <p:blipFill>
            <a:blip r:embed="rId2"/>
            <a:stretch/>
          </p:blipFill>
          <p:spPr>
            <a:xfrm>
              <a:off x="1828800" y="4764240"/>
              <a:ext cx="24825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0" descr=""/>
            <p:cNvPicPr/>
            <p:nvPr/>
          </p:nvPicPr>
          <p:blipFill>
            <a:blip r:embed="rId3"/>
            <a:stretch/>
          </p:blipFill>
          <p:spPr>
            <a:xfrm>
              <a:off x="4345920" y="4768200"/>
              <a:ext cx="3077280" cy="58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25560"/>
            <a:ext cx="9144000" cy="144756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463680" y="64004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5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6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7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8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9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eesite.org/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Arial Bold"/>
                <a:ea typeface="Arial Bold"/>
              </a:rPr>
              <a:t>Framework for</a:t>
            </a:r>
            <a:br>
              <a:rPr sz="4400"/>
            </a:br>
            <a:r>
              <a:rPr b="1" lang="en-GB" sz="4400" spc="-1" strike="noStrike">
                <a:solidFill>
                  <a:srgbClr val="0070c0"/>
                </a:solidFill>
                <a:latin typeface="Arial Bold"/>
                <a:ea typeface="Arial Bold"/>
              </a:rPr>
              <a:t>Education in Emergencies</a:t>
            </a:r>
            <a:br>
              <a:rPr sz="4400"/>
            </a:br>
            <a:r>
              <a:rPr b="1" lang="en-GB" sz="4400" spc="-1" strike="noStrike">
                <a:solidFill>
                  <a:srgbClr val="0070c0"/>
                </a:solidFill>
                <a:latin typeface="Arial Bold"/>
                <a:ea typeface="Arial Bold"/>
              </a:rPr>
              <a:t>INEE Minimum Standards</a:t>
            </a:r>
            <a:br>
              <a:rPr sz="4400"/>
            </a:br>
            <a:r>
              <a:rPr b="1" lang="en-GB" sz="4400" spc="-1" strike="noStrike">
                <a:solidFill>
                  <a:srgbClr val="0070c0"/>
                </a:solidFill>
                <a:latin typeface="Arial Bold"/>
                <a:ea typeface="Arial Bold"/>
              </a:rPr>
              <a:t>for Education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62472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main: Access and Learning Environ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8"/>
          <p:cNvSpPr/>
          <p:nvPr/>
        </p:nvSpPr>
        <p:spPr>
          <a:xfrm>
            <a:off x="177840" y="1600200"/>
            <a:ext cx="8750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1: Equal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All individuals have access to quality and relevant education opportun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2: Protection and Well-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Learning environments are secure and safe, and promote the psychosocial well-being of learners, teachers and other education personn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3: Facilitie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Education facilities promote the safety and well-being of learners, teachers and other education personnel and are linked to health, nutrition, psychosocial and protection ser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1"/>
          <p:cNvGrpSpPr/>
          <p:nvPr/>
        </p:nvGrpSpPr>
        <p:grpSpPr>
          <a:xfrm>
            <a:off x="0" y="0"/>
            <a:ext cx="1395360" cy="1413000"/>
            <a:chOff x="0" y="0"/>
            <a:chExt cx="1395360" cy="1413000"/>
          </a:xfrm>
        </p:grpSpPr>
        <p:pic>
          <p:nvPicPr>
            <p:cNvPr id="547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953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8" name="Group 14"/>
            <p:cNvGrpSpPr/>
            <p:nvPr/>
          </p:nvGrpSpPr>
          <p:grpSpPr>
            <a:xfrm>
              <a:off x="239040" y="241560"/>
              <a:ext cx="924120" cy="893160"/>
              <a:chOff x="239040" y="241560"/>
              <a:chExt cx="924120" cy="893160"/>
            </a:xfrm>
          </p:grpSpPr>
          <p:sp>
            <p:nvSpPr>
              <p:cNvPr id="549" name="Pie 24"/>
              <p:cNvSpPr/>
              <p:nvPr/>
            </p:nvSpPr>
            <p:spPr>
              <a:xfrm>
                <a:off x="239040" y="241560"/>
                <a:ext cx="924120" cy="893160"/>
              </a:xfrm>
              <a:custGeom>
                <a:avLst/>
                <a:gdLst>
                  <a:gd name="textAreaLeft" fmla="*/ 135360 w 924120"/>
                  <a:gd name="textAreaRight" fmla="*/ 788760 w 924120"/>
                  <a:gd name="textAreaTop" fmla="*/ 130680 h 893160"/>
                  <a:gd name="textAreaBottom" fmla="*/ 762480 h 893160"/>
                </a:gdLst>
                <a:ahLst/>
                <a:rect l="textAreaLeft" t="textAreaTop" r="textAreaRight" b="textAreaBottom"/>
                <a:pathLst>
                  <a:path w="923581" h="893700">
                    <a:moveTo>
                      <a:pt x="0" y="446849"/>
                    </a:moveTo>
                    <a:lnTo>
                      <a:pt x="0" y="446849"/>
                    </a:lnTo>
                    <a:arcTo wR="461791" hR="446850" stAng="-10799993" swAng="5400000"/>
                    <a:lnTo>
                      <a:pt x="461791" y="446850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Box 3"/>
              <p:cNvSpPr/>
              <p:nvPr/>
            </p:nvSpPr>
            <p:spPr>
              <a:xfrm>
                <a:off x="240840" y="365760"/>
                <a:ext cx="562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" spc="-1" strike="noStrike">
                    <a:solidFill>
                      <a:srgbClr val="ffffff"/>
                    </a:solidFill>
                    <a:latin typeface="Arial"/>
                  </a:rPr>
                  <a:t>Access and Learning Environment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1" name="Footer Placeholder 12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699444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main: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aching and Learn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177840" y="1600200"/>
            <a:ext cx="8750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tandard 1: Curri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ulturally, socially and linguistically relevant curricula are used to provide formal and non-formal education, appropriate to the particular context and needs of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tandard 2: Training, Professional Development an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Teachers and other education personnel receive periodic, relevant and structured training according to needs and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tandard 3: Instruction and Learning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nstruction and learning processes are learner-centred, participatory and inclu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tandard 4: Assessment and 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Appropriate methods are used to evaluate and validate learning outco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9"/>
          <p:cNvGrpSpPr/>
          <p:nvPr/>
        </p:nvGrpSpPr>
        <p:grpSpPr>
          <a:xfrm>
            <a:off x="0" y="0"/>
            <a:ext cx="1395360" cy="1413000"/>
            <a:chOff x="0" y="0"/>
            <a:chExt cx="1395360" cy="1413000"/>
          </a:xfrm>
        </p:grpSpPr>
        <p:pic>
          <p:nvPicPr>
            <p:cNvPr id="556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953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7" name="Group 12"/>
            <p:cNvGrpSpPr/>
            <p:nvPr/>
          </p:nvGrpSpPr>
          <p:grpSpPr>
            <a:xfrm>
              <a:off x="244080" y="241560"/>
              <a:ext cx="941040" cy="899280"/>
              <a:chOff x="244080" y="241560"/>
              <a:chExt cx="941040" cy="899280"/>
            </a:xfrm>
          </p:grpSpPr>
          <p:sp>
            <p:nvSpPr>
              <p:cNvPr id="558" name="Pie 12"/>
              <p:cNvSpPr/>
              <p:nvPr/>
            </p:nvSpPr>
            <p:spPr>
              <a:xfrm rot="5400000">
                <a:off x="248040" y="237240"/>
                <a:ext cx="899280" cy="907200"/>
              </a:xfrm>
              <a:custGeom>
                <a:avLst/>
                <a:gdLst>
                  <a:gd name="textAreaLeft" fmla="*/ 131400 w 899280"/>
                  <a:gd name="textAreaRight" fmla="*/ 767880 w 899280"/>
                  <a:gd name="textAreaTop" fmla="*/ 132840 h 907200"/>
                  <a:gd name="textAreaBottom" fmla="*/ 774360 h 907200"/>
                </a:gdLst>
                <a:ahLst/>
                <a:rect l="textAreaLeft" t="textAreaTop" r="textAreaRight" b="textAreaBottom"/>
                <a:pathLst>
                  <a:path w="915547" h="882040">
                    <a:moveTo>
                      <a:pt x="0" y="441019"/>
                    </a:moveTo>
                    <a:lnTo>
                      <a:pt x="0" y="441019"/>
                    </a:lnTo>
                    <a:arcTo wR="457774" hR="441020" stAng="-10799992" swAng="5400000"/>
                    <a:lnTo>
                      <a:pt x="457774" y="44102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Box 13"/>
              <p:cNvSpPr/>
              <p:nvPr/>
            </p:nvSpPr>
            <p:spPr>
              <a:xfrm>
                <a:off x="607320" y="397440"/>
                <a:ext cx="577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" spc="-1" strike="noStrike">
                    <a:solidFill>
                      <a:srgbClr val="ffffff"/>
                    </a:solidFill>
                    <a:latin typeface="Arial"/>
                  </a:rPr>
                  <a:t>Teaching and Learning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0" name="Footer Placeholder 13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74072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main: Teachers and Other Education Personn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Rectangle 8"/>
          <p:cNvSpPr/>
          <p:nvPr/>
        </p:nvSpPr>
        <p:spPr>
          <a:xfrm>
            <a:off x="177840" y="1600200"/>
            <a:ext cx="8750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1: Recruitment and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A sufficient number of appropriately qualified teachers and other education personnel are recruited through a participatory and transparent process, based on selection criteria reflecting diversity and equ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2: Conditions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Teachers and other education personnel have clearly defined conditions of work and are appropriately compens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3: Support and Super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Support and supervision mechanisms for teachers and other education personnel function effective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0" y="0"/>
            <a:ext cx="1395360" cy="1413000"/>
            <a:chOff x="0" y="0"/>
            <a:chExt cx="1395360" cy="1413000"/>
          </a:xfrm>
        </p:grpSpPr>
        <p:pic>
          <p:nvPicPr>
            <p:cNvPr id="565" name="Picture 2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3953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6" name="Group 13"/>
            <p:cNvGrpSpPr/>
            <p:nvPr/>
          </p:nvGrpSpPr>
          <p:grpSpPr>
            <a:xfrm>
              <a:off x="200880" y="246240"/>
              <a:ext cx="962280" cy="881280"/>
              <a:chOff x="200880" y="246240"/>
              <a:chExt cx="962280" cy="881280"/>
            </a:xfrm>
          </p:grpSpPr>
          <p:sp>
            <p:nvSpPr>
              <p:cNvPr id="567" name="Pie 12"/>
              <p:cNvSpPr/>
              <p:nvPr/>
            </p:nvSpPr>
            <p:spPr>
              <a:xfrm rot="16200000">
                <a:off x="262800" y="227160"/>
                <a:ext cx="881280" cy="919080"/>
              </a:xfrm>
              <a:custGeom>
                <a:avLst/>
                <a:gdLst>
                  <a:gd name="textAreaLeft" fmla="*/ 128880 w 881280"/>
                  <a:gd name="textAreaRight" fmla="*/ 752400 w 881280"/>
                  <a:gd name="textAreaTop" fmla="*/ 134640 h 919080"/>
                  <a:gd name="textAreaBottom" fmla="*/ 784440 h 919080"/>
                </a:gdLst>
                <a:ahLst/>
                <a:rect l="textAreaLeft" t="textAreaTop" r="textAreaRight" b="textAreaBottom"/>
                <a:pathLst>
                  <a:path w="914336" h="883567">
                    <a:moveTo>
                      <a:pt x="0" y="441783"/>
                    </a:moveTo>
                    <a:lnTo>
                      <a:pt x="0" y="441783"/>
                    </a:lnTo>
                    <a:arcTo wR="457168" hR="441784" stAng="-10799992" swAng="5400000"/>
                    <a:lnTo>
                      <a:pt x="457168" y="441784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Box 13"/>
              <p:cNvSpPr/>
              <p:nvPr/>
            </p:nvSpPr>
            <p:spPr>
              <a:xfrm>
                <a:off x="200880" y="711360"/>
                <a:ext cx="58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00" spc="-1" strike="noStrike">
                    <a:solidFill>
                      <a:srgbClr val="ffffff"/>
                    </a:solidFill>
                    <a:latin typeface="Arial"/>
                  </a:rPr>
                  <a:t>Teachers and Other Education Personnel</a:t>
                </a: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Footer Placeholder 1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66764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omain: Education Polic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177840" y="1600200"/>
            <a:ext cx="8750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1: Law and Policy 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Education authorities prioritise continuity and recovery of quality education, including free and inclusive access to school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2: Planning and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Education activities take into account international and national education policies, laws, standards and plans and the learning needs of affected popul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1409760" cy="1425600"/>
          </a:xfrm>
          <a:prstGeom prst="rect">
            <a:avLst/>
          </a:prstGeom>
          <a:ln w="0">
            <a:noFill/>
          </a:ln>
        </p:spPr>
      </p:pic>
      <p:sp>
        <p:nvSpPr>
          <p:cNvPr id="574" name="Footer Placeholder 9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ercis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57120" y="2214360"/>
            <a:ext cx="8229600" cy="304308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Applying the </a:t>
            </a:r>
            <a:endParaRPr b="0" lang="en-US" sz="5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Arial"/>
              </a:rPr>
              <a:t>INEE Minimum Standards to a Case Study</a:t>
            </a:r>
            <a:endParaRPr b="0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Footer Placeholder 8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ercise Direc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8"/>
          <p:cNvSpPr/>
          <p:nvPr/>
        </p:nvSpPr>
        <p:spPr>
          <a:xfrm>
            <a:off x="304920" y="1473120"/>
            <a:ext cx="815328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ve groups of 5 or 6 people. Each group wil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he case study based on their domain. (Handout 2.2, Handout 2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1: </a:t>
            </a:r>
            <a:r>
              <a:rPr b="0" lang="en-US" sz="18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Community participation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2: </a:t>
            </a:r>
            <a:r>
              <a:rPr b="0" lang="en-US" sz="18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Coordination and Educatio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3: </a:t>
            </a:r>
            <a:r>
              <a:rPr b="0" lang="en-US" sz="18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Access and learn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4: </a:t>
            </a:r>
            <a:r>
              <a:rPr b="0" lang="en-US" sz="18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Teaching an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5: </a:t>
            </a:r>
            <a:r>
              <a:rPr b="0" lang="en-US" sz="18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Teachers and other education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.  Group Work Tas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) Read the case study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ut 2.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) Identify which standards were used in the emergency education response in the assigned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) Identify which standards could have been used in the response. Groups can 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ut 2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o record responses for each categ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Bold Italic"/>
                <a:ea typeface="Arial Bold Italic"/>
              </a:rPr>
              <a:t>You have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 Gallery Walk (20 min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7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rIns="13212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 the end of this session, participants will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derstand what is the Inter-agency Network for Education in Emergencies (INEE)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derstand the Domains and Standards of the Minimum Standards for Education: Preparedness, Response, Recover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derstand how the Minimum Standards can be applied to ensure quality education provis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Footer Placeholder 8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Overview of the 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INEE Minimum Standards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282600" y="1569960"/>
            <a:ext cx="858528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INEE was established to develop </a:t>
            </a:r>
            <a:r>
              <a:rPr b="1" lang="en-US" sz="2200" spc="-1" strike="noStrike">
                <a:solidFill>
                  <a:srgbClr val="003366"/>
                </a:solidFill>
                <a:latin typeface="Arial Bold"/>
                <a:ea typeface="Arial Bold"/>
              </a:rPr>
              <a:t>standards to promote a minimum level of access to quality education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for all persons including those affected by emerg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The standards are </a:t>
            </a:r>
            <a:r>
              <a:rPr b="1" lang="en-US" sz="2200" spc="-1" strike="noStrike">
                <a:solidFill>
                  <a:srgbClr val="003366"/>
                </a:solidFill>
                <a:latin typeface="Arial Bold"/>
                <a:ea typeface="Arial Bold"/>
              </a:rPr>
              <a:t>based on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 the Convention on the Rights of the Child (</a:t>
            </a:r>
            <a:r>
              <a:rPr b="1" lang="en-US" sz="2200" spc="-1" strike="noStrike">
                <a:solidFill>
                  <a:srgbClr val="003366"/>
                </a:solidFill>
                <a:latin typeface="Arial Bold"/>
                <a:ea typeface="Arial Bold"/>
              </a:rPr>
              <a:t>CRC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), Education for All (</a:t>
            </a:r>
            <a:r>
              <a:rPr b="1" lang="en-US" sz="2200" spc="-1" strike="noStrike">
                <a:solidFill>
                  <a:srgbClr val="003366"/>
                </a:solidFill>
                <a:latin typeface="Arial Bold"/>
                <a:ea typeface="Arial Bold"/>
              </a:rPr>
              <a:t>EFA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) and </a:t>
            </a:r>
            <a:r>
              <a:rPr b="1" lang="en-US" sz="2200" spc="-1" strike="noStrike">
                <a:solidFill>
                  <a:srgbClr val="003366"/>
                </a:solidFill>
                <a:latin typeface="Arial Bold"/>
                <a:ea typeface="Arial Bold"/>
              </a:rPr>
              <a:t>Humanitarian Charter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to represent ‘universal goals for helping adults and children achieve the right to life with dignity’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Addition to Sphere Humanitarian Standards which does not include edu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More information: INEE web site at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ineesite.org</a:t>
            </a: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8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12536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5 Domai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20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788000" cy="4848120"/>
          </a:xfrm>
          <a:prstGeom prst="rect">
            <a:avLst/>
          </a:prstGeom>
          <a:ln w="0">
            <a:noFill/>
          </a:ln>
        </p:spPr>
      </p:pic>
      <p:sp>
        <p:nvSpPr>
          <p:cNvPr id="519" name="Footer Placeholder 7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1 Cross-Cutting Issu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8"/>
          <p:cNvSpPr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Conflict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Disaster Risk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arly Childhoo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HIV and A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Human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nclusive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Inter-sectoral lin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Psychosoci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Y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7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andards, Key Actions, Guidance Not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Standard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 - are </a:t>
            </a:r>
            <a:r>
              <a:rPr b="0" lang="en-US" sz="2600" spc="-1" strike="noStrike">
                <a:solidFill>
                  <a:srgbClr val="003366"/>
                </a:solidFill>
                <a:latin typeface="Arial Bold"/>
                <a:ea typeface="Arial Bold"/>
              </a:rPr>
              <a:t>what you want to reac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. They are qualitative and universal, applicable in any environ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Key Actions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- are</a:t>
            </a:r>
            <a:r>
              <a:rPr b="0" lang="en-US" sz="2600" spc="-1" strike="noStrike">
                <a:solidFill>
                  <a:srgbClr val="003366"/>
                </a:solidFill>
                <a:latin typeface="Arial Bold"/>
                <a:ea typeface="Arial Bold"/>
              </a:rPr>
              <a:t> suggested actions to be taken in order to reach/meet the standard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Guidance Notes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 Bold"/>
                <a:ea typeface="Arial Bold"/>
              </a:rPr>
              <a:t>cover points of good practice to consider when applying the minimum standards and adapting the key actions in different situ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98508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ndational Domain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munity Particip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214200" y="1571760"/>
            <a:ext cx="8472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1: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Community members participate actively, transparently and without discrimination in analysis, planning, design, implementation, monitoring and evaluation of education respon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2: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Community resources are identified, mobilised and used to implement age-appropriate learning opportun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1422360"/>
          </a:xfrm>
          <a:prstGeom prst="rect">
            <a:avLst/>
          </a:prstGeom>
          <a:ln w="0">
            <a:noFill/>
          </a:ln>
        </p:spPr>
      </p:pic>
      <p:sp>
        <p:nvSpPr>
          <p:cNvPr id="532" name="Footer Placeholder 8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85988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ndational Domain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ordina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285840" y="1600200"/>
            <a:ext cx="8400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tandard 1: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  <a:ea typeface="Arial"/>
              </a:rPr>
              <a:t>Coordination mechanisms for education are in place and support stakeholders working to ensure access to and continuity of quality edu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393920" cy="1413000"/>
          </a:xfrm>
          <a:prstGeom prst="rect">
            <a:avLst/>
          </a:prstGeom>
          <a:ln w="0">
            <a:noFill/>
          </a:ln>
        </p:spPr>
      </p:pic>
      <p:sp>
        <p:nvSpPr>
          <p:cNvPr id="537" name="Footer Placeholder 9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Line 2"/>
          <p:cNvSpPr/>
          <p:nvPr/>
        </p:nvSpPr>
        <p:spPr>
          <a:xfrm>
            <a:off x="457200" y="6400800"/>
            <a:ext cx="8229600" cy="144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427880" cy="144792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ndational Domain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214200" y="1643040"/>
            <a:ext cx="8472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tandard 1: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imely education assessments of the emergency situation are conducted in a holistic, transparent and participatory man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tandard 2: Response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Inclusive education response strategies include a clear description of the context, barriers to the right to education and strategies to overcome those barri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tandard 3: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Regular monitoring of education response activities and the evolving learning needs of the affected population is carried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38"/>
              </a:spcBef>
              <a:buClr>
                <a:srgbClr val="0033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tandard 4: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Systematic and impartial evaluations improve education response activities and enhance account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403280" cy="1422360"/>
          </a:xfrm>
          <a:prstGeom prst="rect">
            <a:avLst/>
          </a:prstGeom>
          <a:ln w="0">
            <a:noFill/>
          </a:ln>
        </p:spPr>
      </p:pic>
      <p:sp>
        <p:nvSpPr>
          <p:cNvPr id="542" name="Footer Placeholder 8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4:26:17Z</dcterms:created>
  <dc:creator>Lynne Bethke</dc:creator>
  <dc:description/>
  <dc:language>en-US</dc:language>
  <cp:lastModifiedBy>IRCUSER</cp:lastModifiedBy>
  <dcterms:modified xsi:type="dcterms:W3CDTF">2011-07-25T18:08:04Z</dcterms:modified>
  <cp:revision>49</cp:revision>
  <dc:subject/>
  <dc:title>Framework for Education in Emergencies INEE Minimum Standards for Educa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Tool</vt:lpwstr>
  </property>
  <property fmtid="{D5CDD505-2E9C-101B-9397-08002B2CF9AE}" pid="3" name="ContentTypeId">
    <vt:lpwstr>0x010100D52189832E060742ABF7774652D4F97600F4F0EE4DD1CB634A8A778A62A6605817030048D4E980AFB26F42AC0EE168ACE89204</vt:lpwstr>
  </property>
  <property fmtid="{D5CDD505-2E9C-101B-9397-08002B2CF9AE}" pid="4" name="ORClusterCAS">
    <vt:lpwstr/>
  </property>
  <property fmtid="{D5CDD505-2E9C-101B-9397-08002B2CF9AE}" pid="5" name="ORClusterMultiLookup">
    <vt:lpwstr/>
  </property>
  <property fmtid="{D5CDD505-2E9C-101B-9397-08002B2CF9AE}" pid="6" name="ORClusterMultiLookupText">
    <vt:lpwstr/>
  </property>
  <property fmtid="{D5CDD505-2E9C-101B-9397-08002B2CF9AE}" pid="7" name="ORCoordinateX">
    <vt:lpwstr/>
  </property>
  <property fmtid="{D5CDD505-2E9C-101B-9397-08002B2CF9AE}" pid="8" name="ORCoordinateY">
    <vt:lpwstr/>
  </property>
  <property fmtid="{D5CDD505-2E9C-101B-9397-08002B2CF9AE}" pid="9" name="ORCopyRight">
    <vt:lpwstr/>
  </property>
  <property fmtid="{D5CDD505-2E9C-101B-9397-08002B2CF9AE}" pid="10" name="ORCountryDivMultiLookup">
    <vt:lpwstr/>
  </property>
  <property fmtid="{D5CDD505-2E9C-101B-9397-08002B2CF9AE}" pid="11" name="ORCountryMultiLookup">
    <vt:lpwstr/>
  </property>
  <property fmtid="{D5CDD505-2E9C-101B-9397-08002B2CF9AE}" pid="12" name="ORCreationDate">
    <vt:lpwstr>2011-01-11T00:00:00Z</vt:lpwstr>
  </property>
  <property fmtid="{D5CDD505-2E9C-101B-9397-08002B2CF9AE}" pid="13" name="ORCrossCuttingMultiLookup">
    <vt:lpwstr/>
  </property>
  <property fmtid="{D5CDD505-2E9C-101B-9397-08002B2CF9AE}" pid="14" name="ORDisasterLookup">
    <vt:lpwstr/>
  </property>
  <property fmtid="{D5CDD505-2E9C-101B-9397-08002B2CF9AE}" pid="15" name="ORDistribution">
    <vt:lpwstr/>
  </property>
  <property fmtid="{D5CDD505-2E9C-101B-9397-08002B2CF9AE}" pid="16" name="ORGLIDENumber">
    <vt:lpwstr/>
  </property>
  <property fmtid="{D5CDD505-2E9C-101B-9397-08002B2CF9AE}" pid="17" name="ORKeydocument">
    <vt:lpwstr>0</vt:lpwstr>
  </property>
  <property fmtid="{D5CDD505-2E9C-101B-9397-08002B2CF9AE}" pid="18" name="ORKeywordsMultiLookup">
    <vt:lpwstr>9;#Education;#47;#Emergency</vt:lpwstr>
  </property>
  <property fmtid="{D5CDD505-2E9C-101B-9397-08002B2CF9AE}" pid="19" name="ORLanguageLookup">
    <vt:lpwstr>3</vt:lpwstr>
  </property>
  <property fmtid="{D5CDD505-2E9C-101B-9397-08002B2CF9AE}" pid="20" name="ORLocationCAS">
    <vt:lpwstr/>
  </property>
  <property fmtid="{D5CDD505-2E9C-101B-9397-08002B2CF9AE}" pid="21" name="ORPCODES2MultiLookup">
    <vt:lpwstr/>
  </property>
  <property fmtid="{D5CDD505-2E9C-101B-9397-08002B2CF9AE}" pid="22" name="ORPCODESMultiLookup">
    <vt:lpwstr/>
  </property>
  <property fmtid="{D5CDD505-2E9C-101B-9397-08002B2CF9AE}" pid="23" name="ORParentContentType">
    <vt:lpwstr>Training and Resource</vt:lpwstr>
  </property>
  <property fmtid="{D5CDD505-2E9C-101B-9397-08002B2CF9AE}" pid="24" name="ORRegionMultiLookup">
    <vt:lpwstr/>
  </property>
  <property fmtid="{D5CDD505-2E9C-101B-9397-08002B2CF9AE}" pid="25" name="ORSubClusterMultiLookup">
    <vt:lpwstr/>
  </property>
  <property fmtid="{D5CDD505-2E9C-101B-9397-08002B2CF9AE}" pid="26" name="ORSupplierLookup">
    <vt:lpwstr>0</vt:lpwstr>
  </property>
  <property fmtid="{D5CDD505-2E9C-101B-9397-08002B2CF9AE}" pid="27" name="PublishingExpirationDate">
    <vt:lpwstr/>
  </property>
  <property fmtid="{D5CDD505-2E9C-101B-9397-08002B2CF9AE}" pid="28" name="PublishingRollupImage">
    <vt:lpwstr/>
  </property>
  <property fmtid="{D5CDD505-2E9C-101B-9397-08002B2CF9AE}" pid="29" name="PublishingStartDate">
    <vt:lpwstr/>
  </property>
</Properties>
</file>