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DB9C-168E-4594-91B7-F6873EB5E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8F0B033-DFCE-4840-BE68-62370D46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0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1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13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E/M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1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ae1ff"/>
              </a:gs>
              <a:gs pos="100000">
                <a:srgbClr val="809cff"/>
              </a:gs>
            </a:gsLst>
            <a:lin ang="10800000"/>
          </a:gra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2011320" y="4968720"/>
            <a:ext cx="5608800" cy="609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25560"/>
            <a:ext cx="9144000" cy="144756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3"/>
          </p:nvPr>
        </p:nvSpPr>
        <p:spPr>
          <a:xfrm>
            <a:off x="463680" y="6400440"/>
            <a:ext cx="82296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4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6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ftr" idx="7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8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0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9360">
            <a:solidFill>
              <a:srgbClr val="3c4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0" y="12600"/>
            <a:ext cx="9144000" cy="1447920"/>
          </a:xfrm>
          <a:prstGeom prst="rect">
            <a:avLst/>
          </a:prstGeom>
          <a:solidFill>
            <a:srgbClr val="5b78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803160" indent="-34596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260360" indent="-34272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344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9"/>
          </p:nvPr>
        </p:nvSpPr>
        <p:spPr>
          <a:xfrm>
            <a:off x="463680" y="6400440"/>
            <a:ext cx="82548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ar-SA" sz="4400" spc="-1" strike="noStrike">
                <a:solidFill>
                  <a:srgbClr val="333399"/>
                </a:solidFill>
                <a:latin typeface="Arial"/>
              </a:rPr>
              <a:t>أثر حالات الطوارئ وتعليل التعليم في حالات الطوارئ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أثر حالات الطوار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4" name="Group 7"/>
          <p:cNvGrpSpPr/>
          <p:nvPr/>
        </p:nvGrpSpPr>
        <p:grpSpPr>
          <a:xfrm>
            <a:off x="1004760" y="1420920"/>
            <a:ext cx="6917040" cy="4881600"/>
            <a:chOff x="1004760" y="1420920"/>
            <a:chExt cx="6917040" cy="4881600"/>
          </a:xfrm>
        </p:grpSpPr>
        <p:pic>
          <p:nvPicPr>
            <p:cNvPr id="605" name="Picture 5" descr="Mozambique cyclone '07 (1)"/>
            <p:cNvPicPr/>
            <p:nvPr/>
          </p:nvPicPr>
          <p:blipFill>
            <a:blip r:embed="rId1"/>
            <a:srcRect l="2690" t="3305" r="0" b="0"/>
            <a:stretch/>
          </p:blipFill>
          <p:spPr>
            <a:xfrm>
              <a:off x="1014120" y="1420920"/>
              <a:ext cx="3557880" cy="2391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06" name="Picture 4" descr="Mozambique cyclone '08 (8)"/>
            <p:cNvPicPr/>
            <p:nvPr/>
          </p:nvPicPr>
          <p:blipFill>
            <a:blip r:embed="rId2">
              <a:lum contrast="24000"/>
            </a:blip>
            <a:srcRect l="0" t="3674" r="2479" b="4373"/>
            <a:stretch/>
          </p:blipFill>
          <p:spPr>
            <a:xfrm>
              <a:off x="4578480" y="1420920"/>
              <a:ext cx="3343320" cy="2363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07" name="Picture 4" descr="Picture1slide4"/>
            <p:cNvPicPr/>
            <p:nvPr/>
          </p:nvPicPr>
          <p:blipFill>
            <a:blip r:embed="rId3"/>
            <a:stretch/>
          </p:blipFill>
          <p:spPr>
            <a:xfrm>
              <a:off x="1004760" y="3841200"/>
              <a:ext cx="3543480" cy="2448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08" name="Picture 4" descr="scan0001"/>
            <p:cNvPicPr/>
            <p:nvPr/>
          </p:nvPicPr>
          <p:blipFill>
            <a:blip r:embed="rId4">
              <a:lum contrast="36000"/>
            </a:blip>
            <a:srcRect l="0" t="0" r="1725" b="2320"/>
            <a:stretch/>
          </p:blipFill>
          <p:spPr>
            <a:xfrm>
              <a:off x="4573440" y="3807000"/>
              <a:ext cx="3347640" cy="249552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  <p:sp>
        <p:nvSpPr>
          <p:cNvPr id="609" name="Footer Placeholder 8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تمارين المجموعات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52080" y="16002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. التفكير بأكبر عدد ممكن من الآثار التي تتسبب فيها الكوارث الطبيعية والنزاعات (الطوارئ) (العصف الذهني) (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10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 دقائق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. حدد إن كانت الآثار المذكورة نتيجة كل من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Footer Placeholder 7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4451400" y="3267000"/>
          <a:ext cx="4078080" cy="2610000"/>
        </p:xfrm>
        <a:graphic>
          <a:graphicData uri="http://schemas.openxmlformats.org/drawingml/2006/table">
            <a:tbl>
              <a:tblPr/>
              <a:tblGrid>
                <a:gridCol w="4078080"/>
              </a:tblGrid>
              <a:tr h="870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كوارث الطبيع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6976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زا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70120">
                <a:tc>
                  <a:txBody>
                    <a:bodyPr lIns="68400" rIns="68400" tIns="0" bIns="0" anchor="t">
                      <a:noAutofit/>
                    </a:bodyPr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يهم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تصنيف الآثار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Footer Placeholder 5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793800" y="1798560"/>
          <a:ext cx="7375320" cy="4332240"/>
        </p:xfrm>
        <a:graphic>
          <a:graphicData uri="http://schemas.openxmlformats.org/drawingml/2006/table">
            <a:tbl>
              <a:tblPr/>
              <a:tblGrid>
                <a:gridCol w="1844640"/>
                <a:gridCol w="1843200"/>
                <a:gridCol w="1844640"/>
                <a:gridCol w="1842840"/>
              </a:tblGrid>
              <a:tr h="43322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ئات 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ثار على العاملين في مجال التعل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ثار على المتعلم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بنى التحتية والموا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ffffff"/>
                </a:solidFill>
                <a:latin typeface="Arial"/>
              </a:rPr>
              <a:t>ما هو أثر الطوارئ على المجموعات المهمشة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65280" y="2268360"/>
            <a:ext cx="4452840" cy="40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أطفال المعوقين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أطفال الذين يعيشون في المناطق الريفية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أيتام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أطفال الشوارع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مقاتلون السابقون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عمال الأطفال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أقليات الإثنية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55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الأطفال المتأثرون بفيروس نقص المناعة البشرية/ الإيدز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200" spc="-1" strike="noStrike">
                <a:solidFill>
                  <a:srgbClr val="000066"/>
                </a:solidFill>
                <a:latin typeface="Arial"/>
              </a:rPr>
              <a:t>يمكن أن تكون قائمة على النوع الاجتماعي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19" name="Picture 6" descr="DSC_0159"/>
          <p:cNvPicPr/>
          <p:nvPr/>
        </p:nvPicPr>
        <p:blipFill>
          <a:blip r:embed="rId1"/>
          <a:stretch/>
        </p:blipFill>
        <p:spPr>
          <a:xfrm>
            <a:off x="193680" y="2811600"/>
            <a:ext cx="4038480" cy="268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0" name="Rectangle 7"/>
          <p:cNvSpPr/>
          <p:nvPr/>
        </p:nvSpPr>
        <p:spPr>
          <a:xfrm>
            <a:off x="488880" y="1616040"/>
            <a:ext cx="822960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في كثير من الحالات تزداد حالة المجموعات المهمشة سوءا في حالات الطوار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00"/>
                </a:solidFill>
                <a:latin typeface="Arial"/>
              </a:rPr>
              <a:t>تتضمن المجموعات المهم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Footer Placeholder 7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ffffff"/>
                </a:solidFill>
                <a:latin typeface="Arial"/>
              </a:rPr>
              <a:t>الحاجة للتعليم في حالات الطوار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Picture 6" descr="Mozambique floods '07 (55) Temp school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4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ffffff"/>
                </a:solidFill>
                <a:latin typeface="Arial"/>
              </a:rPr>
              <a:t>تعريف التعليم في حالات الطوار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6840" y="1687320"/>
            <a:ext cx="4551480" cy="44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" توفير فرص تعليم جيد يلبي احتياجات الحماية الجسدية، والذهنية والنفس - اجتماعية، والاحتياجات التنموية والإدراكية للأشخاص المتأثرين بالطوارئ، والذي يمكن أن يساهم في إنقاذ الأرواح والإبقاء على الحياة "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27" name="Picture 6" descr="040474G"/>
          <p:cNvPicPr/>
          <p:nvPr/>
        </p:nvPicPr>
        <p:blipFill>
          <a:blip r:embed="rId1"/>
          <a:stretch/>
        </p:blipFill>
        <p:spPr>
          <a:xfrm>
            <a:off x="5164200" y="1600200"/>
            <a:ext cx="30067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8" name="Footer Placeholder 5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ffffff"/>
                </a:solidFill>
                <a:latin typeface="Arial"/>
              </a:rPr>
              <a:t>ما هي احتياجات الأطفال التي لم تلبى في الحالات التي لم يدرج فيها التعليم من ضمن الأولويات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393720" y="1751040"/>
            <a:ext cx="559908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إعصار نارجس في مينامار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لم تعتبر وزارة التربية التعليم من ضمن الأولويات في مراحل الاستجابة الأولى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الجفاف في شمال كينيا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لم تدرج الوكالات والجهات المانحة التعليم من ضمن الأولويات في المراحل الأولى من الاستجاب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1" name="Picture 4" descr="IMG_3742"/>
          <p:cNvPicPr/>
          <p:nvPr/>
        </p:nvPicPr>
        <p:blipFill>
          <a:blip r:embed="rId1">
            <a:lum contrast="38000"/>
          </a:blip>
          <a:srcRect l="0" t="0" r="21724" b="0"/>
          <a:stretch/>
        </p:blipFill>
        <p:spPr>
          <a:xfrm>
            <a:off x="457200" y="1677960"/>
            <a:ext cx="2027160" cy="233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2" name="Picture 4" descr="DSC05283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463680" y="4097160"/>
            <a:ext cx="2020680" cy="23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3" name="Footer Placeholder 6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ffff"/>
                </a:solidFill>
                <a:latin typeface="Arial"/>
              </a:rPr>
              <a:t>نتائج عدم إعطاء الأولوية للتعليم في حالات الطوار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949560" y="1674360"/>
            <a:ext cx="45086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النزاع الإسرائيلي - اللبناني عام 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2006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لم تعط الجهات المانحة الأولوية للتعلي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العنف الذي أعقب الانتخابات في كينيا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لم تعط الجهات المانحة الأولوية للتعلي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36" name="Picture 4" descr="080102_Kenya_wide-horizontal"/>
          <p:cNvPicPr/>
          <p:nvPr/>
        </p:nvPicPr>
        <p:blipFill>
          <a:blip r:embed="rId1"/>
          <a:stretch/>
        </p:blipFill>
        <p:spPr>
          <a:xfrm>
            <a:off x="419040" y="3848040"/>
            <a:ext cx="3530520" cy="235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7" name="Picture 10" descr="Palestinia0childshowing%20shrapnel"/>
          <p:cNvPicPr/>
          <p:nvPr/>
        </p:nvPicPr>
        <p:blipFill>
          <a:blip r:embed="rId2"/>
          <a:stretch/>
        </p:blipFill>
        <p:spPr>
          <a:xfrm>
            <a:off x="463680" y="1500120"/>
            <a:ext cx="2701800" cy="225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8" name="Footer Placeholder 6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ffffff"/>
                </a:solidFill>
                <a:latin typeface="Arial"/>
              </a:rPr>
              <a:t>النتائج المترتبة على الأطفال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يمكن أن يتعرض الأطفال والشباب للأذى إن تم إهمالهم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تتفاقم الآثار النفسية بسبب عدم توفر المساحات الآمنة وفرص قضاء الوقت مع أقرانه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إهمال الاحتياجات الإدراكية واحتياجات النمو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زيادة احتمالية الانخراط في النشاطات غير الآمن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زيادة احتمالية الانقطاع عن الدراس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يمكن أن يكون الأطفال والشباب أكثر عرضة للتجنيد من قبل المجموعات والقوات المسلح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ffffff"/>
                </a:solidFill>
                <a:latin typeface="Arial"/>
              </a:rPr>
              <a:t>في الباكستان تم إعطاء الأولوية للتعليم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3" name="Content Placeholder 4" descr="earhquak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2400" y="1600200"/>
            <a:ext cx="76392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4" name="Picture 7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613480" y="4084560"/>
            <a:ext cx="2766960" cy="204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45" name="Footer Placeholder 5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الأهداف التعلمية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66"/>
                </a:solidFill>
                <a:latin typeface="Arial"/>
              </a:rPr>
              <a:t>تحديد الأنواع المختلفة من سيناريوهات الطوارئ ووصف أثرها على الأطفال والأنظمة التعليمية والمجتمعات المحلية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r" rtl="1"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66"/>
                </a:solidFill>
                <a:latin typeface="Arial"/>
              </a:rPr>
              <a:t>تعليل لم يجب أن يكون التعليم من ضمن الاستجابة الأولى لحالات الطوارئ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 algn="r" rtl="1"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66"/>
                </a:solidFill>
                <a:latin typeface="Arial"/>
              </a:rPr>
              <a:t>معرفة العهود والمواثيق الدولية، وفهم أنها تؤكد على حق المتعلمين في التعلم، حتى في أوقات الطوارئ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Footer Placeholder 6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ffffff"/>
                </a:solidFill>
                <a:latin typeface="Arial"/>
              </a:rPr>
              <a:t>لم كان الوضع مختلفا في الباكستان؟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قام جميع المعنيين بما فيهم الجهات المانحة ووكالات الإغاثة والوزارات المعنية، ودوائر إدارة الكوارث، والمجتمعات المحلية بإعطاء الأولوية للتعلي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كان الدمار الكبير الذي لحق بالمدارس ومقتل أعداد كبيرة من الناس خلال ساعات العمل سببا في التوعية بأهمية التعلي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دعمت المجتمعات المحلية التعليم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طالب الشباب والأطفال باستئناف العملية التعليمية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ffff"/>
                </a:solidFill>
                <a:latin typeface="Arial"/>
              </a:rPr>
              <a:t>تمرين المجموعات: رسائل مناصرة التعليم في حالات الطوارئ</a:t>
            </a:r>
            <a:br>
              <a:rPr sz="3200"/>
            </a:br>
            <a:r>
              <a:rPr b="1" lang="ar-QA" sz="3200" spc="-1" strike="noStrike">
                <a:solidFill>
                  <a:srgbClr val="ffffff"/>
                </a:solidFill>
                <a:latin typeface="Arial"/>
              </a:rPr>
              <a:t>مهمات المجموعات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التعليم في أماكن تضمن الأمن والأمان وتقدم الحماية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التعليم ح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التعليم أولوية بالنسبة للمجتمعات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التعليم ضروري لتطور الأطفال الذهني/ الإدراكي بشكل فعال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التعليم يحمي الحياة ويعززها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قم ببناء حجة للمهمة التي تم تكليف مجموعتك فيها، لتعرضها على الجهات المانحة ووكالات الإغاثة لتطالب بأن يكون التعليم من ضمن الاستجابة الأولية - يجب أن تتضمن الرسائل نقاط تبين أن التعليم ينقذ الأرواح ويحافظ عليها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استخدم أوراق المعلومات </a:t>
            </a: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1.1</a:t>
            </a: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 و </a:t>
            </a: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1.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يخصص لكل مجموعة </a:t>
            </a: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 دقائق لتعرض ما توصلت إليه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r" rtl="1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أعط علامة للحجج على مقياس من $، $$ إلى $$$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ffff"/>
                </a:solidFill>
                <a:latin typeface="Arial"/>
              </a:rPr>
              <a:t>التعليم هو استجابة أولية ضرورية لأن التعليم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هو</a:t>
            </a:r>
            <a:r>
              <a:rPr b="0" lang="ar-QA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حق أساسي لكافة الأطفال، يحرمون منه في كثير من الأحيان في حالات الطوار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أساسي وضروري لنمو الأطفال بشكل صحي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يمكن أن يساعد الأطفال والشباب على التعامل مع آثار الأزمات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يمكن أن يساعد في خلق إحساس بحياة طبيعية لدى الطفل والمجتم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ضروري لحماية الأطفال من خلال تقديم بيئة آمنة لهم، وتزويدهم بالمهارات التي تساعدهم في الحفاظ على حياتهم والإبقاء عليها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وسيلة هامة لتنمية التسامح وحل الأزمات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000066"/>
                </a:solidFill>
                <a:latin typeface="Arial"/>
              </a:rPr>
              <a:t>ضروري للتعافي الاقتصادي وإعادة بناء المجتمع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ffffff"/>
                </a:solidFill>
                <a:latin typeface="Arial"/>
              </a:rPr>
              <a:t>التعليم هو استجابة أولية ضرورية لأن التعلي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يمكنه أن يولد مشاركة ديمقراطية واحتراما للحقوق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يعتبره الأطفال والأهالي أولوية في حالات الطوارئ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منبر لطرح المعرفة بمهارات من شأنها أن تصون الحياة (مثلا: الوقاية من الكوليرا، والتنبه للألغام الأرضية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يرتبط بانخفاض وفيات الأمهات والأطفال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يمكنه تسهيل توثيق الروابط العائلية وتوحيدها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3"/>
          <p:cNvSpPr/>
          <p:nvPr/>
        </p:nvSpPr>
        <p:spPr>
          <a:xfrm>
            <a:off x="0" y="0"/>
            <a:ext cx="9144000" cy="158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8"/>
          <p:cNvGrpSpPr/>
          <p:nvPr/>
        </p:nvGrpSpPr>
        <p:grpSpPr>
          <a:xfrm>
            <a:off x="665280" y="417600"/>
            <a:ext cx="7789680" cy="5805360"/>
            <a:chOff x="665280" y="417600"/>
            <a:chExt cx="7789680" cy="5805360"/>
          </a:xfrm>
        </p:grpSpPr>
        <p:pic>
          <p:nvPicPr>
            <p:cNvPr id="560" name="Picture 4" descr="Mozambique cyclone '07 (7)"/>
            <p:cNvPicPr/>
            <p:nvPr/>
          </p:nvPicPr>
          <p:blipFill>
            <a:blip r:embed="rId1"/>
            <a:stretch/>
          </p:blipFill>
          <p:spPr>
            <a:xfrm>
              <a:off x="689040" y="417600"/>
              <a:ext cx="3859200" cy="28684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pic>
          <p:nvPicPr>
            <p:cNvPr id="561" name="Picture 4" descr="Mozambique floods '08 (35)"/>
            <p:cNvPicPr/>
            <p:nvPr/>
          </p:nvPicPr>
          <p:blipFill>
            <a:blip r:embed="rId2"/>
            <a:stretch/>
          </p:blipFill>
          <p:spPr>
            <a:xfrm>
              <a:off x="4589640" y="417600"/>
              <a:ext cx="3855960" cy="290196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pic>
          <p:nvPicPr>
            <p:cNvPr id="562" name="Picture 6" descr="\\Server\photo database\Media\Gaza emergency Collection\IMG_0078.jpg"/>
            <p:cNvPicPr/>
            <p:nvPr/>
          </p:nvPicPr>
          <p:blipFill>
            <a:blip r:embed="rId3"/>
            <a:stretch/>
          </p:blipFill>
          <p:spPr>
            <a:xfrm>
              <a:off x="4575240" y="3330720"/>
              <a:ext cx="3879720" cy="2865240"/>
            </a:xfrm>
            <a:prstGeom prst="rect">
              <a:avLst/>
            </a:prstGeom>
            <a:ln cap="sq" w="25560">
              <a:solidFill>
                <a:srgbClr val="000000"/>
              </a:solidFill>
              <a:miter/>
            </a:ln>
          </p:spPr>
        </p:pic>
        <p:pic>
          <p:nvPicPr>
            <p:cNvPr id="563" name="Picture 4" descr="Save_The_Children011"/>
            <p:cNvPicPr/>
            <p:nvPr/>
          </p:nvPicPr>
          <p:blipFill>
            <a:blip r:embed="rId4">
              <a:lum contrast="18000"/>
            </a:blip>
            <a:stretch/>
          </p:blipFill>
          <p:spPr>
            <a:xfrm>
              <a:off x="665280" y="3327480"/>
              <a:ext cx="3895560" cy="289548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</p:grpSp>
      <p:sp>
        <p:nvSpPr>
          <p:cNvPr id="564" name="Footer Placeholder 7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عريف الطوار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3"/>
          <p:cNvSpPr/>
          <p:nvPr/>
        </p:nvSpPr>
        <p:spPr>
          <a:xfrm>
            <a:off x="295200" y="1519200"/>
            <a:ext cx="856764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Arial"/>
              </a:rPr>
              <a:t>ب</a:t>
            </a: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رنامج الأمم المتحدة لإدارة التدريب على الكوارث (</a:t>
            </a: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UNDMTP</a:t>
            </a: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" الكارثة هي </a:t>
            </a:r>
            <a:r>
              <a:rPr b="0" lang="ar-SA" sz="3200" spc="-1" strike="noStrike">
                <a:solidFill>
                  <a:srgbClr val="000066"/>
                </a:solidFill>
                <a:latin typeface="Arial"/>
              </a:rPr>
              <a:t>اضطراب في أداء المجتمع أو التجمعات يتضمن خسائر كبيرة وآثار سلبية على الأرواح والنواحي المادية والاقتصادية والبيئية التي تفوق قدرة المجتمع أو التجمع العمراني المتأثر على مواجهتها باستخدام موارده الذاتية</a:t>
            </a: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. غالبا ما تصنف الكوارث حسب سرعة حدوثها أو وقوعها (فجائية أو تدريجية)، أو حسب مسبباتها (طبيعية أو من فعل الإنسان)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63680" y="6400800"/>
            <a:ext cx="8254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أنواع حالات الطوار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600200"/>
            <a:ext cx="822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الكوارث الطبيعية ومنها الأعاصير، الهزات الأرضية، التسونامي، الجفاف، الأوبئة، العواصف الرملية، السيول والفيضانات والانزلاقات الأرضية والبراكين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 كوارث من فعل الإنسان ومنها العصيان المدني والحرب والاحتلال والحصار الاقتصادي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 (كوارث معقدة تجمع ما بين حالات الطوارئ الطبيعية وتلك التي من فعل الإنسان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66"/>
                </a:solidFill>
                <a:latin typeface="Arial"/>
              </a:rPr>
              <a:t>أنواع الطوار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2133720" y="1600200"/>
            <a:ext cx="3124080" cy="4559040"/>
            <a:chOff x="2133720" y="1600200"/>
            <a:chExt cx="3124080" cy="4559040"/>
          </a:xfrm>
        </p:grpSpPr>
        <p:sp>
          <p:nvSpPr>
            <p:cNvPr id="573" name="AutoShape 4"/>
            <p:cNvSpPr/>
            <p:nvPr/>
          </p:nvSpPr>
          <p:spPr>
            <a:xfrm flipH="1">
              <a:off x="2133720" y="1600200"/>
              <a:ext cx="3124080" cy="3809880"/>
            </a:xfrm>
            <a:prstGeom prst="flowChartDelay">
              <a:avLst/>
            </a:prstGeom>
            <a:solidFill>
              <a:srgbClr val="99cc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"/>
            <p:cNvSpPr/>
            <p:nvPr/>
          </p:nvSpPr>
          <p:spPr>
            <a:xfrm>
              <a:off x="3124080" y="5638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800" spc="-1" strike="noStrike">
                  <a:solidFill>
                    <a:srgbClr val="000000"/>
                  </a:solidFill>
                  <a:latin typeface="Arial"/>
                </a:rPr>
                <a:t>طبيع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Group 6"/>
          <p:cNvGrpSpPr/>
          <p:nvPr/>
        </p:nvGrpSpPr>
        <p:grpSpPr>
          <a:xfrm>
            <a:off x="5257800" y="1600200"/>
            <a:ext cx="3276720" cy="4985640"/>
            <a:chOff x="5257800" y="1600200"/>
            <a:chExt cx="3276720" cy="4985640"/>
          </a:xfrm>
        </p:grpSpPr>
        <p:sp>
          <p:nvSpPr>
            <p:cNvPr id="576" name="AutoShape 7"/>
            <p:cNvSpPr/>
            <p:nvPr/>
          </p:nvSpPr>
          <p:spPr>
            <a:xfrm>
              <a:off x="5257800" y="1600200"/>
              <a:ext cx="3276720" cy="3809880"/>
            </a:xfrm>
            <a:prstGeom prst="flowChartDelay">
              <a:avLst/>
            </a:prstGeom>
            <a:solidFill>
              <a:srgbClr val="ff33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8"/>
            <p:cNvSpPr/>
            <p:nvPr/>
          </p:nvSpPr>
          <p:spPr>
            <a:xfrm>
              <a:off x="5791320" y="5638680"/>
              <a:ext cx="213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800" spc="-1" strike="noStrike">
                  <a:solidFill>
                    <a:srgbClr val="000000"/>
                  </a:solidFill>
                  <a:latin typeface="Arial"/>
                </a:rPr>
                <a:t>من صنع الإنسا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Group 9"/>
          <p:cNvGrpSpPr/>
          <p:nvPr/>
        </p:nvGrpSpPr>
        <p:grpSpPr>
          <a:xfrm>
            <a:off x="909720" y="1905120"/>
            <a:ext cx="1373760" cy="3612960"/>
            <a:chOff x="909720" y="1905120"/>
            <a:chExt cx="1373760" cy="3612960"/>
          </a:xfrm>
        </p:grpSpPr>
        <p:sp>
          <p:nvSpPr>
            <p:cNvPr id="579" name="Text Box 10"/>
            <p:cNvSpPr/>
            <p:nvPr/>
          </p:nvSpPr>
          <p:spPr>
            <a:xfrm rot="16200000">
              <a:off x="582840" y="230760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800" spc="-1" strike="noStrike">
                  <a:solidFill>
                    <a:srgbClr val="000000"/>
                  </a:solidFill>
                  <a:latin typeface="Arial"/>
                </a:rPr>
                <a:t>سريعة الحدو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xt Box 11"/>
            <p:cNvSpPr/>
            <p:nvPr/>
          </p:nvSpPr>
          <p:spPr>
            <a:xfrm rot="16200000">
              <a:off x="894960" y="4129560"/>
              <a:ext cx="1403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800" spc="-1" strike="noStrike">
                  <a:solidFill>
                    <a:srgbClr val="000000"/>
                  </a:solidFill>
                  <a:latin typeface="Arial"/>
                </a:rPr>
                <a:t>بطئية الحدو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Line 12"/>
          <p:cNvSpPr/>
          <p:nvPr/>
        </p:nvSpPr>
        <p:spPr>
          <a:xfrm>
            <a:off x="2057400" y="3657600"/>
            <a:ext cx="7086600" cy="76320"/>
          </a:xfrm>
          <a:prstGeom prst="line">
            <a:avLst/>
          </a:prstGeom>
          <a:ln cap="rnd" w="25416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3"/>
          <p:cNvSpPr/>
          <p:nvPr/>
        </p:nvSpPr>
        <p:spPr>
          <a:xfrm>
            <a:off x="2590920" y="4495680"/>
            <a:ext cx="160020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جفا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4"/>
          <p:cNvSpPr/>
          <p:nvPr/>
        </p:nvSpPr>
        <p:spPr>
          <a:xfrm>
            <a:off x="6172200" y="365760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حر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5"/>
          <p:cNvSpPr/>
          <p:nvPr/>
        </p:nvSpPr>
        <p:spPr>
          <a:xfrm>
            <a:off x="3048120" y="213372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هزة أرض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6"/>
          <p:cNvSpPr/>
          <p:nvPr/>
        </p:nvSpPr>
        <p:spPr>
          <a:xfrm>
            <a:off x="6248520" y="190512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هجوم إرهاب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7"/>
          <p:cNvSpPr/>
          <p:nvPr/>
        </p:nvSpPr>
        <p:spPr>
          <a:xfrm>
            <a:off x="2133720" y="342900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إعصا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8"/>
          <p:cNvSpPr/>
          <p:nvPr/>
        </p:nvSpPr>
        <p:spPr>
          <a:xfrm>
            <a:off x="3505320" y="2895480"/>
            <a:ext cx="160020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فيض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9"/>
          <p:cNvSpPr/>
          <p:nvPr/>
        </p:nvSpPr>
        <p:spPr>
          <a:xfrm>
            <a:off x="4495680" y="464832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مجاع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0"/>
          <p:cNvSpPr/>
          <p:nvPr/>
        </p:nvSpPr>
        <p:spPr>
          <a:xfrm>
            <a:off x="4419720" y="3352680"/>
            <a:ext cx="160020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وبا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1"/>
          <p:cNvSpPr/>
          <p:nvPr/>
        </p:nvSpPr>
        <p:spPr>
          <a:xfrm>
            <a:off x="2133720" y="2438280"/>
            <a:ext cx="160020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بركا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2"/>
          <p:cNvSpPr/>
          <p:nvPr/>
        </p:nvSpPr>
        <p:spPr>
          <a:xfrm>
            <a:off x="5105520" y="251460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تسرب مواد كيميائ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3"/>
          <p:cNvSpPr/>
          <p:nvPr/>
        </p:nvSpPr>
        <p:spPr>
          <a:xfrm>
            <a:off x="7010280" y="236232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تحطم طائ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4"/>
          <p:cNvSpPr/>
          <p:nvPr/>
        </p:nvSpPr>
        <p:spPr>
          <a:xfrm>
            <a:off x="6400800" y="4419720"/>
            <a:ext cx="1600200" cy="838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عصيان مدن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العناصر المشتركة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تؤثر على الأشخاص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نشأت بسبب خطر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تتعلق بشكل مباشر بأحد مواطن الضعف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تتجاوز قدرة الأسرة أو المجتمع المحلي أو مجموعة من الأشخاص على التحمل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تلعب العمليات الاجتماعية فيها دورا هاما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ترتبط بالمجتمع أكثر من الظواهر الطبيعية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ffffff"/>
                </a:solidFill>
                <a:latin typeface="Arial"/>
              </a:rPr>
              <a:t>الأخطار والمخاطر ومواطن الضع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spcBef>
                <a:spcPts val="72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900" spc="-1" strike="noStrike">
                <a:solidFill>
                  <a:srgbClr val="000066"/>
                </a:solidFill>
                <a:latin typeface="Arial"/>
              </a:rPr>
              <a:t>الأخطار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2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900" spc="-1" strike="noStrike">
                <a:solidFill>
                  <a:srgbClr val="000066"/>
                </a:solidFill>
                <a:latin typeface="Arial"/>
              </a:rPr>
              <a:t>حدث مادي أو من صنع الإنسان يمكن أن يتسبب في وقوع حالة طوارئ (الهزات الأرضية، الانزلاقات الطينية، الفيضانات، الانفجارات البركانية، التسونامي، الجفاف، الانهيارات الاقتصادية والحروب) 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2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900" spc="-1" strike="noStrike">
                <a:solidFill>
                  <a:srgbClr val="000066"/>
                </a:solidFill>
                <a:latin typeface="Arial"/>
              </a:rPr>
              <a:t>مواطن الضعف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 algn="r" rtl="1">
              <a:spcBef>
                <a:spcPts val="72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900" spc="-1" strike="noStrike">
                <a:solidFill>
                  <a:srgbClr val="000066"/>
                </a:solidFill>
                <a:latin typeface="Arial"/>
              </a:rPr>
              <a:t>مدى تعرض الأشخاص والأشياء للأضرار الناتجة عن المجازفات. ولذا يعتمد ضعف الأشخاص أو المجموعات على قدرتهم على التوقع والتحمل والمقاومة والتعافي من آثار المجازفات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400" spc="-1" strike="noStrike">
                <a:solidFill>
                  <a:srgbClr val="ffffff"/>
                </a:solidFill>
                <a:latin typeface="Arial"/>
              </a:rPr>
              <a:t>المخاطر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احتمالية وقوع كارثة تؤثر على مجموعة معينة من الأشخاص - يمكن أن تقدر من خلال تكرار وحدة المجازفة، عند الجمع ما بين مواطن الهشاشة وقدرة الأشخاص على التصدي لهذا الخطر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ولذا يمكن التعبير عن الخطر بأنه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الخطر = الخطر </a:t>
            </a:r>
            <a:r>
              <a:rPr b="0" lang="de-DE" sz="32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0" lang="ar-QA" sz="3200" spc="-1" strike="noStrike">
                <a:solidFill>
                  <a:srgbClr val="000066"/>
                </a:solidFill>
                <a:latin typeface="Arial"/>
              </a:rPr>
              <a:t> مواطن الهشاشة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Footer Placeholder 4"/>
          <p:cNvSpPr/>
          <p:nvPr/>
        </p:nvSpPr>
        <p:spPr>
          <a:xfrm>
            <a:off x="463680" y="6400800"/>
            <a:ext cx="8229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INEE and Global Education Clu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3:31:00Z</dcterms:created>
  <dc:creator>Lynne Bethke</dc:creator>
  <dc:description/>
  <dc:language>en-US</dc:language>
  <cp:lastModifiedBy>Farida Aboudan</cp:lastModifiedBy>
  <dcterms:modified xsi:type="dcterms:W3CDTF">2016-04-10T18:47:07Z</dcterms:modified>
  <cp:revision>147</cp:revision>
  <dc:subject/>
  <dc:title>The Impact of Emergencies and the Rationale for Education in Emergenci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Tool</vt:lpwstr>
  </property>
  <property fmtid="{D5CDD505-2E9C-101B-9397-08002B2CF9AE}" pid="3" name="ContentTypeId">
    <vt:lpwstr>0x010100D52189832E060742ABF7774652D4F97600F4F0EE4DD1CB634A8A778A62A6605817030048D4E980AFB26F42AC0EE168ACE89204</vt:lpwstr>
  </property>
  <property fmtid="{D5CDD505-2E9C-101B-9397-08002B2CF9AE}" pid="4" name="ORClusterCAS">
    <vt:lpwstr/>
  </property>
  <property fmtid="{D5CDD505-2E9C-101B-9397-08002B2CF9AE}" pid="5" name="ORClusterMultiLookup">
    <vt:lpwstr/>
  </property>
  <property fmtid="{D5CDD505-2E9C-101B-9397-08002B2CF9AE}" pid="6" name="ORClusterMultiLookupText">
    <vt:lpwstr/>
  </property>
  <property fmtid="{D5CDD505-2E9C-101B-9397-08002B2CF9AE}" pid="7" name="ORCoordinateX">
    <vt:lpwstr/>
  </property>
  <property fmtid="{D5CDD505-2E9C-101B-9397-08002B2CF9AE}" pid="8" name="ORCoordinateY">
    <vt:lpwstr/>
  </property>
  <property fmtid="{D5CDD505-2E9C-101B-9397-08002B2CF9AE}" pid="9" name="ORCopyRight">
    <vt:lpwstr/>
  </property>
  <property fmtid="{D5CDD505-2E9C-101B-9397-08002B2CF9AE}" pid="10" name="ORCountryDivMultiLookup">
    <vt:lpwstr/>
  </property>
  <property fmtid="{D5CDD505-2E9C-101B-9397-08002B2CF9AE}" pid="11" name="ORCountryMultiLookup">
    <vt:lpwstr/>
  </property>
  <property fmtid="{D5CDD505-2E9C-101B-9397-08002B2CF9AE}" pid="12" name="ORCreationDate">
    <vt:lpwstr>2011-01-11T00:00:00Z</vt:lpwstr>
  </property>
  <property fmtid="{D5CDD505-2E9C-101B-9397-08002B2CF9AE}" pid="13" name="ORCrossCuttingMultiLookup">
    <vt:lpwstr/>
  </property>
  <property fmtid="{D5CDD505-2E9C-101B-9397-08002B2CF9AE}" pid="14" name="ORDisasterLookup">
    <vt:lpwstr/>
  </property>
  <property fmtid="{D5CDD505-2E9C-101B-9397-08002B2CF9AE}" pid="15" name="ORDistribution">
    <vt:lpwstr/>
  </property>
  <property fmtid="{D5CDD505-2E9C-101B-9397-08002B2CF9AE}" pid="16" name="ORGLIDENumber">
    <vt:lpwstr/>
  </property>
  <property fmtid="{D5CDD505-2E9C-101B-9397-08002B2CF9AE}" pid="17" name="ORKeydocument">
    <vt:lpwstr>0</vt:lpwstr>
  </property>
  <property fmtid="{D5CDD505-2E9C-101B-9397-08002B2CF9AE}" pid="18" name="ORKeywordsMultiLookup">
    <vt:lpwstr>9;#Education;#47;#Emergency</vt:lpwstr>
  </property>
  <property fmtid="{D5CDD505-2E9C-101B-9397-08002B2CF9AE}" pid="19" name="ORLanguageLookup">
    <vt:lpwstr>3</vt:lpwstr>
  </property>
  <property fmtid="{D5CDD505-2E9C-101B-9397-08002B2CF9AE}" pid="20" name="ORLocationCAS">
    <vt:lpwstr/>
  </property>
  <property fmtid="{D5CDD505-2E9C-101B-9397-08002B2CF9AE}" pid="21" name="ORPCODES2MultiLookup">
    <vt:lpwstr/>
  </property>
  <property fmtid="{D5CDD505-2E9C-101B-9397-08002B2CF9AE}" pid="22" name="ORPCODESMultiLookup">
    <vt:lpwstr/>
  </property>
  <property fmtid="{D5CDD505-2E9C-101B-9397-08002B2CF9AE}" pid="23" name="ORParentContentType">
    <vt:lpwstr>Training and Resource</vt:lpwstr>
  </property>
  <property fmtid="{D5CDD505-2E9C-101B-9397-08002B2CF9AE}" pid="24" name="ORRegionMultiLookup">
    <vt:lpwstr/>
  </property>
  <property fmtid="{D5CDD505-2E9C-101B-9397-08002B2CF9AE}" pid="25" name="ORSubClusterMultiLookup">
    <vt:lpwstr/>
  </property>
  <property fmtid="{D5CDD505-2E9C-101B-9397-08002B2CF9AE}" pid="26" name="ORSupplierLookup">
    <vt:lpwstr>0</vt:lpwstr>
  </property>
  <property fmtid="{D5CDD505-2E9C-101B-9397-08002B2CF9AE}" pid="27" name="PublishingExpirationDate">
    <vt:lpwstr/>
  </property>
  <property fmtid="{D5CDD505-2E9C-101B-9397-08002B2CF9AE}" pid="28" name="PublishingRollupImage">
    <vt:lpwstr/>
  </property>
  <property fmtid="{D5CDD505-2E9C-101B-9397-08002B2CF9AE}" pid="29" name="PublishingStartDate">
    <vt:lpwstr/>
  </property>
</Properties>
</file>