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ftr" idx="10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ftr" idx="11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6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12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09cff"/>
              </a:gs>
              <a:gs pos="100000">
                <a:srgbClr val="dae1ff"/>
              </a:gs>
            </a:gsLst>
            <a:lin ang="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2049480" y="5084640"/>
            <a:ext cx="5608800" cy="609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25560"/>
            <a:ext cx="9144000" cy="144756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3"/>
          </p:nvPr>
        </p:nvSpPr>
        <p:spPr>
          <a:xfrm>
            <a:off x="463680" y="6400440"/>
            <a:ext cx="82296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4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ftr" idx="6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ftr" idx="7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ftr" idx="8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ftr" idx="9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76360" y="2130120"/>
            <a:ext cx="80755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3399"/>
                </a:solidFill>
                <a:latin typeface="Arial"/>
              </a:rPr>
              <a:t>Coordination de l’éducation</a:t>
            </a:r>
            <a:br>
              <a:rPr sz="4400"/>
            </a:br>
            <a:r>
              <a:rPr b="1" lang="fr-FR" sz="4400" spc="-1" strike="noStrike">
                <a:solidFill>
                  <a:srgbClr val="333399"/>
                </a:solidFill>
                <a:latin typeface="Arial"/>
              </a:rPr>
              <a:t>en situations d’urgence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bjectifs d’apprentissag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À la fin de cette session, les participants sauront 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laborer un plan d’intervention et des projets pour un Appel éclair dans le cadre du Cluster éducation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Utiliser les normes minimales de l’INEE comme un outil efficace permettant d’améliorer la coordination dans le contexte de la planification sectorielle et des interventions inter-agences (Cluster éducation)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0" name="Footer Placeholder 3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EXERCIC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3366"/>
                </a:solidFill>
                <a:latin typeface="Arial"/>
              </a:rPr>
              <a:t>Jeu de rôles et travail en groupe</a:t>
            </a:r>
            <a:endParaRPr b="0" lang="en-US" sz="6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Footer Placeholder 3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EXERCIC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2630520"/>
            <a:ext cx="8229600" cy="34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3366"/>
                </a:solidFill>
                <a:latin typeface="Arial"/>
              </a:rPr>
              <a:t>Présentations des groupes</a:t>
            </a:r>
            <a:endParaRPr b="0" lang="en-US" sz="6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Footer Placeholder 3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EXERCIC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165240" y="1886040"/>
            <a:ext cx="8229600" cy="37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3366"/>
                </a:solidFill>
                <a:latin typeface="Arial"/>
              </a:rPr>
              <a:t>Discussion et bilan</a:t>
            </a:r>
            <a:endParaRPr b="0" lang="en-US" sz="6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9" name="Footer Placeholder 3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Discussion par groupes nationaux – La coordinat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7200" y="1508040"/>
            <a:ext cx="843120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Structures de coordination existant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Quelles structures de coordination ont été mises en place dans votre pays 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Coordination entre le gouvernement et les ONG/l’ONU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Coordination avec les donateu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Groupes de coordination sous-sectorie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Coordination interministériel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Recensez les groupes/structures clés sur un tableau de conférence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Footer Placeholder 4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1880" y="151920"/>
            <a:ext cx="8869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Discussion par groupes nationaux – La coordination (2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65040" y="1690200"/>
            <a:ext cx="85680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Quel est le rôle des organes de coordination existants pendant ou après une situation d’urgence 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Ces organes s’occupent-ils de la coordination des interventions d’urgence 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Difficultés et stratégi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Identifiez les principales difficultés/principaux obstacles de la coordination de l’éducation pendant ou après une situation d’urgenc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Dressez la liste des stratégies et des moyens qui ont permis de lever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ces obstacle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Que faudrait-il pour que les organes de coordination existants soient efficaces pendant une situation d’urgence ? Serait-il nécessaire de créer de nouveaux mécanismes de coordination 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1" name="Footer Placeholder 4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Plan d’action pour améliorer les mécanismes de coordin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164880" y="1523520"/>
            <a:ext cx="8978760" cy="48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1- Constituez des groupes de 5 à 6 personnes et dressez </a:t>
            </a:r>
            <a:r>
              <a:rPr b="0" lang="fr-FR" sz="2000" spc="-1" strike="noStrike">
                <a:solidFill>
                  <a:srgbClr val="0066ff"/>
                </a:solidFill>
                <a:latin typeface="Arial"/>
              </a:rPr>
              <a:t>la liste des mesures que vous prendriez pour coordonner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le secteur de l’éducation dans les domaines de la préparation et de l’intervention en cas d’urgence. Regroupez ces mesures sous les 4 catégories « Structure », « Coordination », « Financement » et « Préparation »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2- Appuyez-vous sur les éléments suivants 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Document 4.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Expériences nationales personnelles dans le domaine de la coordina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Normes minimales de l’INE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Aspects techniques de l’éducation en situations d’urgence issus de la session 4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Résultats de votre discussion sur les bénéfices et les difficultés de la coordina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3- Consignez chaque mesure </a:t>
            </a:r>
            <a:r>
              <a:rPr b="0" lang="fr-FR" sz="2000" spc="-1" strike="noStrike">
                <a:solidFill>
                  <a:srgbClr val="0066ff"/>
                </a:solidFill>
                <a:latin typeface="Arial"/>
              </a:rPr>
              <a:t>sur une carte VIPP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4- Présentez les mesures envisagées et placez les cartes VIPP sous l’affiche « Mécanisme de coordination du Cluster/secteur de l’éducation » fixée au mur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4" name="Footer Placeholder 4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Partage d’expériences en matière de coordin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01320" y="1600200"/>
            <a:ext cx="866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"/>
              </a:rPr>
              <a:t>1. Constituez des groupes de 5 à 8 personnes et organisez des « </a:t>
            </a:r>
            <a:r>
              <a:rPr b="0" lang="fr-FR" sz="2200" spc="-1" strike="noStrike">
                <a:solidFill>
                  <a:srgbClr val="0066ff"/>
                </a:solidFill>
                <a:latin typeface="Arial"/>
              </a:rPr>
              <a:t>sessions express</a:t>
            </a:r>
            <a:r>
              <a:rPr b="0" lang="fr-FR" sz="2200" spc="-1" strike="noStrike">
                <a:solidFill>
                  <a:srgbClr val="000066"/>
                </a:solidFill>
                <a:latin typeface="Arial"/>
              </a:rPr>
              <a:t> » au cours desquelles des personnes ressources habituées à différents types de coordination (p. ex. groupe de travail sectoriel, cluster du CPI, sous-groupe d’une approche sectorielle) font part de leurs expériences pendant </a:t>
            </a:r>
            <a:r>
              <a:rPr b="0" lang="fr-FR" sz="2200" spc="-1" strike="noStrike">
                <a:solidFill>
                  <a:srgbClr val="0066ff"/>
                </a:solidFill>
                <a:latin typeface="Arial"/>
              </a:rPr>
              <a:t>5 minutes</a:t>
            </a:r>
            <a:r>
              <a:rPr b="0" lang="fr-FR" sz="2200" spc="-1" strike="noStrike">
                <a:solidFill>
                  <a:srgbClr val="000066"/>
                </a:solidFill>
                <a:latin typeface="Arial"/>
              </a:rPr>
              <a:t>. Cette présentation doit être brève afin de conserver du temps pour les questions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"/>
              </a:rPr>
              <a:t>2. Faites retentir un signal au bout de 5 minutes pour indiquer aux personnes ressources qu’il est temps de </a:t>
            </a:r>
            <a:r>
              <a:rPr b="0" lang="fr-FR" sz="2200" spc="-1" strike="noStrike">
                <a:solidFill>
                  <a:srgbClr val="0066ff"/>
                </a:solidFill>
                <a:latin typeface="Arial"/>
              </a:rPr>
              <a:t>passer à une autre table</a:t>
            </a:r>
            <a:r>
              <a:rPr b="0" lang="fr-FR" sz="2200" spc="-1" strike="noStrike">
                <a:solidFill>
                  <a:srgbClr val="000066"/>
                </a:solidFill>
                <a:latin typeface="Arial"/>
              </a:rPr>
              <a:t>. Continuez sur ce mode jusqu’à ce que chaque personne ressource se soit arrêtée à chaque table 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"/>
              </a:rPr>
              <a:t>3. En séance plénière, </a:t>
            </a: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discutez des points communs et des différences entre les divers types de coordination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7" name="Footer Placeholder 4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Jeu de rôles</a:t>
            </a:r>
            <a:br>
              <a:rPr sz="4000"/>
            </a:b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Réunion du Cluster éduc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Arial"/>
              </a:rPr>
              <a:t>Consacrez quelques minutes à la lecture de votre rôle. Vous êtes libre de l’adapter, mais ne devez pas en discuter avec les autres participants.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Arial"/>
              </a:rPr>
              <a:t>Vous allez participer soit à une réunion nationale du Cluster éducation, soit à une réunion de coordination dans un district.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Arial"/>
              </a:rPr>
              <a:t>Après la réunion, vous disposerez d’un instant pour réfléchir en vous appuyant sur les normes minimales de l’INEE.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0" lang="fr-FR" sz="2600" spc="-1" strike="noStrike">
                <a:solidFill>
                  <a:srgbClr val="000066"/>
                </a:solidFill>
                <a:latin typeface="Arial"/>
              </a:rPr>
              <a:t>Ensuite, les enseignements tirés de l’exercice seront débattus en séance plénière.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0" name="Footer Placeholder 4"/>
          <p:cNvSpPr/>
          <p:nvPr/>
        </p:nvSpPr>
        <p:spPr>
          <a:xfrm>
            <a:off x="417600" y="643104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90520" y="151920"/>
            <a:ext cx="849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Application des normes minimales de l’INEE à la coordination et la particip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Quelles normes ont été atteintes lors de la reunion de coordination 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Quelles normes n’ont pas été atteintes lors de la réunion de coordination 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Comment les normes peuvent-elles permettre d’améliorer la coordination et la participation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3" name="Footer Placeholder 4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69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Discussion en séance plénièr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7200" y="1600200"/>
            <a:ext cx="847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Arial"/>
              </a:rPr>
              <a:t>Quels sont les aspects fondamentaux de la coordination du Cluster/secteur de l’éducation 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Arial"/>
              </a:rPr>
              <a:t>Dans quelle mesure les normes minimales de l’INEE contribuent-elles à cette coordination ? Demandez des exemples concrets issus de l’expérience des participants ou du jeu de rôle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Arial"/>
              </a:rPr>
              <a:t>Que se produit-il si l’on attend qu’une situation d’urgence survienne pour prendre des mesures de coordination 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Arial"/>
              </a:rPr>
              <a:t>Que se produit-il si l’on n’associe pas les groupes de coordination d’urgence aux groupes sectoriels existants dans le domaine de l’éducation 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Arial"/>
              </a:rPr>
              <a:t>Quelles sont les principales mesures de coordination à prendre avan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fr-FR" sz="2000" spc="-1" strike="noStrike">
                <a:solidFill>
                  <a:srgbClr val="000066"/>
                </a:solidFill>
                <a:latin typeface="Arial"/>
              </a:rPr>
              <a:t>le déclenchement d’une urgence 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0" i="1" lang="fr-FR" sz="2000" spc="-1" strike="noStrike">
                <a:solidFill>
                  <a:srgbClr val="000066"/>
                </a:solidFill>
                <a:latin typeface="Arial"/>
              </a:rPr>
              <a:t>Pour ceux qui disposent déjà de clusters/mécanismes de coordination, quels sont les points faibles des dispositifs actuels 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6" name="Footer Placeholder 4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6360" y="2130120"/>
            <a:ext cx="80755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3399"/>
                </a:solidFill>
                <a:latin typeface="Arial"/>
              </a:rPr>
              <a:t>Simulation d’Appel éclair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23:31:00Z</dcterms:created>
  <dc:creator>Lynne Bethke</dc:creator>
  <dc:description/>
  <dc:language>en-US</dc:language>
  <cp:lastModifiedBy>Anne-Laure Rambaud</cp:lastModifiedBy>
  <dcterms:modified xsi:type="dcterms:W3CDTF">2014-02-17T16:29:18Z</dcterms:modified>
  <cp:revision>169</cp:revision>
  <dc:subject/>
  <dc:title>Education in Emergencies Coordin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Tool</vt:lpwstr>
  </property>
  <property fmtid="{D5CDD505-2E9C-101B-9397-08002B2CF9AE}" pid="3" name="ContentTypeId">
    <vt:lpwstr>0x010100D52189832E060742ABF7774652D4F97600F4F0EE4DD1CB634A8A778A62A6605817030048D4E980AFB26F42AC0EE168ACE89204</vt:lpwstr>
  </property>
  <property fmtid="{D5CDD505-2E9C-101B-9397-08002B2CF9AE}" pid="4" name="ORClusterCAS">
    <vt:lpwstr/>
  </property>
  <property fmtid="{D5CDD505-2E9C-101B-9397-08002B2CF9AE}" pid="5" name="ORClusterMultiLookup">
    <vt:lpwstr/>
  </property>
  <property fmtid="{D5CDD505-2E9C-101B-9397-08002B2CF9AE}" pid="6" name="ORClusterMultiLookupText">
    <vt:lpwstr/>
  </property>
  <property fmtid="{D5CDD505-2E9C-101B-9397-08002B2CF9AE}" pid="7" name="ORCoordinateX">
    <vt:lpwstr/>
  </property>
  <property fmtid="{D5CDD505-2E9C-101B-9397-08002B2CF9AE}" pid="8" name="ORCoordinateY">
    <vt:lpwstr/>
  </property>
  <property fmtid="{D5CDD505-2E9C-101B-9397-08002B2CF9AE}" pid="9" name="ORCopyRight">
    <vt:lpwstr/>
  </property>
  <property fmtid="{D5CDD505-2E9C-101B-9397-08002B2CF9AE}" pid="10" name="ORCountryDivMultiLookup">
    <vt:lpwstr/>
  </property>
  <property fmtid="{D5CDD505-2E9C-101B-9397-08002B2CF9AE}" pid="11" name="ORCountryMultiLookup">
    <vt:lpwstr/>
  </property>
  <property fmtid="{D5CDD505-2E9C-101B-9397-08002B2CF9AE}" pid="12" name="ORCreationDate">
    <vt:lpwstr>2011-01-06T00:00:00Z</vt:lpwstr>
  </property>
  <property fmtid="{D5CDD505-2E9C-101B-9397-08002B2CF9AE}" pid="13" name="ORCrossCuttingMultiLookup">
    <vt:lpwstr/>
  </property>
  <property fmtid="{D5CDD505-2E9C-101B-9397-08002B2CF9AE}" pid="14" name="ORDisasterLookup">
    <vt:lpwstr/>
  </property>
  <property fmtid="{D5CDD505-2E9C-101B-9397-08002B2CF9AE}" pid="15" name="ORDistribution">
    <vt:lpwstr/>
  </property>
  <property fmtid="{D5CDD505-2E9C-101B-9397-08002B2CF9AE}" pid="16" name="ORGLIDENumber">
    <vt:lpwstr/>
  </property>
  <property fmtid="{D5CDD505-2E9C-101B-9397-08002B2CF9AE}" pid="17" name="ORKeydocument">
    <vt:lpwstr>0</vt:lpwstr>
  </property>
  <property fmtid="{D5CDD505-2E9C-101B-9397-08002B2CF9AE}" pid="18" name="ORKeywordsMultiLookup">
    <vt:lpwstr>9;#Education;#47;#Emergency</vt:lpwstr>
  </property>
  <property fmtid="{D5CDD505-2E9C-101B-9397-08002B2CF9AE}" pid="19" name="ORLanguageLookup">
    <vt:lpwstr>3</vt:lpwstr>
  </property>
  <property fmtid="{D5CDD505-2E9C-101B-9397-08002B2CF9AE}" pid="20" name="ORLocationCAS">
    <vt:lpwstr/>
  </property>
  <property fmtid="{D5CDD505-2E9C-101B-9397-08002B2CF9AE}" pid="21" name="ORPCODES2MultiLookup">
    <vt:lpwstr/>
  </property>
  <property fmtid="{D5CDD505-2E9C-101B-9397-08002B2CF9AE}" pid="22" name="ORPCODESMultiLookup">
    <vt:lpwstr/>
  </property>
  <property fmtid="{D5CDD505-2E9C-101B-9397-08002B2CF9AE}" pid="23" name="ORParentContentType">
    <vt:lpwstr>Training and Resource</vt:lpwstr>
  </property>
  <property fmtid="{D5CDD505-2E9C-101B-9397-08002B2CF9AE}" pid="24" name="ORRegionMultiLookup">
    <vt:lpwstr/>
  </property>
  <property fmtid="{D5CDD505-2E9C-101B-9397-08002B2CF9AE}" pid="25" name="ORSubClusterMultiLookup">
    <vt:lpwstr/>
  </property>
  <property fmtid="{D5CDD505-2E9C-101B-9397-08002B2CF9AE}" pid="26" name="ORSupplierLookup">
    <vt:lpwstr>0</vt:lpwstr>
  </property>
  <property fmtid="{D5CDD505-2E9C-101B-9397-08002B2CF9AE}" pid="27" name="PublishingExpirationDate">
    <vt:lpwstr/>
  </property>
  <property fmtid="{D5CDD505-2E9C-101B-9397-08002B2CF9AE}" pid="28" name="PublishingRollupImage">
    <vt:lpwstr/>
  </property>
  <property fmtid="{D5CDD505-2E9C-101B-9397-08002B2CF9AE}" pid="29" name="PublishingStartDate">
    <vt:lpwstr/>
  </property>
</Properties>
</file>