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920960" y="5046840"/>
            <a:ext cx="5608440" cy="609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20560" y="536400"/>
            <a:ext cx="801864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fr-CH" sz="4800" spc="-1" strike="noStrike">
                <a:solidFill>
                  <a:srgbClr val="ffffff"/>
                </a:solidFill>
                <a:latin typeface="Arial"/>
              </a:rPr>
              <a:t>Éducation d’urgence :</a:t>
            </a:r>
            <a:br>
              <a:rPr sz="4800"/>
            </a:br>
            <a:r>
              <a:rPr b="1" lang="fr-CH" sz="4800" spc="-1" strike="noStrike">
                <a:solidFill>
                  <a:srgbClr val="ffffff"/>
                </a:solidFill>
                <a:latin typeface="Arial"/>
              </a:rPr>
              <a:t>relèvement précoce           et transition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tudes de cas relatives aux campagnes de retour à l’éco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Côte d’Ivoi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4 années de crise sociopolitiq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égradation des infrastructures éducativ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ivision du pays entre le Nord et le Sud – Présence des forces de maintien de la paix des Nations Uni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es milliers de personnes ont fui leur maison pour se réfugier dans les zones contrôlées par le gouvernement, d’où un engorgement des services d’éduc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48320" y="3660480"/>
            <a:ext cx="4495680" cy="27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Mise en œuvre de la campagne de retour à l’école en 2006/2007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Plus de 686 000 enfants, dont 282 800 filles, sont retournés à l’éco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mparaison avec les chiffres de 2005 : 49 00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 enfants scolarisés, dont 60 000 fil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5626080" y="1528920"/>
            <a:ext cx="25401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tudes de cas relatives aux campagnes de retour à l’éco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1446120"/>
            <a:ext cx="464832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Angol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30 années de guerre civil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Importants déplacements de population et effondrement des infrastructures éducativ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44 % des enfants angolais ne sont pas scolarisé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Les établissements scolaires ont été détruits et les enseignants ont fui en raison de l’insécurité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n 2003, le ministère de l’Éducation angolais et l’UNICEF ont lancé une campagne de retour à l’école dans 18 provinc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4304880"/>
            <a:ext cx="44956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4 600 salles de classes ont été remises en éta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a campagne a été étendue à l’ensemble du pay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Le ministère de l’Éducation a recruté 29 000 enseignants supplémentair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"/>
          <p:cNvPicPr/>
          <p:nvPr/>
        </p:nvPicPr>
        <p:blipFill>
          <a:blip r:embed="rId1"/>
          <a:stretch/>
        </p:blipFill>
        <p:spPr>
          <a:xfrm>
            <a:off x="5040360" y="1655640"/>
            <a:ext cx="3306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tudes de cas relatives aux campagnes de retour à l’éco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1392120"/>
            <a:ext cx="4859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"/>
              </a:rPr>
              <a:t>Nép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endant l’insurrection maoïste, les écoles ont été prises pour cibles pour des raisons politiqu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La campagne « Bienvenue à l’école » a été lancée pour atteindre les filles et les communautés rurale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n 2004, dans 15 districts, des organisations communautaires ont intercédé auprès des Maoïstes afin qu’ils soutiennent ou qu’ils s’abstiennent de saborder la campagn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Une campagne semblable a été menée à l’échelle nationale par le ministère de l’Éducation en 2005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54160" y="3661920"/>
            <a:ext cx="438948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En 2006, des représentants interministériels, des journalistes et la Campagne internationale pour l’Éducation ont collaboré à la campagne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65 des 75 districts ciblés en 2005 et le reste en 2006.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Plus de 63 000 enseignants mobilisé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23 877 écoles participantes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500 000 élèves inscrits à l’école primaire en 2005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457200" y="6510240"/>
            <a:ext cx="8255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DSC_0137"/>
          <p:cNvPicPr/>
          <p:nvPr/>
        </p:nvPicPr>
        <p:blipFill>
          <a:blip r:embed="rId1"/>
          <a:stretch/>
        </p:blipFill>
        <p:spPr>
          <a:xfrm>
            <a:off x="5543640" y="1407960"/>
            <a:ext cx="2973240" cy="22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Réintégration des élè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0160" y="1490400"/>
            <a:ext cx="912348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Quels sont les problèmes soulevés par la réintégration des élèves après une situation d’urgence 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Quels sont les problèmes auxquels se heurtent de nombreux enfants qui ont été déplacés 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Comment les enjeux et les problèmes peuvent-ils varier en fonction du sexe (garçons/filles) et de l’âge (tranches d’âge) 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Quels groupes en particulier risquent de connaître de difficultés d’accès à l’éducation après une situation d’urgence 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groups might be especial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ulnerable regarding access to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ducation after emergenci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6141960" y="4756320"/>
            <a:ext cx="25513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Réintégration des enseigna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22400" y="1599840"/>
            <a:ext cx="902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Quels sont les problèmes soulevés par la réintégration des enseignants après une situation d’urgence 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Quelles circonstances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sont particulièrement  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susceptibles de freine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la réintégration 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5049720" y="3457440"/>
            <a:ext cx="3506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Nouveaux programmes scolair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1599840"/>
            <a:ext cx="63817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Pourquoi un nouveau programme scolaire peut-il s’avérer nécessaire lors de la reprise de l’éducation formelle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s sujets/thèmes peuvent être inclus dans le nouveau programme scolaire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Quels sont les enjeux de l’élaboration et de la publication d’un nouveau programme scolaire 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6381720" y="2124000"/>
            <a:ext cx="26398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Planifier la trans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Travail en group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Élaborez un plan pour résoudre les enjeux du domaine qui vous a été attribué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Puisez dans votre expérience personnelle et dans les exemples issus de votre pay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Utilisez les documents distribués.</a:t>
            </a:r>
            <a:r>
              <a:rPr b="0" lang="fr-CH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Vous disposez de 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20 minut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Au-delà de l’éducation formel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63440" y="1712880"/>
            <a:ext cx="87487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Quelles autres questions doivent être abordées outre la réintégration des enfants dans l’éducation formelle 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3808440" y="3368520"/>
            <a:ext cx="42321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9080" y="1514160"/>
            <a:ext cx="88837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Soutien psychosocial pour surmonter les traumatism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éintégration des enfants solda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L’éducation au bénéfice de tou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ducation non formel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urs de rattrapage et apprentissage accéléré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ours d’alphabétisation pour adult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ducation à la paix, compétences pratiques et règlement des confli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2800" indent="0" algn="ctr">
              <a:lnSpc>
                <a:spcPts val="275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  <a:ea typeface="Calibri"/>
              </a:rPr>
              <a:t>Objectifs pédagogiq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Espace réservé du contenu 1" descr=""/>
          <p:cNvPicPr/>
          <p:nvPr/>
        </p:nvPicPr>
        <p:blipFill>
          <a:blip r:embed="rId1"/>
          <a:stretch/>
        </p:blipFill>
        <p:spPr>
          <a:xfrm>
            <a:off x="0" y="1843200"/>
            <a:ext cx="9144000" cy="4448160"/>
          </a:xfrm>
          <a:prstGeom prst="rect">
            <a:avLst/>
          </a:prstGeom>
          <a:ln w="0">
            <a:noFill/>
          </a:ln>
        </p:spPr>
      </p:pic>
      <p:sp>
        <p:nvSpPr>
          <p:cNvPr id="508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Le relèvement précoc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71600" y="149040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Fait partie de l’action humanitaire et n’est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PA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une phase à part de l’interven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oit débuter dès que possib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Vise à stimuler un développement pérenne en créant des processus contrôlés par les pa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ssure la transition entre la mise en œuvre directe et le renforcement des capacités des acteurs locaux/nationaux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674280" y="4856040"/>
            <a:ext cx="8218800" cy="1501920"/>
            <a:chOff x="674280" y="4856040"/>
            <a:chExt cx="8218800" cy="1501920"/>
          </a:xfrm>
        </p:grpSpPr>
        <p:sp>
          <p:nvSpPr>
            <p:cNvPr id="513" name="AutoShape 14"/>
            <p:cNvSpPr/>
            <p:nvPr/>
          </p:nvSpPr>
          <p:spPr>
            <a:xfrm>
              <a:off x="674640" y="5533920"/>
              <a:ext cx="3552120" cy="824040"/>
            </a:xfrm>
            <a:custGeom>
              <a:avLst/>
              <a:gdLst>
                <a:gd name="textAreaLeft" fmla="*/ 0 w 3552120"/>
                <a:gd name="textAreaRight" fmla="*/ 3552480 w 355212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Intervention humanita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15"/>
            <p:cNvSpPr/>
            <p:nvPr/>
          </p:nvSpPr>
          <p:spPr>
            <a:xfrm>
              <a:off x="3321360" y="5533920"/>
              <a:ext cx="3203640" cy="820440"/>
            </a:xfrm>
            <a:custGeom>
              <a:avLst/>
              <a:gdLst>
                <a:gd name="textAreaLeft" fmla="*/ 0 w 3203640"/>
                <a:gd name="textAreaRight" fmla="*/ 3204000 w 320364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lèv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AutoShape 16"/>
            <p:cNvSpPr/>
            <p:nvPr/>
          </p:nvSpPr>
          <p:spPr>
            <a:xfrm>
              <a:off x="5689440" y="5533920"/>
              <a:ext cx="3203640" cy="820440"/>
            </a:xfrm>
            <a:custGeom>
              <a:avLst/>
              <a:gdLst>
                <a:gd name="textAreaLeft" fmla="*/ 0 w 3203640"/>
                <a:gd name="textAreaRight" fmla="*/ 3204000 w 320364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9cc00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évelopp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19"/>
            <p:cNvSpPr/>
            <p:nvPr/>
          </p:nvSpPr>
          <p:spPr>
            <a:xfrm rot="5400000">
              <a:off x="2311560" y="3557160"/>
              <a:ext cx="277200" cy="3552120"/>
            </a:xfrm>
            <a:custGeom>
              <a:avLst/>
              <a:gdLst>
                <a:gd name="textAreaLeft" fmla="*/ 177120 w 277200"/>
                <a:gd name="textAreaRight" fmla="*/ 277560 w 277200"/>
                <a:gd name="textAreaTop" fmla="*/ 92520 h 3552120"/>
                <a:gd name="textAreaBottom" fmla="*/ 3459600 h 355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21"/>
            <p:cNvSpPr/>
            <p:nvPr/>
          </p:nvSpPr>
          <p:spPr>
            <a:xfrm>
              <a:off x="1580040" y="4856040"/>
              <a:ext cx="26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lèvement préco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de l’intervention en cas de catastroph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Footer Placeholder 2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Image 1" descr=""/>
          <p:cNvPicPr/>
          <p:nvPr/>
        </p:nvPicPr>
        <p:blipFill>
          <a:blip r:embed="rId1"/>
          <a:stretch/>
        </p:blipFill>
        <p:spPr>
          <a:xfrm>
            <a:off x="463680" y="1531800"/>
            <a:ext cx="9134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Approche du relèvement précoce 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ermet à l’intervention humanitaire de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ésorber les problèmes structurels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et de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ontribuer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aux objectifs de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 développement à long term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Cherche à connaître les opinions des personnes affectée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pour définir leurs priorités en matière de relèvement péren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Renforce les capacités d’exécution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acteurs nationaux, provinciaux et locaux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S’appuie sur les points forts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communautés affectées (plutôt que de ne s’occuper que de leurs besoins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Est </a:t>
            </a:r>
            <a:r>
              <a:rPr b="1" lang="fr-FR" sz="2400" spc="-1" strike="noStrike">
                <a:solidFill>
                  <a:srgbClr val="000066"/>
                </a:solidFill>
                <a:latin typeface="Arial"/>
              </a:rPr>
              <a:t>globale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, chercher à établir des synergies entre les différents secteurs.</a:t>
            </a:r>
            <a:br>
              <a:rPr sz="2400"/>
            </a:b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omposantes du relève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800000"/>
            <a:ext cx="8229600" cy="44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éparation des écoles et construction de nouveaux établisse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Campagnes de retour à l’école et de scolaris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éintégration des élè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Réintégration des enseigna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Nouveaux programmes scolair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6413400" y="4390920"/>
            <a:ext cx="22798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Réparation des écoles et construction de nouveaux établiss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0" y="13780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Le gouvernement dirige la réparation et la construction des écoles avec l’appui des partenaires de l’éduca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Les communautés et les autorités locales chargées de l’éducation doivent jouer un rôle clé dans les programmes de réparation et de construc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Les mesures de soutien technique extérieures doivent être adaptées aux communautés et aux enfant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Les programmes de réparation et de construction doivent en outre 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- Appliquer les normes requis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- Utiliser des matériaux locaux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- Être adaptés aux enfant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- Être rentabl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fr-FR" sz="2200" spc="-1" strike="noStrike">
                <a:solidFill>
                  <a:srgbClr val="000066"/>
                </a:solidFill>
                <a:latin typeface="Arial"/>
              </a:rPr>
              <a:t>- Respecter les principes de réduction des risques de catastrophe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Normes minimales de l’INE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1519200"/>
            <a:ext cx="91440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Norme fondamentale : Participation communautai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Norme 1 relative à la participa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membres de la communauté participent activement, de façon transparente et sans discrimination à l’analyse, la planification, la conception, la mise en œuvre, le suivi et l’évaluation des interventions éducativ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Domaine : Accès et environnement d’apprentiss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Norme 2 relative à la protection et au bien-êtr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environnements d’apprentissage sont sans danger et sûrs et contribuent au bien-être psychosocial des apprenants, des enseignants et autres personnels de l’éducatio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Norme 3 relative aux établissements et aux servic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Arial"/>
              </a:rPr>
              <a:t>Les établissements scolaires contribuent à la sécurité et au bien-être des apprenants, des enseignants et autres personnels de l’éducation et sont en lien avec des services de santé, de nutrition, de protection, et des services psychosociaux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Études de cas relatives aux campagnes de retour à l’éco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46240" y="1547640"/>
            <a:ext cx="4821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Libéria</a:t>
            </a: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14 années de confli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éplacements massifs de populatio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Effondrement du système éducatif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ancement de campagnes de retour à l’école en 2003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Objectif : 1 million d’enfants rescolarisés fin 2004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Résultat : 800 000 enfants rescolarisés en décembre 2004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105520" y="3924000"/>
            <a:ext cx="40384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Sessions d’orientation suivies par 7 200 enseignants (ateliers de trois jours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réation de 3 700 espaces d’apprentissage (écoles et autres structures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et Cluster éducation mond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"/>
          <p:cNvPicPr/>
          <p:nvPr/>
        </p:nvPicPr>
        <p:blipFill>
          <a:blip r:embed="rId1"/>
          <a:stretch/>
        </p:blipFill>
        <p:spPr>
          <a:xfrm>
            <a:off x="5067360" y="1547640"/>
            <a:ext cx="3651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clairene</cp:lastModifiedBy>
  <dcterms:modified xsi:type="dcterms:W3CDTF">2014-07-30T13:54:32Z</dcterms:modified>
  <cp:revision>294</cp:revision>
  <dc:subject/>
  <dc:title>Emergencies in Emergencies Early Recovery and Trans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06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