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50D-2FCD-4AED-956B-F6892AC705E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EA9-7BA6-4E27-89A3-4E56B39B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50E7-9581-4083-A196-4FA2189A4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D1B-0EB7-44BF-A26B-176C626E50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2020-994A-4FFF-9417-E6B587CB4A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00A5-93C1-4015-9185-AED3CA9537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989B-2F9E-45E3-8D9F-302E83F82B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B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FEE-4870-4E2E-B2A3-A0B4729247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1828800" y="4764240"/>
            <a:ext cx="5594400" cy="590400"/>
            <a:chOff x="1828800" y="4764240"/>
            <a:chExt cx="5594400" cy="590400"/>
          </a:xfrm>
        </p:grpSpPr>
        <p:pic>
          <p:nvPicPr>
            <p:cNvPr id="46" name="Picture 9" descr="Global_Education_CMYK.jpg"/>
            <p:cNvPicPr/>
            <p:nvPr/>
          </p:nvPicPr>
          <p:blipFill>
            <a:blip r:embed="rId2"/>
            <a:stretch/>
          </p:blipFill>
          <p:spPr>
            <a:xfrm>
              <a:off x="1828800" y="4764240"/>
              <a:ext cx="24829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0" descr=""/>
            <p:cNvPicPr/>
            <p:nvPr/>
          </p:nvPicPr>
          <p:blipFill>
            <a:blip r:embed="rId3"/>
            <a:stretch/>
          </p:blipFill>
          <p:spPr>
            <a:xfrm>
              <a:off x="4344840" y="4768920"/>
              <a:ext cx="3078360" cy="5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4"/>
          <p:cNvSpPr/>
          <p:nvPr/>
        </p:nvSpPr>
        <p:spPr>
          <a:xfrm>
            <a:off x="642960" y="1903320"/>
            <a:ext cx="7632720" cy="2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rítica Constr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y manejo de dificult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___1mafalda_criticaConstructiva"/>
          <p:cNvPicPr/>
          <p:nvPr/>
        </p:nvPicPr>
        <p:blipFill>
          <a:blip r:embed="rId1"/>
          <a:stretch/>
        </p:blipFill>
        <p:spPr>
          <a:xfrm>
            <a:off x="642960" y="4071960"/>
            <a:ext cx="7639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0920" y="769680"/>
            <a:ext cx="8318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riticar con habilidad – cont.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611280" y="1415880"/>
            <a:ext cx="7632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Arial"/>
              </a:rPr>
              <a:t>Recordemos: </a:t>
            </a: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Si se falla al dar críticas, puede tener como result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a) 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Que no haya un cambio </a:t>
            </a: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en el comportamiento de l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b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) Una enorme confrontación en el futuro</a:t>
            </a: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c) </a:t>
            </a:r>
            <a:r>
              <a:rPr b="1" lang="es-ES" sz="2800" spc="-1" strike="noStrike">
                <a:solidFill>
                  <a:srgbClr val="002060"/>
                </a:solidFill>
                <a:latin typeface="Arial"/>
              </a:rPr>
              <a:t>Problemas en la continuidad de la relación </a:t>
            </a:r>
            <a:r>
              <a:rPr b="0" lang="es-ES" sz="2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1280" y="769680"/>
            <a:ext cx="76327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Recibir crí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611280" y="1484280"/>
            <a:ext cx="7632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cuchando la crítica en lugar de reaccionar inmediatamente o de argumentar en con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ser incómodas de escuchar, pero seríamos más pobres sin ell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emás pueden tener su propia opinión sobre u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ted también tiene derecho a su propia opinión y que puede elegir el ignorar los cometarios de otros por ser ir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769680"/>
            <a:ext cx="7634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Recibir críticas – Cont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11280" y="1700280"/>
            <a:ext cx="7632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. Tenga claro lo que se ha di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vite conclusiones precipitadas poniendose a la defens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bando los comentarios con otras personas sin quedarse únicamente con la opinión de u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 una única opinión, puede llegar a pensar que es mas de lo m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769680"/>
            <a:ext cx="7634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Recibir críticas – Cont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611280" y="1484280"/>
            <a:ext cx="76327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idiendo la crítica que quiere y no ob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icitarla si nadie nos las ofrece espontáne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licitar la crítica que nos resulte de utilidad y que no se nos está ofrec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5. Sabiendo qué hará tras l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la recibimos podemos identificar su valía, las consecuencias de ignorarla o de usarla y, finalmente, decidir qué hare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potestad suya el aceptar o rechaz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adezca a la persona que le ofreció la crí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2 Rectángulo"/>
          <p:cNvSpPr/>
          <p:nvPr/>
        </p:nvSpPr>
        <p:spPr>
          <a:xfrm>
            <a:off x="611280" y="1773360"/>
            <a:ext cx="756108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lige a tu pareja (persona con la que aun no has interactu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Una de las personas, </a:t>
            </a:r>
            <a:r>
              <a:rPr b="1" lang="pt-PT" sz="2800" spc="-1" strike="noStrike" u="sng">
                <a:solidFill>
                  <a:srgbClr val="ffffff"/>
                </a:solidFill>
                <a:uFillTx/>
                <a:latin typeface="Arial"/>
              </a:rPr>
              <a:t>expone en 3 minutos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cualquier tema del Manual Esfera, </a:t>
            </a:r>
            <a:r>
              <a:rPr b="1" lang="pt-PT" sz="2800" spc="-1" strike="noStrike" u="sng">
                <a:solidFill>
                  <a:srgbClr val="ffffff"/>
                </a:solidFill>
                <a:uFillTx/>
                <a:latin typeface="Arial"/>
              </a:rPr>
              <a:t>de manera convincente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(se permite usar el Man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La otra persona </a:t>
            </a:r>
            <a:r>
              <a:rPr b="1" lang="pt-PT" sz="2800" spc="-1" strike="noStrike" u="sng">
                <a:solidFill>
                  <a:srgbClr val="ffffff"/>
                </a:solidFill>
                <a:uFillTx/>
                <a:latin typeface="Arial"/>
              </a:rPr>
              <a:t>ofrece crítica constructiva, en 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mbian los papeles y aplican pasos 2 y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1 Título"/>
          <p:cNvSpPr/>
          <p:nvPr/>
        </p:nvSpPr>
        <p:spPr>
          <a:xfrm>
            <a:off x="663480" y="1854360"/>
            <a:ext cx="74804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Lucida Calligraphy"/>
                <a:ea typeface="MS PGothic"/>
              </a:rPr>
              <a:t>La última cosa que aprendemos sobre nosotros mismos, es el efecto que causamos en otros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2857680" y="3643200"/>
            <a:ext cx="32540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anejando dificultad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3" descr=""/>
          <p:cNvPicPr/>
          <p:nvPr/>
        </p:nvPicPr>
        <p:blipFill>
          <a:blip r:embed="rId1"/>
          <a:stretch/>
        </p:blipFill>
        <p:spPr>
          <a:xfrm>
            <a:off x="714240" y="1774800"/>
            <a:ext cx="77868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cuerde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3 CuadroTexto"/>
          <p:cNvSpPr/>
          <p:nvPr/>
        </p:nvSpPr>
        <p:spPr>
          <a:xfrm>
            <a:off x="395280" y="19162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itica Justif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6 CuadroTexto"/>
          <p:cNvSpPr/>
          <p:nvPr/>
        </p:nvSpPr>
        <p:spPr>
          <a:xfrm>
            <a:off x="2411280" y="40435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ritica Injustific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cuerde: Critica Justific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2 CuadroTexto"/>
          <p:cNvSpPr/>
          <p:nvPr/>
        </p:nvSpPr>
        <p:spPr>
          <a:xfrm>
            <a:off x="395280" y="177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3 CuadroTexto"/>
          <p:cNvSpPr/>
          <p:nvPr/>
        </p:nvSpPr>
        <p:spPr>
          <a:xfrm>
            <a:off x="1763640" y="1700280"/>
            <a:ext cx="54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iegue la cr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ponga a la defens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bata la cr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5 CuadroTexto"/>
          <p:cNvSpPr/>
          <p:nvPr/>
        </p:nvSpPr>
        <p:spPr>
          <a:xfrm>
            <a:off x="395280" y="458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6 CuadroTexto"/>
          <p:cNvSpPr/>
          <p:nvPr/>
        </p:nvSpPr>
        <p:spPr>
          <a:xfrm>
            <a:off x="1763640" y="414972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scu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sponda, preguntando información directa especif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cuerde: Critica No Justific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2 CuadroTexto"/>
          <p:cNvSpPr/>
          <p:nvPr/>
        </p:nvSpPr>
        <p:spPr>
          <a:xfrm>
            <a:off x="395280" y="1773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3 CuadroTexto"/>
          <p:cNvSpPr/>
          <p:nvPr/>
        </p:nvSpPr>
        <p:spPr>
          <a:xfrm>
            <a:off x="1763640" y="1700280"/>
            <a:ext cx="54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aiga en la provo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iegue la cr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 enf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bate la cri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26"/>
          <p:cNvSpPr/>
          <p:nvPr/>
        </p:nvSpPr>
        <p:spPr>
          <a:xfrm>
            <a:off x="684360" y="692280"/>
            <a:ext cx="799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  <a:ea typeface="MS PGothic"/>
              </a:rPr>
              <a:t>Causas que </a:t>
            </a:r>
            <a:r>
              <a:rPr b="0" lang="en-US" sz="3200" spc="-1" strike="noStrike">
                <a:solidFill>
                  <a:srgbClr val="f2f2f2"/>
                </a:solidFill>
                <a:latin typeface="Arial"/>
                <a:ea typeface="MS PGothic"/>
              </a:rPr>
              <a:t>llevan</a:t>
            </a:r>
            <a:r>
              <a:rPr b="1" lang="en-US" sz="3200" spc="-1" strike="noStrike">
                <a:solidFill>
                  <a:srgbClr val="f2f2f2"/>
                </a:solidFill>
                <a:latin typeface="Arial"/>
                <a:ea typeface="MS PGothic"/>
              </a:rPr>
              <a:t> a dificult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684360" y="1628640"/>
            <a:ext cx="3714480" cy="64296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Arial"/>
              </a:rPr>
              <a:t>Cerebro reptili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11 Imagen" descr="http://www.adrformacion.com/udsimg/intemo/1/reptil2.jpg"/>
          <p:cNvPicPr/>
          <p:nvPr/>
        </p:nvPicPr>
        <p:blipFill>
          <a:blip r:embed="rId1"/>
          <a:stretch/>
        </p:blipFill>
        <p:spPr>
          <a:xfrm>
            <a:off x="971640" y="2421000"/>
            <a:ext cx="2928960" cy="14288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4643280" y="1643040"/>
            <a:ext cx="4286520" cy="78588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Detonadores Butt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2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2641680" cy="1643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7"/>
          <p:cNvSpPr/>
          <p:nvPr/>
        </p:nvSpPr>
        <p:spPr>
          <a:xfrm>
            <a:off x="2346480" y="4869000"/>
            <a:ext cx="4105080" cy="1143000"/>
          </a:xfrm>
          <a:prstGeom prst="rect">
            <a:avLst/>
          </a:prstGeom>
          <a:noFill/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96920"/>
                <a:tab algn="l" pos="393840"/>
                <a:tab algn="l" pos="590400"/>
                <a:tab algn="l" pos="787320"/>
                <a:tab algn="l" pos="984240"/>
                <a:tab algn="l" pos="1181160"/>
                <a:tab algn="l" pos="1378080"/>
                <a:tab algn="l" pos="1574640"/>
                <a:tab algn="l" pos="1771560"/>
                <a:tab algn="l" pos="1968480"/>
                <a:tab algn="l" pos="2165400"/>
                <a:tab algn="l" pos="2362320"/>
                <a:tab algn="l" pos="2558880"/>
                <a:tab algn="l" pos="2755800"/>
                <a:tab algn="l" pos="2952720"/>
                <a:tab algn="l" pos="3149640"/>
                <a:tab algn="l" pos="3346560"/>
                <a:tab algn="l" pos="3543480"/>
                <a:tab algn="l" pos="3740040"/>
                <a:tab algn="l" pos="393696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Menos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Describir la estructura de una crítica constructiva (retro-alimentació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Demostrar el dar y recibir una crítica de forma adecuada y asertiva, para que se produzca un aprendizaje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dentificar por lo menos un mecanismo para evitar que se activen las causas que provocan dificultad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Analizar situaciones y comportamientos  que se producen en eventos de capacitación y causan problemas a los facilitador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785520" y="42876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Objetivos de aprendizaj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cuerde: Menospreci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3 CuadroTexto"/>
          <p:cNvSpPr/>
          <p:nvPr/>
        </p:nvSpPr>
        <p:spPr>
          <a:xfrm>
            <a:off x="684360" y="184464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dentifíqu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cubra al que los esta hacie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antenga su voz en calma sea aser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cuerde: Dificultad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3 CuadroTexto"/>
          <p:cNvSpPr/>
          <p:nvPr/>
        </p:nvSpPr>
        <p:spPr>
          <a:xfrm>
            <a:off x="324000" y="1844640"/>
            <a:ext cx="83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tener contacto vis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strar efecto adecu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idar el volumen, claridad de la voz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comentarios positivos sobre las experiencias positivas del particip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entar sobre intereses del particip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preguntas al particip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3"/>
          <p:cNvSpPr/>
          <p:nvPr/>
        </p:nvSpPr>
        <p:spPr>
          <a:xfrm>
            <a:off x="611280" y="3284640"/>
            <a:ext cx="59054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Actualmente nuestro cerebro está formado por capas y el CR es la parte más primi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e encarga de los instintos más básicos de sobrevivencia (búsqueda de comida, deseo sexual, respuestas agresivas del tipo pelea-o-huye, defens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En los reptiles las respuestas son autom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060"/>
                </a:solidFill>
                <a:latin typeface="Arial"/>
                <a:ea typeface="Arial"/>
              </a:rPr>
              <a:t>www.inteligencia-emociona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00000" y="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erebro Rep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3 Imagen" descr="imagen"/>
          <p:cNvPicPr/>
          <p:nvPr/>
        </p:nvPicPr>
        <p:blipFill>
          <a:blip r:embed="rId1"/>
          <a:stretch/>
        </p:blipFill>
        <p:spPr>
          <a:xfrm>
            <a:off x="611280" y="765000"/>
            <a:ext cx="4354560" cy="2468880"/>
          </a:xfrm>
          <a:prstGeom prst="rect">
            <a:avLst/>
          </a:prstGeom>
          <a:ln w="0">
            <a:noFill/>
          </a:ln>
        </p:spPr>
      </p:pic>
      <p:pic>
        <p:nvPicPr>
          <p:cNvPr id="571" name="5 Imagen" descr="imagen"/>
          <p:cNvPicPr/>
          <p:nvPr/>
        </p:nvPicPr>
        <p:blipFill>
          <a:blip r:embed="rId2"/>
          <a:stretch/>
        </p:blipFill>
        <p:spPr>
          <a:xfrm>
            <a:off x="6519960" y="2781360"/>
            <a:ext cx="2624040" cy="32986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5219640" y="907920"/>
            <a:ext cx="28814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ta de más de 200 millon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ños de evolu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9"/>
          <p:cNvSpPr/>
          <p:nvPr/>
        </p:nvSpPr>
        <p:spPr>
          <a:xfrm>
            <a:off x="900000" y="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erebro Rep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4 Imagen" descr="imagen"/>
          <p:cNvPicPr/>
          <p:nvPr/>
        </p:nvPicPr>
        <p:blipFill>
          <a:blip r:embed="rId1"/>
          <a:stretch/>
        </p:blipFill>
        <p:spPr>
          <a:xfrm>
            <a:off x="4427640" y="981000"/>
            <a:ext cx="3600360" cy="19083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684360" y="3284640"/>
            <a:ext cx="76327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iferencias</a:t>
            </a:r>
            <a:r>
              <a:rPr b="1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Nuestro cerebro tiene </a:t>
            </a:r>
            <a:r>
              <a:rPr b="0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corteza cerebral</a:t>
            </a: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(con todos sus circuitos para el pensamiento , seleccionar, decidir, planificar, etc.).   En los reptiles las respuestas son automá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Sin  embargo, aún dirige parte de nuestros mecanismos (cortejar, casarse, buscar hogar, seleccionar dirigentes, etc).  </a:t>
            </a:r>
            <a:r>
              <a:rPr b="0" lang="pt-BR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Aún tenemos</a:t>
            </a:r>
            <a:r>
              <a:rPr b="0" lang="pt-BR" sz="2000" spc="-1" strike="noStrike">
                <a:solidFill>
                  <a:srgbClr val="002060"/>
                </a:solidFill>
                <a:latin typeface="Arial"/>
                <a:ea typeface="Arial"/>
              </a:rPr>
              <a:t> estructuras cerebrales muy parecidas al caballo y cocodrilo. </a:t>
            </a:r>
            <a:r>
              <a:rPr b="0" lang="pt-BR" sz="1600" spc="-1" strike="noStrike">
                <a:solidFill>
                  <a:srgbClr val="002060"/>
                </a:solidFill>
                <a:latin typeface="Arial"/>
                <a:ea typeface="Arial"/>
              </a:rPr>
              <a:t>(Paul Maclean, neurofisiólogo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www.inteligencia-emocional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3 Imagen" descr="imagen"/>
          <p:cNvPicPr/>
          <p:nvPr/>
        </p:nvPicPr>
        <p:blipFill>
          <a:blip r:embed="rId2"/>
          <a:stretch/>
        </p:blipFill>
        <p:spPr>
          <a:xfrm>
            <a:off x="900000" y="981000"/>
            <a:ext cx="333864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1187280" y="27082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Algunos mecanismos para situaciones difíc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1000080" y="2143080"/>
            <a:ext cx="6858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Arial"/>
                <a:ea typeface="Arial"/>
              </a:rPr>
              <a:t>¿ Cuál es la mayor dificultad que ha teni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Arial"/>
                <a:ea typeface="Arial"/>
              </a:rPr>
              <a:t>¿Cómo resolvió esa dificut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286000" y="4287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inámica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3"/>
          <p:cNvSpPr/>
          <p:nvPr/>
        </p:nvSpPr>
        <p:spPr>
          <a:xfrm>
            <a:off x="1258920" y="2565360"/>
            <a:ext cx="6481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hora revisemos 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dA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603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Describir la estructura de una crítica constructiva (retro-alimentación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Demostrar el dar y recibir una crítica de forma adecuada y asertiva, para que se produzca un aprendizaje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dentificar por lo menos un mecanismo para evitar que se activen las causas que provocan dificultad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Analizar situaciones y comportamientos  que se producen en eventos de capacitación y causan problemas a los facilitador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0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</a:rPr>
              <a:t>Revision de Objetivos de aprendizaj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2. Introducción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1128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rítica constructiva,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forma más eficaz de aprender sobre nosotros mismo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menta conciencia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 nosotr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frece opcione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nuestra auto-superación y desarrollo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Crítica destructiva es aquella que se dá de forma poco hábil</a:t>
            </a: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y que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deja sentimientos negativos </a:t>
            </a: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en el receptor, creando en el, la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tendencia negativa de repudiar lo que fue dicho</a:t>
            </a: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ómo dar y recibir crítica constructiv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4468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56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pt-PT" sz="4400" spc="-1" strike="noStrike">
                <a:solidFill>
                  <a:srgbClr val="ffffff"/>
                </a:solidFill>
                <a:latin typeface="Arial"/>
              </a:rPr>
              <a:t>Criticar con habilidad </a:t>
            </a:r>
            <a:br>
              <a:rPr sz="36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632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que el propósito de lo que va a decir. Tener bien claro lo que quiere decir, si es necesario pratique ant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Es fácil olvidar el mensaje principal 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o transmitirlo de forma confusa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xplique el propósito de lo que va a dec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opicie la auto evalua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sando preguntas amables, estará más comprometida a cambia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1120" y="841320"/>
            <a:ext cx="75628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riticar com habilidad – cont.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660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tilice una palabra (abordage o bocadillo) positiva/negativa/positi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oda persona necesita elogio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ience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comentando lo que le gusta de esa persona y lo que hizo bien.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4.   Sea específic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Evite comentarios generales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l grano!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1"/>
          <a:stretch/>
        </p:blipFill>
        <p:spPr>
          <a:xfrm>
            <a:off x="5572080" y="3638520"/>
            <a:ext cx="35719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174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riticar com habilidad – cont.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5.  Sea más descriptivo que evaluativ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De a la persona ejemplos concretos de lo que usted vio o escuchó y el efecto que produjo en ust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.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eleccione áreas prioritari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No pretenda cubrir todo y cargar a la persona con un montón de leña!!!, especialmente si hay que comentar elementos negativo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632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riticar com habilidad – cont.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3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7.  Ofrezca alternativ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Si ofrece crítica negativa sugiera lo que la persona podría haber hecho de otro modo. Convierta la situación negativa en positiv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8. Aprópiese de la crítica que ofre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 fácil decir a outra persona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“ Usted es…”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sugiriendo que lo que usted está comentando es una verdad universal. Es importante que nos hagamos responsables de la crítica que ofrecemo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69680"/>
            <a:ext cx="74912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riticar com habilidad – cont.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11280" y="1844640"/>
            <a:ext cx="7632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Deje al receptor una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2060"/>
                </a:solidFill>
                <a:latin typeface="Arial"/>
              </a:rPr>
              <a:t>Una vez que hay acuerdo sobre algo, obtenga el compromiso de camb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10. Resuma los</a:t>
            </a:r>
            <a:r>
              <a:rPr b="0" lang="pt-PT" sz="26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puntos bue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Arial"/>
              </a:rPr>
              <a:t>Finalice con una no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Arial"/>
              </a:rPr>
              <a:t>simpática recordan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Arial"/>
              </a:rPr>
              <a:t>al receptor q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Arial"/>
              </a:rPr>
              <a:t>no todo es ma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5388120" y="3929040"/>
            <a:ext cx="33271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4:26:17Z</dcterms:created>
  <dc:creator>Lynne Bethke</dc:creator>
  <dc:description/>
  <dc:language>en-US</dc:language>
  <cp:lastModifiedBy>Oscar Bayoll</cp:lastModifiedBy>
  <dcterms:modified xsi:type="dcterms:W3CDTF">2013-06-26T17:28:08Z</dcterms:modified>
  <cp:revision>97</cp:revision>
  <dc:subject/>
  <dc:title>Framework for Education in Emergencies INEE Minimum Standards for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11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