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B8F-FDE7-442A-9048-98C2DFD1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FBD-3AA2-45D1-9B3A-F75065E8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173-7B04-4CE0-9EAD-0D5A10F1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765-E625-4A02-81A6-820B8F48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D2E3-B9D6-4EE9-AB1B-5FCF8D85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8866-0C44-4431-8C78-0D2B3477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562E-BAB8-4A8B-8388-5F32277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470A-1CBC-4014-8F27-F13E8DA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1A2-202D-4A18-87D2-DE73DE0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089B-9456-4E79-92B4-4C679C3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C1A-CF07-4D79-AD13-40CB2C1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902-D173-4DC7-A732-0DBB0987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633-574C-45A3-B0BC-5C928B8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96A-C655-49DA-AE13-914D2F83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DA78-2EAD-4F24-8DFC-213C7131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759E-F7E1-4BDE-AD45-3EEDCFCE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BDF0-6BF5-45FC-A939-6A3505A9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CD5-164C-43CC-ACE1-9B848C29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5F1-67C5-4EED-9D06-5C5587D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CE7-86A0-4BA5-840B-8D6D9ABE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85A-EDFC-4DB4-B0B7-2EE93F0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565-C06A-44C2-A650-12A63D6D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606-CCE6-4ABA-802D-5555557F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A6F-D6DE-4BE6-A884-CA5A569A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694836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050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205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2052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2053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2054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2055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2056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2057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2058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2059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2060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2061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2062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2063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2064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2065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2066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67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68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69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070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071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072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073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074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075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076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077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078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2079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2080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2081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2082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2083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2084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2085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2086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2087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2088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2089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2090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2091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2092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2093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2094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2095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2096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2097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2098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2099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2100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2101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2102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2103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2104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2105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2106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2107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2108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2109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2110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2111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2112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2113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2114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E359-9A75-4E83-8A08-A68D8B6B16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71320" y="-71280"/>
            <a:ext cx="8110440" cy="23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rincipios de educación de adulto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Roles del capacitad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0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829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ndragogí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El trabajo de Knowles es un intento para desarrollar una teoría específica de aprendizaje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para adulto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.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  <a:ea typeface="SimSu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Knowles enfatiza que los adultos son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auto-dirigido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 y esperan tomar sus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propias deci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Las experiencias de aprendizaje relacionadas con E. en E.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deben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 considerar estos aspec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6934320" y="685800"/>
            <a:ext cx="615960" cy="652320"/>
          </a:xfrm>
          <a:prstGeom prst="ellipse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s-ES" sz="33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55280" y="1989000"/>
            <a:ext cx="8016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Los Adultos necesitan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saber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por qué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necesitan aprender alg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Los adultos necesitan aprender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hacie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Los adultos aprenden mejor cuando hay problemas concretos que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resolver,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Los adultos aprenden mejor cuando el tema es de </a:t>
            </a:r>
            <a:r>
              <a:rPr b="0" lang="es-ES" sz="2800" spc="-1" strike="noStrike">
                <a:solidFill>
                  <a:srgbClr val="9a0000"/>
                </a:solidFill>
                <a:latin typeface="Verdana"/>
                <a:ea typeface="SimSun"/>
              </a:rPr>
              <a:t>relevanci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SimSun"/>
              </a:rPr>
              <a:t> inmedi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0948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Andragogí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6934320" y="685800"/>
            <a:ext cx="615960" cy="652320"/>
          </a:xfrm>
          <a:prstGeom prst="ellipse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3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Verdana"/>
              </a:rPr>
              <a:t>El aprendizaje se puede MEDIR mientras sucede!!</a:t>
            </a: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DSC03917"/>
          <p:cNvPicPr/>
          <p:nvPr/>
        </p:nvPicPr>
        <p:blipFill>
          <a:blip r:embed="rId1"/>
          <a:stretch/>
        </p:blipFill>
        <p:spPr>
          <a:xfrm>
            <a:off x="3851280" y="2852640"/>
            <a:ext cx="4557600" cy="3419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627480" y="3376440"/>
            <a:ext cx="29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Verdana"/>
              </a:rPr>
              <a:t>Me refiero 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Verdana"/>
              </a:rPr>
              <a:t>mom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Verdana"/>
              </a:rPr>
              <a:t>AAAhAAA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DSC05461"/>
          <p:cNvPicPr/>
          <p:nvPr/>
        </p:nvPicPr>
        <p:blipFill>
          <a:blip r:embed="rId2"/>
          <a:stretch/>
        </p:blipFill>
        <p:spPr>
          <a:xfrm>
            <a:off x="3780000" y="2781360"/>
            <a:ext cx="460836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eflexión individ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280" y="21906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hora que conozco estos elementos de andragogí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¿Cuáles van a ser las consecuencias en mi forma de impartir capacitación a adulto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La Contribución de </a:t>
            </a:r>
            <a:br>
              <a:rPr sz="4400"/>
            </a:b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David Kolb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477720" y="2643120"/>
            <a:ext cx="51418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7"/>
          <p:cNvGrpSpPr/>
          <p:nvPr/>
        </p:nvGrpSpPr>
        <p:grpSpPr>
          <a:xfrm>
            <a:off x="2892600" y="4260960"/>
            <a:ext cx="3484800" cy="1892160"/>
            <a:chOff x="2892600" y="4260960"/>
            <a:chExt cx="3484800" cy="1892160"/>
          </a:xfrm>
        </p:grpSpPr>
        <p:grpSp>
          <p:nvGrpSpPr>
            <p:cNvPr id="248" name="Group 24"/>
            <p:cNvGrpSpPr/>
            <p:nvPr/>
          </p:nvGrpSpPr>
          <p:grpSpPr>
            <a:xfrm>
              <a:off x="2892600" y="5224320"/>
              <a:ext cx="3484800" cy="928800"/>
              <a:chOff x="2892600" y="5224320"/>
              <a:chExt cx="3484800" cy="928800"/>
            </a:xfrm>
          </p:grpSpPr>
          <p:sp>
            <p:nvSpPr>
              <p:cNvPr id="249" name="Rectangle 6"/>
              <p:cNvSpPr/>
              <p:nvPr/>
            </p:nvSpPr>
            <p:spPr>
              <a:xfrm>
                <a:off x="2908080" y="5224320"/>
                <a:ext cx="346932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Generalizar y concluir para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construir teorías y modelos que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expliquen la experiencia.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7"/>
              <p:cNvSpPr/>
              <p:nvPr/>
            </p:nvSpPr>
            <p:spPr>
              <a:xfrm>
                <a:off x="2892600" y="55054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8"/>
              <p:cNvSpPr/>
              <p:nvPr/>
            </p:nvSpPr>
            <p:spPr>
              <a:xfrm>
                <a:off x="2892600" y="578808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2" name="Freeform 23"/>
            <p:cNvSpPr/>
            <p:nvPr/>
          </p:nvSpPr>
          <p:spPr>
            <a:xfrm rot="9791400">
              <a:off x="3653640" y="4462200"/>
              <a:ext cx="1459080" cy="447480"/>
            </a:xfrm>
            <a:custGeom>
              <a:avLst/>
              <a:gdLst>
                <a:gd name="textAreaLeft" fmla="*/ 0 w 1459080"/>
                <a:gd name="textAreaRight" fmla="*/ 1459080 w 1459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836" h="564">
                  <a:moveTo>
                    <a:pt x="0" y="496"/>
                  </a:moveTo>
                  <a:lnTo>
                    <a:pt x="61" y="335"/>
                  </a:lnTo>
                  <a:lnTo>
                    <a:pt x="219" y="199"/>
                  </a:lnTo>
                  <a:lnTo>
                    <a:pt x="446" y="96"/>
                  </a:lnTo>
                  <a:lnTo>
                    <a:pt x="713" y="26"/>
                  </a:lnTo>
                  <a:lnTo>
                    <a:pt x="991" y="0"/>
                  </a:lnTo>
                  <a:lnTo>
                    <a:pt x="1058" y="0"/>
                  </a:lnTo>
                  <a:lnTo>
                    <a:pt x="1126" y="1"/>
                  </a:lnTo>
                  <a:lnTo>
                    <a:pt x="1253" y="17"/>
                  </a:lnTo>
                  <a:lnTo>
                    <a:pt x="1469" y="86"/>
                  </a:lnTo>
                  <a:lnTo>
                    <a:pt x="1551" y="142"/>
                  </a:lnTo>
                  <a:lnTo>
                    <a:pt x="1613" y="212"/>
                  </a:lnTo>
                  <a:lnTo>
                    <a:pt x="1679" y="111"/>
                  </a:lnTo>
                  <a:lnTo>
                    <a:pt x="1836" y="508"/>
                  </a:lnTo>
                  <a:lnTo>
                    <a:pt x="1390" y="564"/>
                  </a:lnTo>
                  <a:lnTo>
                    <a:pt x="1427" y="485"/>
                  </a:lnTo>
                  <a:lnTo>
                    <a:pt x="1363" y="425"/>
                  </a:lnTo>
                  <a:lnTo>
                    <a:pt x="1183" y="315"/>
                  </a:lnTo>
                  <a:lnTo>
                    <a:pt x="821" y="237"/>
                  </a:lnTo>
                  <a:lnTo>
                    <a:pt x="758" y="237"/>
                  </a:lnTo>
                  <a:lnTo>
                    <a:pt x="696" y="237"/>
                  </a:lnTo>
                  <a:lnTo>
                    <a:pt x="571" y="245"/>
                  </a:lnTo>
                  <a:lnTo>
                    <a:pt x="337" y="293"/>
                  </a:lnTo>
                  <a:lnTo>
                    <a:pt x="142" y="375"/>
                  </a:lnTo>
                  <a:lnTo>
                    <a:pt x="2" y="493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8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30"/>
          <p:cNvGrpSpPr/>
          <p:nvPr/>
        </p:nvGrpSpPr>
        <p:grpSpPr>
          <a:xfrm>
            <a:off x="3492360" y="1905120"/>
            <a:ext cx="2909520" cy="1023840"/>
            <a:chOff x="3492360" y="1905120"/>
            <a:chExt cx="2909520" cy="1023840"/>
          </a:xfrm>
        </p:grpSpPr>
        <p:sp>
          <p:nvSpPr>
            <p:cNvPr id="254" name="Rectangle 4"/>
            <p:cNvSpPr/>
            <p:nvPr/>
          </p:nvSpPr>
          <p:spPr>
            <a:xfrm>
              <a:off x="3507120" y="1905120"/>
              <a:ext cx="2894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periencia sobre evento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la realidad objetiva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5"/>
            <p:cNvSpPr/>
            <p:nvPr/>
          </p:nvSpPr>
          <p:spPr>
            <a:xfrm>
              <a:off x="3492360" y="2185920"/>
              <a:ext cx="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3807000" y="2481120"/>
              <a:ext cx="1458720" cy="447840"/>
            </a:xfrm>
            <a:custGeom>
              <a:avLst/>
              <a:gdLst>
                <a:gd name="textAreaLeft" fmla="*/ 0 w 1458720"/>
                <a:gd name="textAreaRight" fmla="*/ 1459080 w 14587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836" h="564">
                  <a:moveTo>
                    <a:pt x="0" y="496"/>
                  </a:moveTo>
                  <a:lnTo>
                    <a:pt x="61" y="335"/>
                  </a:lnTo>
                  <a:lnTo>
                    <a:pt x="219" y="199"/>
                  </a:lnTo>
                  <a:lnTo>
                    <a:pt x="446" y="96"/>
                  </a:lnTo>
                  <a:lnTo>
                    <a:pt x="713" y="26"/>
                  </a:lnTo>
                  <a:lnTo>
                    <a:pt x="991" y="0"/>
                  </a:lnTo>
                  <a:lnTo>
                    <a:pt x="1058" y="0"/>
                  </a:lnTo>
                  <a:lnTo>
                    <a:pt x="1126" y="1"/>
                  </a:lnTo>
                  <a:lnTo>
                    <a:pt x="1253" y="17"/>
                  </a:lnTo>
                  <a:lnTo>
                    <a:pt x="1469" y="86"/>
                  </a:lnTo>
                  <a:lnTo>
                    <a:pt x="1551" y="142"/>
                  </a:lnTo>
                  <a:lnTo>
                    <a:pt x="1613" y="212"/>
                  </a:lnTo>
                  <a:lnTo>
                    <a:pt x="1679" y="111"/>
                  </a:lnTo>
                  <a:lnTo>
                    <a:pt x="1836" y="508"/>
                  </a:lnTo>
                  <a:lnTo>
                    <a:pt x="1390" y="564"/>
                  </a:lnTo>
                  <a:lnTo>
                    <a:pt x="1427" y="485"/>
                  </a:lnTo>
                  <a:lnTo>
                    <a:pt x="1363" y="425"/>
                  </a:lnTo>
                  <a:lnTo>
                    <a:pt x="1183" y="315"/>
                  </a:lnTo>
                  <a:lnTo>
                    <a:pt x="821" y="237"/>
                  </a:lnTo>
                  <a:lnTo>
                    <a:pt x="758" y="237"/>
                  </a:lnTo>
                  <a:lnTo>
                    <a:pt x="696" y="237"/>
                  </a:lnTo>
                  <a:lnTo>
                    <a:pt x="571" y="245"/>
                  </a:lnTo>
                  <a:lnTo>
                    <a:pt x="337" y="293"/>
                  </a:lnTo>
                  <a:lnTo>
                    <a:pt x="142" y="375"/>
                  </a:lnTo>
                  <a:lnTo>
                    <a:pt x="2" y="493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8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Rectangle 16"/>
          <p:cNvSpPr/>
          <p:nvPr/>
        </p:nvSpPr>
        <p:spPr>
          <a:xfrm>
            <a:off x="1116000" y="3352680"/>
            <a:ext cx="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3"/>
          <p:cNvGrpSpPr/>
          <p:nvPr/>
        </p:nvGrpSpPr>
        <p:grpSpPr>
          <a:xfrm>
            <a:off x="480240" y="2997360"/>
            <a:ext cx="2972520" cy="1455480"/>
            <a:chOff x="480240" y="2997360"/>
            <a:chExt cx="2972520" cy="1455480"/>
          </a:xfrm>
        </p:grpSpPr>
        <p:sp>
          <p:nvSpPr>
            <p:cNvPr id="259" name="Freeform 9"/>
            <p:cNvSpPr/>
            <p:nvPr/>
          </p:nvSpPr>
          <p:spPr>
            <a:xfrm>
              <a:off x="2957400" y="2997360"/>
              <a:ext cx="495360" cy="14554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455480"/>
                <a:gd name="textAreaBottom" fmla="*/ 1455840 h 1455480"/>
              </a:gdLst>
              <a:ahLst/>
              <a:rect l="textAreaLeft" t="textAreaTop" r="textAreaRight" b="textAreaBottom"/>
              <a:pathLst>
                <a:path w="568" h="1834">
                  <a:moveTo>
                    <a:pt x="486" y="1834"/>
                  </a:moveTo>
                  <a:lnTo>
                    <a:pt x="327" y="1773"/>
                  </a:lnTo>
                  <a:lnTo>
                    <a:pt x="192" y="1613"/>
                  </a:lnTo>
                  <a:lnTo>
                    <a:pt x="91" y="1385"/>
                  </a:lnTo>
                  <a:lnTo>
                    <a:pt x="24" y="1117"/>
                  </a:lnTo>
                  <a:lnTo>
                    <a:pt x="0" y="839"/>
                  </a:lnTo>
                  <a:lnTo>
                    <a:pt x="0" y="772"/>
                  </a:lnTo>
                  <a:lnTo>
                    <a:pt x="3" y="705"/>
                  </a:lnTo>
                  <a:lnTo>
                    <a:pt x="20" y="578"/>
                  </a:lnTo>
                  <a:lnTo>
                    <a:pt x="91" y="363"/>
                  </a:lnTo>
                  <a:lnTo>
                    <a:pt x="146" y="281"/>
                  </a:lnTo>
                  <a:lnTo>
                    <a:pt x="217" y="220"/>
                  </a:lnTo>
                  <a:lnTo>
                    <a:pt x="118" y="153"/>
                  </a:lnTo>
                  <a:lnTo>
                    <a:pt x="516" y="0"/>
                  </a:lnTo>
                  <a:lnTo>
                    <a:pt x="568" y="446"/>
                  </a:lnTo>
                  <a:lnTo>
                    <a:pt x="489" y="407"/>
                  </a:lnTo>
                  <a:lnTo>
                    <a:pt x="428" y="472"/>
                  </a:lnTo>
                  <a:lnTo>
                    <a:pt x="317" y="650"/>
                  </a:lnTo>
                  <a:lnTo>
                    <a:pt x="236" y="1012"/>
                  </a:lnTo>
                  <a:lnTo>
                    <a:pt x="234" y="1136"/>
                  </a:lnTo>
                  <a:lnTo>
                    <a:pt x="243" y="1261"/>
                  </a:lnTo>
                  <a:lnTo>
                    <a:pt x="289" y="1495"/>
                  </a:lnTo>
                  <a:lnTo>
                    <a:pt x="369" y="1691"/>
                  </a:lnTo>
                  <a:lnTo>
                    <a:pt x="485" y="1832"/>
                  </a:lnTo>
                  <a:lnTo>
                    <a:pt x="486" y="1834"/>
                  </a:lnTo>
                  <a:close/>
                </a:path>
              </a:pathLst>
            </a:custGeom>
            <a:solidFill>
              <a:srgbClr val="008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7"/>
            <p:cNvSpPr/>
            <p:nvPr/>
          </p:nvSpPr>
          <p:spPr>
            <a:xfrm>
              <a:off x="480240" y="3573360"/>
              <a:ext cx="2887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bar, confirma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Las generalizaciones,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onclusiones y modelos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" name="Group 26"/>
          <p:cNvGrpSpPr/>
          <p:nvPr/>
        </p:nvGrpSpPr>
        <p:grpSpPr>
          <a:xfrm>
            <a:off x="5330880" y="3014640"/>
            <a:ext cx="2920320" cy="1455840"/>
            <a:chOff x="5330880" y="3014640"/>
            <a:chExt cx="2920320" cy="1455840"/>
          </a:xfrm>
        </p:grpSpPr>
        <p:sp>
          <p:nvSpPr>
            <p:cNvPr id="262" name="Rectangle 13"/>
            <p:cNvSpPr/>
            <p:nvPr/>
          </p:nvSpPr>
          <p:spPr>
            <a:xfrm>
              <a:off x="6078600" y="3505320"/>
              <a:ext cx="2172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Oportunidad par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flexionar sobre l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periencia vivida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6068880" y="37879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6068880" y="4068720"/>
              <a:ext cx="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10800000">
              <a:off x="5330880" y="3014640"/>
              <a:ext cx="450720" cy="1455840"/>
            </a:xfrm>
            <a:custGeom>
              <a:avLst/>
              <a:gdLst/>
              <a:ahLst/>
              <a:rect l="l" t="t" r="r" b="b"/>
              <a:pathLst>
                <a:path w="568" h="1834">
                  <a:moveTo>
                    <a:pt x="486" y="1834"/>
                  </a:moveTo>
                  <a:lnTo>
                    <a:pt x="327" y="1773"/>
                  </a:lnTo>
                  <a:lnTo>
                    <a:pt x="192" y="1613"/>
                  </a:lnTo>
                  <a:lnTo>
                    <a:pt x="91" y="1385"/>
                  </a:lnTo>
                  <a:lnTo>
                    <a:pt x="24" y="1117"/>
                  </a:lnTo>
                  <a:lnTo>
                    <a:pt x="0" y="839"/>
                  </a:lnTo>
                  <a:lnTo>
                    <a:pt x="0" y="772"/>
                  </a:lnTo>
                  <a:lnTo>
                    <a:pt x="3" y="705"/>
                  </a:lnTo>
                  <a:lnTo>
                    <a:pt x="20" y="578"/>
                  </a:lnTo>
                  <a:lnTo>
                    <a:pt x="91" y="363"/>
                  </a:lnTo>
                  <a:lnTo>
                    <a:pt x="146" y="281"/>
                  </a:lnTo>
                  <a:lnTo>
                    <a:pt x="217" y="220"/>
                  </a:lnTo>
                  <a:lnTo>
                    <a:pt x="118" y="153"/>
                  </a:lnTo>
                  <a:lnTo>
                    <a:pt x="516" y="0"/>
                  </a:lnTo>
                  <a:lnTo>
                    <a:pt x="568" y="446"/>
                  </a:lnTo>
                  <a:lnTo>
                    <a:pt x="489" y="407"/>
                  </a:lnTo>
                  <a:lnTo>
                    <a:pt x="428" y="472"/>
                  </a:lnTo>
                  <a:lnTo>
                    <a:pt x="317" y="650"/>
                  </a:lnTo>
                  <a:lnTo>
                    <a:pt x="236" y="1012"/>
                  </a:lnTo>
                  <a:lnTo>
                    <a:pt x="234" y="1136"/>
                  </a:lnTo>
                  <a:lnTo>
                    <a:pt x="243" y="1261"/>
                  </a:lnTo>
                  <a:lnTo>
                    <a:pt x="289" y="1495"/>
                  </a:lnTo>
                  <a:lnTo>
                    <a:pt x="369" y="1691"/>
                  </a:lnTo>
                  <a:lnTo>
                    <a:pt x="485" y="1832"/>
                  </a:lnTo>
                  <a:lnTo>
                    <a:pt x="486" y="1834"/>
                  </a:lnTo>
                  <a:close/>
                </a:path>
              </a:pathLst>
            </a:custGeom>
            <a:solidFill>
              <a:srgbClr val="008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Rectangle 31"/>
          <p:cNvSpPr/>
          <p:nvPr/>
        </p:nvSpPr>
        <p:spPr>
          <a:xfrm>
            <a:off x="990720" y="304920"/>
            <a:ext cx="53337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El ciclo d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prendizaje Vivencial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32" descr="WKSHOP"/>
          <p:cNvPicPr/>
          <p:nvPr/>
        </p:nvPicPr>
        <p:blipFill>
          <a:blip r:embed="rId1"/>
          <a:stretch/>
        </p:blipFill>
        <p:spPr>
          <a:xfrm>
            <a:off x="6629400" y="152280"/>
            <a:ext cx="2311560" cy="16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Aprendizaje Vivenc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404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volucra exploración activ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a espacio a la reflexión critic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experiencia debe ser releva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mueve la independenci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iste una estructura gu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 una secuencia cícl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29" descr="Project Cycle"/>
          <p:cNvPicPr/>
          <p:nvPr/>
        </p:nvPicPr>
        <p:blipFill>
          <a:blip r:embed="rId1"/>
          <a:stretch/>
        </p:blipFill>
        <p:spPr>
          <a:xfrm>
            <a:off x="6180120" y="4508640"/>
            <a:ext cx="25290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Roles del Capacitad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960" y="2333520"/>
            <a:ext cx="397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struc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Facilitad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prend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5025960" y="2500200"/>
            <a:ext cx="38322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285480"/>
            <a:ext cx="8534160" cy="13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Caracteristicas de Instructores, facilitadores, Aprendic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960" y="2477880"/>
            <a:ext cx="3301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Cuáles son sus rol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142880" y="2406600"/>
            <a:ext cx="4643640" cy="25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é técnicas claves de ense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za – aprendizaje utiliz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960480" y="2120760"/>
            <a:ext cx="764388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cionar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principio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aprendizaje para adultos y explicar como usar uno de el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onocer algunos elementos del enfoque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“vivencial”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para incluirlos en mi maxi-s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ocer l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oles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e cumple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apacitador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urante un evento de enseñanza-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5 CuadroTexto"/>
          <p:cNvSpPr/>
          <p:nvPr/>
        </p:nvSpPr>
        <p:spPr>
          <a:xfrm>
            <a:off x="1113840" y="620640"/>
            <a:ext cx="77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Revisión de Objetivos de aprendizaj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77480"/>
            <a:ext cx="81630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tes del siguiente Módulo, seré capaz d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28440" y="2120760"/>
            <a:ext cx="76438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ncionar tres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principio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de aprendizaje para adultos y explicar como usar uno de el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conocer algunos elementos del enfoque </a:t>
            </a:r>
            <a:r>
              <a:rPr b="0" lang="es-ES" sz="2800" spc="-1" strike="noStrike">
                <a:solidFill>
                  <a:srgbClr val="cc0000"/>
                </a:solidFill>
                <a:latin typeface="Verdana"/>
              </a:rPr>
              <a:t>“vivencial”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incluirlos en mi maxi-s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ocer los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roles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que cumple un 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capacitador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durante un evento de enseñanza-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5"/>
          <p:cNvSpPr/>
          <p:nvPr/>
        </p:nvSpPr>
        <p:spPr>
          <a:xfrm>
            <a:off x="2916360" y="3429000"/>
            <a:ext cx="3816360" cy="2879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 la zona de confort a la zona gris… sin llegar a la zona de pelig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3205080" y="3860640"/>
            <a:ext cx="2836800" cy="1646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708360" y="4149720"/>
            <a:ext cx="1370160" cy="82224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990720" y="1981080"/>
            <a:ext cx="755964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l recibir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requiere de una humildad genuina que a veces resulta incomoda y difícil, mientras que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l dar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posee el riesgo de caer en la arrogancia, la cual resulta, desafortunadamente, una tentación en la cual se cae fácilmen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omic Sans MS"/>
              </a:rPr>
              <a:t>Robert K, Greenleaf, “Convirtiéndonos en Lideres Servidore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1042920" y="292428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Toma tres “po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ts” y prepárate para contestar de manera anónima las siguientes preguntas que te vamos a plante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2960" y="62856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¿Cómo aprenden los adultos?... </a:t>
            </a: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debat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2031840" y="2714760"/>
            <a:ext cx="511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83059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Sobre la Capacitación para el personal Humanitario: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086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ualquier curricula que pretenda educar al trabajador humanitario debe estar fundamentada en la 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experiencia real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obre situaciones humanitaria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ugo Slim</a:t>
            </a:r>
            <a:r>
              <a:rPr b="0" i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400" y="1096560"/>
            <a:ext cx="76788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La Contribución de Malcolm Know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Picture 6" descr="Knowles"/>
          <p:cNvPicPr/>
          <p:nvPr/>
        </p:nvPicPr>
        <p:blipFill>
          <a:blip r:embed="rId1"/>
          <a:stretch/>
        </p:blipFill>
        <p:spPr>
          <a:xfrm>
            <a:off x="5867280" y="2997360"/>
            <a:ext cx="258948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DSC05693"/>
          <p:cNvPicPr/>
          <p:nvPr/>
        </p:nvPicPr>
        <p:blipFill>
          <a:blip r:embed="rId1"/>
          <a:stretch/>
        </p:blipFill>
        <p:spPr>
          <a:xfrm>
            <a:off x="1042920" y="836640"/>
            <a:ext cx="7121520" cy="53402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116000" y="1268280"/>
            <a:ext cx="7416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000099"/>
                </a:solidFill>
                <a:latin typeface="Arial"/>
              </a:rPr>
              <a:t>Todo grupo de adultos, de cualquier índole, debe convertirse en un laboratorio de democracia, un lugar en donde la persona tenga la experiencia de lo que significa aprender a vivir en comunidad, respetando a los demás y apoyándose mutuamente”</a:t>
            </a:r>
            <a:r>
              <a:rPr b="0" i="1" lang="es-E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omic Sans MS"/>
              </a:rPr>
              <a:t>Malcolm Knowles “Informal Adult Educatio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Juan@saenz.net</dc:creator>
  <dc:description/>
  <dc:language>en-US</dc:language>
  <cp:lastModifiedBy>Toni Marro</cp:lastModifiedBy>
  <dcterms:modified xsi:type="dcterms:W3CDTF">2013-06-26T16:37:06Z</dcterms:modified>
  <cp:revision>139</cp:revision>
  <dc:subject>Adult Learning Principles</dc:subject>
  <dc:title>ToT SPHERE adult learning principles</dc:title>
</cp:coreProperties>
</file>