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33A4-4E68-414A-A075-DEB9775EEE47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Ulrik Norup Jørgensen/Danish Red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not try to hide anxiety or sleeping trou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not self-medicate – get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to work on routine tasks. Tell peers and team leaders about your feelings and needs so they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for a healthy outlet. Write, exercise or play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easy on yourself – it takes time to cope with a distressing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k professional advice – if you still feel uneasy about your feelings after a few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Heine Pedersen/Danish Red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for a healthy outlet. Write, exercise or play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easy on yourself – it takes time to cope with a distressing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k professional advice – if you still feel uneasy about your feelings after a few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for a healthy outlet. Write, exercise or play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easy on yourself – it takes time to cope with a distressing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k professional advice – if you still feel uneasy about your feelings after a few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American Red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Nejato Emdad Azzire A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44136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odule 7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457200"/>
            <a:ext cx="4343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Supporting volunteers an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nefits of supporting staff and volunte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tress results 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ecreased alert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oor jud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ecreased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as consequences on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tress equals time and money l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tress at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pai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Find your notes from the previous act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can the causes of stress you identified be addressed? Use ideas and activities mentioned in this s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Discuss your findings in plenary afterw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r reactions are normal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alk to someone with whom you feel at ease, describe your thoughts and feel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isten to others and share insights with them. What do they say and think about the ev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ake special care of yourself, eat well, limit alcohol and tobacco and stay 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Avoid perfectionist expectations; they often lead to disappointment and confli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r reactions are normal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o not try to hide feel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o not self-medic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Continue to work on routine 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ok for a healthy out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Go easy on your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eek professional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peer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Teaming of peers into supportive groups that pool their knowledge, perspectives, and experiences for the benefit of each other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 group of peers can prov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n informal support group of people who socialise both during and after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 formal framework to discuss work and problem-solv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6120" t="0" r="10601" b="0"/>
          <a:stretch/>
        </p:blipFill>
        <p:spPr>
          <a:xfrm>
            <a:off x="4114800" y="1828800"/>
            <a:ext cx="4876920" cy="3894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920" y="46483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 of a peer support program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Support is provided by someone who knows th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Assistance can be provided in a short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Prompt peer support may prevent other problems from a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People under stress may just need some short-term help and don’t have major psychologic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Peer support helps people to develop their personal coping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inciples of peer sup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Be available in a non-intrusiv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anage the situation and locate resources – find a quiet place and locate relevant people that can help, e.g. family, friends, medical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rovide information – one of the key elements of gaining control is information about the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ssist in establishing self control – treat the person as a colleague or friend, not as a victim. Give encouragement – it is important to encourage positive explanations although not being unrea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aintain confidentiality – this is the cornerstone in al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rovide follow up in a non-intrusiv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6520" y="150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istening and respo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09480" y="2362320"/>
            <a:ext cx="7696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Role play in groups of thre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Assume the following roles - helper, recipient and ob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e recipient shares a work-related iss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e helper should practice active listening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e observer provides feed-back on the exerc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98108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Summarize individually key points covered and note d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Divide into groups of four to five and agree on the 3 most important messages of the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Feedback in ple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upporting volunteers and staf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igns of stress and burn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ow staff and volunteers can help colleagues and themsel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tress at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ink about situations where you or others  experienced stress over a sustained period of time at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triggered the stres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was it manifest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tress questionna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Fill in the questionnaire handed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Add up your s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Share your results in plenary afterwards if you feel like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3251160" cy="487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auses of helpers’ stres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6720" y="16765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oor preparation and brief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ing a part of a collective cr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rolonged exposure to a disaster s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hysically difficult, exhausting, and dangerous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Lack of sleep and feeling chronically fatig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inadequate in dealing with the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acing moral and ethical dilem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frustrated by policies / decisions of super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386160" cy="5105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auses of helpers’ stres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33920" y="17524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ing detached from your support system (home and fami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unsupported at your work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acing the perceived inability to never do en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ing exposed to the anger / apparent lack of gratitu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Unclear, inadequate or inconsistent super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guilt over access to food, shelter, and other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to manage helpers’ stres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Guidance and support from team l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ncourage and support your co-wor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Respect confidentiality so that people can feel safe admitting stress and seeking help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Openly talk and share your problems without fearing the conseq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to manage helpers’ stres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mphasize self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ake a break when you feel your tolerance diminis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tay in touch with family and fri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efuse briefly whenever you experience troubling incidents and after each work shi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Create a peer support system for sharing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Burn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An emotional state due to long-term stress, characterized by chronic emotional exhaustion, depleted energy, impaired enthusiasm and motivation to work, diminished work efficiency, a diminished sense of personal accomplishment and pessimism and cynicis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Pernille Hansen</cp:lastModifiedBy>
  <dcterms:modified xsi:type="dcterms:W3CDTF">2009-04-30T09:44:42Z</dcterms:modified>
  <cp:revision>36</cp:revision>
  <dc:subject/>
  <dc:title>PowerPoint Presentation</dc:title>
</cp:coreProperties>
</file>