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21DF-925B-425A-89E4-797F99E8D4BD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the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sing the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ANNEX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90720" y="2133360"/>
            <a:ext cx="6248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Opening and closing a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ANNEX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90720" y="2133360"/>
            <a:ext cx="6248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ersonal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cebre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about psychosocial support involves learning about psychological processes and relates to personal feelings and experi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66680" y="609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ANNEX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e1c11"/>
                </a:solidFill>
                <a:latin typeface="Arial"/>
                <a:ea typeface="Arial"/>
              </a:rPr>
              <a:t>Create a safe environment: what is said in the room is confidential and stays in th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e1c11"/>
                </a:solidFill>
                <a:latin typeface="Arial"/>
                <a:ea typeface="Arial"/>
              </a:rPr>
              <a:t>Everybody has the right to speak but nobody is obligated to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e1c11"/>
                </a:solidFill>
                <a:latin typeface="Arial"/>
                <a:ea typeface="Arial"/>
              </a:rPr>
              <a:t>All contributions are to be received in an appreciat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e1c11"/>
                </a:solidFill>
                <a:latin typeface="Arial"/>
                <a:ea typeface="Arial"/>
              </a:rPr>
              <a:t>There is no right or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e1c11"/>
                </a:solidFill>
                <a:latin typeface="Arial"/>
                <a:ea typeface="Arial"/>
              </a:rPr>
              <a:t>Discuss rules for interacting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e1c11"/>
                </a:solidFill>
                <a:latin typeface="Arial"/>
                <a:ea typeface="Arial"/>
              </a:rPr>
              <a:t>Discuss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e1c11"/>
                </a:solidFill>
                <a:latin typeface="Arial"/>
                <a:ea typeface="Arial"/>
              </a:rPr>
              <a:t>Present and discuss th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71600" y="8380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tting th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ANNEX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rticipants need to feel that the day has come to a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ke a summary of the content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sk if there are an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 a recap in plenary by the end of the d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 through the programme for the following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43000" y="762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Ending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ANNEX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400" y="213336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ake time to end the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valuate; written or orally, individual or in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both a questionnaire and feedback through plenary are used, handout the questionnair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25440" y="709560"/>
            <a:ext cx="37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ing the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ANNEX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90720" y="1828440"/>
            <a:ext cx="6248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acilitator can give a speech and hand out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 a final activity together (such as singing a so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ke time for everyone to say goodbye to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14400" y="822240"/>
            <a:ext cx="34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ying goodb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Pernille Hansen</cp:lastModifiedBy>
  <dcterms:modified xsi:type="dcterms:W3CDTF">2009-04-30T08:58:37Z</dcterms:modified>
  <cp:revision>34</cp:revision>
  <dc:subject/>
  <dc:title>PowerPoint Presentation</dc:title>
</cp:coreProperties>
</file>