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5D4-F0E7-4FE5-9115-29F13E515E4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W Lembryk/IF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on reactions to sudden loss also include denial, depression, hopelessness, numbness and search for meaning. Religious and spiritual beliefs are challenged, goals and plans are re-evalu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cannot compare loss. Each loss, whether sudden or not, creates specific challenges. It is important to allow survivors to grieve in their own individual 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dden loss, like all loss, is very individual and is likely to affect survivors in many different ways.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ople normally cope with loss by grieving. Psychosocial support at this time is important. We return to this in part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vivor’s guilt: wondering why they survived while others died; beliefs about not having done something to save the other person. Suicide can especially provoke feelings of guilt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: Grieving man from Beslan in Russia after the school hostage crisis 2004 (Reuters, courtesy of alte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elatives and clos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a grieving process:  the four emotional adjustments necessary to get on with lif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gnition – come to terms with the fact that the person is not com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lings – anger, sadness, fru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s – gaining new skills e.g. arranging practical things like the funeral, economy, asking friends or family for help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ure – learning how to get on with one’s own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ight seek isolation when going through the adjustmen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lan woman washing the grave of her daughter who died in the 2004 school siege – a tragedy that encompassed several complicating factors (multiple death,  hard to explain, suffering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Åsta Ytre/PS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talk about the needs of a grieving person and the skills acquired by a helping person. We will primarily focus on the role you play as staff/volunte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participants to name situations where they helped others. What did they do to help – and how did it work? It does not have to be narrowed down to the loss of significant others – the important part is the help they prov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Adress L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574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4136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3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Loss and gr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Different reactions to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hink about possible reactions to the losses you have just worked with in the previous activ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292929"/>
                </a:solidFill>
                <a:latin typeface="Arial"/>
              </a:rPr>
              <a:t>What kind of reactions did you experience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292929"/>
                </a:solidFill>
                <a:latin typeface="Arial"/>
              </a:rPr>
              <a:t>Who were the persons involv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292929"/>
                </a:solidFill>
                <a:latin typeface="Arial"/>
              </a:rPr>
              <a:t>How did they experience the situ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udde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95680" y="1676520"/>
            <a:ext cx="4648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udden loss occurs without any w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No opportunity to prepare for the lo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No time to say good-by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Unable to take care of unfinished busi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No time to prepare the berea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udden loss can both be related to death and to a missing person e.g. human trafficking or missing in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mmon reactions to sudde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752480"/>
            <a:ext cx="3581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h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G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e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es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Hopeless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earch for mea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Religious and spiritual beliefs get challen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Goals and plans get re-evalu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19720" y="1676520"/>
            <a:ext cx="3316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TRAINER'S BOOK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racteristics of the griev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rite down the first three characteristics of a grieving process that come to m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1454040"/>
            <a:ext cx="5181840" cy="501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TRAINER'S BOOK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our areas of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tors that complicate the grie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7524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Traumatic  circumstances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- if the body is never found, molestation of the body, sudden loss, suffering when dying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Death of more than one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– a greater loss, difficulty handling the different feelings towards the diseased per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Ambiguous feelings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– relief after a long course of a disease, complicated relations to the dis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3520" y="1905120"/>
            <a:ext cx="6324480" cy="4217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tors that complicate the grie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 loss and re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xamine the scenario handed o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rite down the losses and reactions in the scen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scribe the factors that might complicate the grieving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resent your conclusions in plenary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27800" y="1066680"/>
            <a:ext cx="3616200" cy="5410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Needs of grievi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752480"/>
            <a:ext cx="4114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elp both emotionally and practical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rrange funerals or other ceremo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ncourage the social support of family and fri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ay close, listen and provide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ponding after a cr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pend 25 minutes in group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repare a summary for presentation in plen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and g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3623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and common reactions to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he grief process and complicating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ow to help grieving per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the three most important messages of this modu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GB" sz="3900" spc="-1" strike="noStrike">
                <a:solidFill>
                  <a:srgbClr val="292929"/>
                </a:solidFill>
                <a:latin typeface="Arial"/>
              </a:rPr>
              <a:t>Loss and grief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hat are your thoughts and feelings about the theme of the module loss and grief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ious types of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Examine situations form your work where you have experienced other people’s lo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Write down at lest three types of loss you have recogn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49760" y="1219320"/>
            <a:ext cx="3594240" cy="5403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4724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Loss is mainly associated with the death of a loved one. However, it also results fr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loved ones e.g. ending a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proper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dignity, trust and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livelihood</a:t>
            </a:r>
            <a:br>
              <a:rPr sz="2600"/>
            </a:b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3623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control over one’s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social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self-este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confidence in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related to illness or di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Multiple lo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of property, infrastructure, livelihoo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64771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5720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of control, dignity, safety, trust, inititati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64771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ss related to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905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In case of illness the person also goes through a process of losing which may or may not end by loss of lif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physical streng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mo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jo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physical attractiv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sexual 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social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Multiple losses..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ernille Hansen</cp:lastModifiedBy>
  <dcterms:modified xsi:type="dcterms:W3CDTF">2009-04-30T09:35:10Z</dcterms:modified>
  <cp:revision>50</cp:revision>
  <dc:subject/>
  <dc:title>PowerPoint Presentation</dc:title>
</cp:coreProperties>
</file>