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B472-7C9F-467B-B509-3F1ADA03E2DF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: Australian Red Cross (2009 bushfire respon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: Jakob Dall/Danish Red Cr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: Åsta Ytre/PS Cen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: Lars Møller/Danish Red Cr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: Åsta Ytre/PS Centre (from Georgia after 2008 confli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6996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180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6996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0180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925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6996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180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26996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0180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925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410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04920" y="441360"/>
            <a:ext cx="40384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7000" spc="-1" strike="noStrike">
                <a:solidFill>
                  <a:srgbClr val="000000"/>
                </a:solidFill>
                <a:latin typeface="Arial"/>
              </a:rPr>
              <a:t>Module 5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648320" y="457200"/>
            <a:ext cx="4419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600" spc="-1" strike="noStrike">
                <a:solidFill>
                  <a:srgbClr val="000000"/>
                </a:solidFill>
                <a:latin typeface="Arial"/>
              </a:rPr>
              <a:t>Psychological first aid and supportive commun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Key values in supportive commun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6782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Empathy is the ability to see and feel from the affected person’s point of 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Respect will allow you to listen and not make assump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When communicating, keep in mind the need to empower the affected per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Be sure to take a non-judgemental st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Responding in a cri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Be constructive and focus on recent actions that can be 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Respond with general statements instead of asking questions or giving ans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Focus on the person’s thoughts and feelin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Give supportive feedback without jud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Ask open-ended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Concentrate on what the person is sa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7200" y="4114800"/>
            <a:ext cx="5499000" cy="2209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Non-verbal communicatio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773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Non-verbal communication is just as important as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Some good tip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Face the spe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Display an open posture, especially with your a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Keep an appropriate distance: proximity reflects interest, but may also communicate intimacy, informality or push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Make frequent non-intrusive eye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Be particularly aware of different cultural practices with this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Appear calm and rela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Listening and respond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1447920"/>
            <a:ext cx="63248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Work in groups of thre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ssume the following roles: Helper, recipient, obser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recipient shares an issue, related to his/her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helper should practise all the skills learned so f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observer should give feedback to the help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Personal communication ski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144792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tay in the same grou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iscuss the following questi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en you are working as a helper, what communication skills do you nee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at values are the most important in the situations where these skills are neede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Ethical condu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29200" y="1752120"/>
            <a:ext cx="4114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Do no ha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Be trustworthy and keep your word with appropriate 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Never exploit your relationsh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Respect a person’s right to make his/her own deci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Never exaggerate your skills or compet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Be aware of your own biases and prejud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28600" y="2008080"/>
            <a:ext cx="4724280" cy="3402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676520" y="150840"/>
            <a:ext cx="701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Support group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Psychosocial well-being often flows from experiences of community participation and co-operative eff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People who feel a sense of belonging within an effective group derive a sense of membership and wor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Establishing a support group is inexpensive and relatively si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Rely primarily upon assisting people at the community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Become comfortable and effective in working with various sizes of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Define a target group around an issue for which there is sufficient interest to motivate significant particip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acilitating support grou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23619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</a:rPr>
              <a:t>Crucial factors in this proces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A good facilitator; knowledgeable in group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Regularly scheduled meetings at an accessible lo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Groups based on community members’ needs and desi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c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190512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205740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What are the four elements of psychological first ai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What does supportive communication mea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What are support groups and how do they work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ychological first aid and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pportive commun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2361960"/>
            <a:ext cx="6248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Psychological first ai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Supportive commun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Telephone support and facilitating support grou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ychological first aid and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pportive commun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2361960"/>
            <a:ext cx="6248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Active listening is the core element of psychological first a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Knowing the starting poi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2361960"/>
            <a:ext cx="6248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In order to truly succeed in leading a person to a certain place, first and foremost you must be mindful of finding him where he is right now and then begin from the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292929"/>
                </a:solidFill>
                <a:latin typeface="Arial"/>
              </a:rPr>
              <a:t>- Søren Kierkegaard, Danish 19th century philosop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23623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Work in pai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One person tells the other a personal story</a:t>
            </a:r>
            <a:br>
              <a:rPr sz="2600"/>
            </a:b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- not necessarily about a crisis even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The other person listens actively by asking clarifying and summarizing ques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When is psychological first aid needed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410080" y="2285640"/>
            <a:ext cx="3657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Disas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First a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Home vis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Telephone and online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8600" y="2163600"/>
            <a:ext cx="5041800" cy="3780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4897440" cy="5257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Psychological first a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76560" y="1828800"/>
            <a:ext cx="419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Active listening – the key el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Stay close - being near is a sign of ca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Accept feelings – accept the affected person’s interpretation of the ev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Provide general care and practical help – this is also a way of showing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Psyhological reactions and respon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7040520" cy="4683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Providing psychological first a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1752480"/>
            <a:ext cx="6858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Divide into groups of thr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Read the scenari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Agree on role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Cecilia who needs psychological first a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Helper supports the recipi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Observer notes elements of psychological first aid in the inter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1:31:13Z</dcterms:created>
  <dc:creator>Office 2004 Test Drive User</dc:creator>
  <dc:description/>
  <dc:language>en-US</dc:language>
  <cp:lastModifiedBy>Paramedia Paramedia</cp:lastModifiedBy>
  <dcterms:modified xsi:type="dcterms:W3CDTF">2009-05-03T10:51:17Z</dcterms:modified>
  <cp:revision>65</cp:revision>
  <dc:subject/>
  <dc:title>PowerPoint Presentation</dc:title>
</cp:coreProperties>
</file>