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ED8D-E978-4CB4-936D-C79E7FBACC8F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3DDD-1F22-4974-8352-605125ACEB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critical ev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fu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ually outside the range of ordinary huma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a strong emotional effect 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 overwhelm the usually effective coping skills of an individual o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hrough the different types of critical events where RCRC does PS work.  Examples of natural disasters, armed conflict, health related crisis, psychological first aid are mapped on th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m/Pakistan – 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lan – School hostage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mbabwe/Southern Africa – HIV/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garia – hotline and counselling for trafficke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lestine – Children Affected By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mbia – Internal Displace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onesia/Sri Lanka – tsun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ria – refu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banon –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rael/Austria – ambulance d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mark – hotline for young lonely peo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0880" y="1752480"/>
            <a:ext cx="6858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9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41360"/>
            <a:ext cx="4038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odule 1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24280" y="457200"/>
            <a:ext cx="434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Crisis events and psychosocial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tors affecting the psychosocial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act of crisis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52480"/>
            <a:ext cx="4419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characte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Age - stage of 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Mental heal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Social support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Disabil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Social economic stat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Relig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Disaster hist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Previous traumatic experi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6248520"/>
            <a:ext cx="3581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amily and community resources</a:t>
            </a: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Wea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Time of d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Accessibility to are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Amount of physical destr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Number of de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Number of child de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psychosocial sup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905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Psychosocial support refers to actions that address psychological and social needs of individuals, families and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Psychosocial support can be delivered in specific programmes or be integrated within oth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The International Federation approach to psychosocial support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A community based approach to facilitate the resilience of the af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A way to mobilize the power of huma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A means of maintaining health and well-being of staff and volunt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provide psychosocial sup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Mobilizing early and adequate psychosocial support can prevent distress and suffering from developing into something more sev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Psychosocial support helps people affected by crises to reco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vention 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362320"/>
            <a:ext cx="3429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tervention pyramid for mental health and psychosocial support in emer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419720" y="1676520"/>
            <a:ext cx="3654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onal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ink about a situation where a person you know had a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did you know there was a need for help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did you or others meet those nee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Share your experiences with the person next to you afterw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52280" y="533520"/>
            <a:ext cx="9068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Local psychoso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Go into the same groups as bef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dentify psychosocial needs in your commun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can they be addressed? Use examples and ideas from this session.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Report back in plenary afterw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 of volunt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Volunteers are part of the local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Volunteers know the 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tch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676520" y="1752480"/>
            <a:ext cx="5292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are crisis ev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is psychosocial suppor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can you apply the knowledge from this modu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2480" y="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risis events and psychosocial sup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ifferent types of crisis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292929"/>
                </a:solidFill>
                <a:latin typeface="Arial"/>
              </a:rPr>
              <a:t>What affects the impact of crisis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sychosocial support and its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Times New Roman"/>
              </a:rPr>
              <a:t>The role of volunteers and staff in psychosocia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1600200" y="-106668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a crisis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05740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  <a:ea typeface="Arial"/>
              </a:rPr>
              <a:t>A crisis event is a major event outside the range of ordinary everyday experience that is extremely threatening to those involved, accompanied by feelings of powerlessness, horror or terror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ithin the context of Red Cross Red Crescent National Societies, people are faced with crisis events every day. These events include deaths, accidents, disasters, serious illness (e.g. HIV) , rape, suic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238880" cy="4668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reparedness an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map2"/>
          <p:cNvPicPr/>
          <p:nvPr/>
        </p:nvPicPr>
        <p:blipFill>
          <a:blip r:embed="rId1"/>
          <a:stretch/>
        </p:blipFill>
        <p:spPr>
          <a:xfrm>
            <a:off x="-2413080" y="-81000"/>
            <a:ext cx="12744360" cy="722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illede3"/>
          <p:cNvPicPr/>
          <p:nvPr/>
        </p:nvPicPr>
        <p:blipFill>
          <a:blip r:embed="rId2"/>
          <a:stretch/>
        </p:blipFill>
        <p:spPr>
          <a:xfrm>
            <a:off x="3780000" y="1647720"/>
            <a:ext cx="5002200" cy="37101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10" name="Picture 7" descr="98979"/>
          <p:cNvPicPr/>
          <p:nvPr/>
        </p:nvPicPr>
        <p:blipFill>
          <a:blip r:embed="rId3"/>
          <a:stretch/>
        </p:blipFill>
        <p:spPr>
          <a:xfrm>
            <a:off x="179280" y="1576440"/>
            <a:ext cx="5184720" cy="35319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11" name="Picture 8" descr="Chimbudzi 6215"/>
          <p:cNvPicPr/>
          <p:nvPr/>
        </p:nvPicPr>
        <p:blipFill>
          <a:blip r:embed="rId4"/>
          <a:stretch/>
        </p:blipFill>
        <p:spPr>
          <a:xfrm>
            <a:off x="2195640" y="2367000"/>
            <a:ext cx="5329080" cy="35463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12" name="Text Box 9"/>
          <p:cNvSpPr/>
          <p:nvPr/>
        </p:nvSpPr>
        <p:spPr>
          <a:xfrm>
            <a:off x="395280" y="2008080"/>
            <a:ext cx="180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724360" y="1216080"/>
            <a:ext cx="2808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492360" y="2008080"/>
            <a:ext cx="2303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PakistanSneReutersGoranTomasevic"/>
          <p:cNvPicPr/>
          <p:nvPr/>
        </p:nvPicPr>
        <p:blipFill>
          <a:blip r:embed="rId5"/>
          <a:stretch/>
        </p:blipFill>
        <p:spPr>
          <a:xfrm>
            <a:off x="3564000" y="1287360"/>
            <a:ext cx="4968720" cy="3546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16" name="Picture 13" descr="focus_8"/>
          <p:cNvPicPr/>
          <p:nvPr/>
        </p:nvPicPr>
        <p:blipFill>
          <a:blip r:embed="rId6"/>
          <a:stretch/>
        </p:blipFill>
        <p:spPr>
          <a:xfrm>
            <a:off x="2411280" y="1287360"/>
            <a:ext cx="5859720" cy="352584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17" name="Text Box 35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srael / Austria – Ambulance Driv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6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nmark – Hotline for Lonely Y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7"/>
          <a:stretch/>
        </p:blipFill>
        <p:spPr>
          <a:xfrm>
            <a:off x="1979640" y="784080"/>
            <a:ext cx="5616720" cy="3573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0" name="Picture 5" descr="URK"/>
          <p:cNvPicPr/>
          <p:nvPr/>
        </p:nvPicPr>
        <p:blipFill>
          <a:blip r:embed="rId8"/>
          <a:stretch/>
        </p:blipFill>
        <p:spPr>
          <a:xfrm>
            <a:off x="1692360" y="420840"/>
            <a:ext cx="5327640" cy="35305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1" name="Picture 6" descr="04iraq"/>
          <p:cNvPicPr/>
          <p:nvPr/>
        </p:nvPicPr>
        <p:blipFill>
          <a:blip r:embed="rId9"/>
          <a:stretch/>
        </p:blipFill>
        <p:spPr>
          <a:xfrm>
            <a:off x="2411280" y="1071720"/>
            <a:ext cx="5256360" cy="3582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2" name="Picture 14" descr="_JDA3022"/>
          <p:cNvPicPr/>
          <p:nvPr/>
        </p:nvPicPr>
        <p:blipFill>
          <a:blip r:embed="rId10"/>
          <a:stretch/>
        </p:blipFill>
        <p:spPr>
          <a:xfrm>
            <a:off x="2195640" y="1216080"/>
            <a:ext cx="5400720" cy="36021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3" name="Picture 15" descr="Rusland"/>
          <p:cNvPicPr/>
          <p:nvPr/>
        </p:nvPicPr>
        <p:blipFill>
          <a:blip r:embed="rId11"/>
          <a:stretch/>
        </p:blipFill>
        <p:spPr>
          <a:xfrm>
            <a:off x="2771640" y="568440"/>
            <a:ext cx="4972320" cy="361944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24" name="Text Box 16"/>
          <p:cNvSpPr/>
          <p:nvPr/>
        </p:nvSpPr>
        <p:spPr>
          <a:xfrm>
            <a:off x="4643280" y="63360"/>
            <a:ext cx="2521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284720" y="92700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4140360" y="10000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4427640" y="42372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3780000" y="56844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4140360" y="10000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276720" y="-1522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3419640" y="35100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4140360" y="10000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468360" y="-81000"/>
            <a:ext cx="8028000" cy="55872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lvl="2" marL="12574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Bam / Pakistan – Earthquakes</a:t>
            </a: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	</a:t>
            </a: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468360" y="-81000"/>
            <a:ext cx="8028000" cy="55872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lvl="2" marL="12574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Beslan – School Hostage Crisis</a:t>
            </a: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	</a:t>
            </a: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468360" y="-81000"/>
            <a:ext cx="8064360" cy="55872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lvl="2" marL="12574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Zimbabwe/Southern Africa –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Bulgaria - Traffic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alestine - CABA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lombia - I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donesia / Sri Lanka – Tsu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ria – Iraqi Refug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5" descr="00014293-INS-Lebanon-005"/>
          <p:cNvPicPr/>
          <p:nvPr/>
        </p:nvPicPr>
        <p:blipFill>
          <a:blip r:embed="rId12"/>
          <a:stretch/>
        </p:blipFill>
        <p:spPr>
          <a:xfrm>
            <a:off x="2484360" y="1143000"/>
            <a:ext cx="4969080" cy="35910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42" name="Text Box 34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ebanon – Armed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map2"/>
          <p:cNvPicPr/>
          <p:nvPr/>
        </p:nvPicPr>
        <p:blipFill>
          <a:blip r:embed="rId13"/>
          <a:stretch/>
        </p:blipFill>
        <p:spPr>
          <a:xfrm>
            <a:off x="-2438280" y="-133200"/>
            <a:ext cx="12725280" cy="72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makes events crit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scuss the following ques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ink of a crisis event in your community that has taken place in the past three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were the characteristics of the ev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factors made it a crisis situ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factors increased the psychosocial impact of the ev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457200"/>
            <a:ext cx="9067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hat increases psychosocial impact of a cri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groups of three to fo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Read the case stu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scuss what factors increased the psychosocial impact of the ev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10920" y="152280"/>
            <a:ext cx="39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057400"/>
            <a:ext cx="3505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Characteristics of th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Crisis/post-crisis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characte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amily and community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733920" y="20574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tors affecting the psychosocial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act of crisis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tors affecting the psychosocial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act of crisis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752480"/>
            <a:ext cx="4419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Characteristics of th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Natural versus man-ma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Intentionalit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Degree of preventa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Scope of impa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Suff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Degree of expected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Duration of the ev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6248520"/>
            <a:ext cx="3581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Crisis/post-crisis environment</a:t>
            </a: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Wea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Time of d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Accessibility to are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Amount of physical destr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Number of de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Number of child de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Paramedia Paramedia</cp:lastModifiedBy>
  <dcterms:modified xsi:type="dcterms:W3CDTF">2009-05-03T10:40:46Z</dcterms:modified>
  <cp:revision>49</cp:revision>
  <dc:subject/>
  <dc:title>PowerPoint Presentation</dc:title>
</cp:coreProperties>
</file>